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3.jpeg" ContentType="image/jpeg"/>
  <Override PartName="/ppt/media/image26.jpeg" ContentType="image/jpeg"/>
  <Override PartName="/ppt/media/image1.png" ContentType="image/png"/>
  <Override PartName="/ppt/media/image25.jpeg" ContentType="image/jpeg"/>
  <Override PartName="/ppt/media/image22.jpeg" ContentType="image/jpeg"/>
  <Override PartName="/ppt/media/image14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86200" cy="501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901680" y="-360"/>
            <a:ext cx="2986200" cy="501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fr-F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36720" y="748800"/>
            <a:ext cx="5016240" cy="376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49869b"/>
                </a:solidFill>
                <a:latin typeface="Arial Black"/>
              </a:rPr>
              <a:t>Click to move the slide</a:t>
            </a:r>
            <a:endParaRPr b="0" lang="en-US" sz="2400" spc="-1" strike="noStrike">
              <a:solidFill>
                <a:srgbClr val="49869b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20880" y="4761000"/>
            <a:ext cx="5046480" cy="4510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4"/>
          </p:nvPr>
        </p:nvSpPr>
        <p:spPr>
          <a:xfrm>
            <a:off x="-360" y="9518400"/>
            <a:ext cx="2986200" cy="501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fr-F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5"/>
          </p:nvPr>
        </p:nvSpPr>
        <p:spPr>
          <a:xfrm>
            <a:off x="3901680" y="9518400"/>
            <a:ext cx="2986200" cy="501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fr-F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71040FAD-7A54-4797-9308-1E84C0B4C97A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901680" y="9518400"/>
            <a:ext cx="2986200" cy="501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942A1D98-F63D-437C-9121-7A86D9FF25EF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9518400"/>
            <a:ext cx="2986200" cy="501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-360"/>
            <a:ext cx="2986200" cy="501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901680" y="-360"/>
            <a:ext cx="2986200" cy="501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47880" y="754200"/>
            <a:ext cx="4995720" cy="37465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7640" y="4757400"/>
            <a:ext cx="5051520" cy="45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CB735-DDEA-45E1-819F-D1E0320BFC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53960" y="129960"/>
            <a:ext cx="7042320" cy="7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49869b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5960" y="1044360"/>
            <a:ext cx="8004240" cy="2482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5960" y="3762720"/>
            <a:ext cx="8004240" cy="2482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3886C-BED0-479D-8FBD-ECF1495FF0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53960" y="129960"/>
            <a:ext cx="7042320" cy="7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49869b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5960" y="1044360"/>
            <a:ext cx="3906000" cy="2482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800" y="1044360"/>
            <a:ext cx="3906000" cy="2482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5960" y="3762720"/>
            <a:ext cx="3906000" cy="2482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7800" y="3762720"/>
            <a:ext cx="3906000" cy="2482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5D9D0-C98B-4396-8245-0D13695E34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53960" y="129960"/>
            <a:ext cx="7042320" cy="7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49869b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5960" y="1044360"/>
            <a:ext cx="2577240" cy="2482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22440" y="1044360"/>
            <a:ext cx="2577240" cy="2482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8920" y="1044360"/>
            <a:ext cx="2577240" cy="2482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5960" y="3762720"/>
            <a:ext cx="2577240" cy="2482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22440" y="3762720"/>
            <a:ext cx="2577240" cy="2482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8920" y="3762720"/>
            <a:ext cx="2577240" cy="2482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A0BB9-AAF5-45FB-B1A9-CF3F8FFC9B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53960" y="129960"/>
            <a:ext cx="7042320" cy="7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49869b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5960" y="1044360"/>
            <a:ext cx="800424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07437-97AA-466B-B368-0A04ACADAF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53960" y="129960"/>
            <a:ext cx="7042320" cy="7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49869b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5960" y="1044360"/>
            <a:ext cx="8004240" cy="5203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E503B-35FE-4FF0-BE95-3B54C27C9E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53960" y="129960"/>
            <a:ext cx="7042320" cy="7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49869b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5960" y="1044360"/>
            <a:ext cx="3906000" cy="5203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800" y="1044360"/>
            <a:ext cx="3906000" cy="5203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85A73-790E-497E-94FA-DDAD9B7B89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53960" y="129960"/>
            <a:ext cx="7042320" cy="7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49869b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6E99E-F7FD-4F43-9B34-B7AC5A178A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53960" y="129960"/>
            <a:ext cx="704232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B2870-1E01-4BB1-AF89-437E47F3AB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53960" y="129960"/>
            <a:ext cx="7042320" cy="7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49869b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5960" y="1044360"/>
            <a:ext cx="3906000" cy="2482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7800" y="1044360"/>
            <a:ext cx="3906000" cy="5203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5960" y="3762720"/>
            <a:ext cx="3906000" cy="2482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6463C-FE5F-4B90-B5FD-74C2872E6B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53960" y="129960"/>
            <a:ext cx="7042320" cy="7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49869b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5960" y="1044360"/>
            <a:ext cx="3906000" cy="5203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7800" y="1044360"/>
            <a:ext cx="3906000" cy="2482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7800" y="3762720"/>
            <a:ext cx="3906000" cy="2482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6801D-3766-4834-ADB4-309F890746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53960" y="129960"/>
            <a:ext cx="7042320" cy="7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49869b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5960" y="1044360"/>
            <a:ext cx="3906000" cy="2482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7800" y="1044360"/>
            <a:ext cx="3906000" cy="2482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5960" y="3762720"/>
            <a:ext cx="8004240" cy="2482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C496F-434D-454B-B7B0-0C13B76C11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53960" y="129960"/>
            <a:ext cx="7042320" cy="7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49869b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49869b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5960" y="1044360"/>
            <a:ext cx="8004240" cy="5203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cc0066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500" spc="-1" strike="noStrike">
                <a:solidFill>
                  <a:srgbClr val="cc0066"/>
                </a:solidFill>
                <a:latin typeface="Arial"/>
              </a:rPr>
              <a:t>Click to edit the outline text format</a:t>
            </a: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  <a:p>
            <a:pPr lvl="1" marL="777960" indent="-298440">
              <a:spcBef>
                <a:spcPts val="624"/>
              </a:spcBef>
              <a:buClr>
                <a:srgbClr val="49869b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500" spc="-1" strike="noStrike">
                <a:solidFill>
                  <a:srgbClr val="cc0066"/>
                </a:solidFill>
                <a:latin typeface="Arial"/>
              </a:rPr>
              <a:t>Second Outline Level</a:t>
            </a: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  <a:p>
            <a:pPr lvl="2" marL="1197000" indent="-239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500" spc="-1" strike="noStrike">
                <a:solidFill>
                  <a:srgbClr val="cc0066"/>
                </a:solidFill>
                <a:latin typeface="Arial"/>
              </a:rPr>
              <a:t>Third Outline Level</a:t>
            </a: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  <a:p>
            <a:pPr lvl="3" marL="1676520" indent="-2397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500" spc="-1" strike="noStrike">
                <a:solidFill>
                  <a:srgbClr val="cc0066"/>
                </a:solidFill>
                <a:latin typeface="Arial"/>
              </a:rPr>
              <a:t>Fourth Outline Level</a:t>
            </a: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  <a:p>
            <a:pPr lvl="4" marL="2154240" indent="-2379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500" spc="-1" strike="noStrike">
                <a:solidFill>
                  <a:srgbClr val="cc0066"/>
                </a:solidFill>
                <a:latin typeface="Arial"/>
              </a:rPr>
              <a:t>Fifth Outline Level</a:t>
            </a: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  <a:p>
            <a:pPr lvl="5" marL="2154240" indent="-2379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500" spc="-1" strike="noStrike">
                <a:solidFill>
                  <a:srgbClr val="cc0066"/>
                </a:solidFill>
                <a:latin typeface="Arial"/>
              </a:rPr>
              <a:t>Sixth Outline Level</a:t>
            </a: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  <a:p>
            <a:pPr lvl="6" marL="2154240" indent="-2379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500" spc="-1" strike="noStrike">
                <a:solidFill>
                  <a:srgbClr val="cc0066"/>
                </a:solidFill>
                <a:latin typeface="Arial"/>
              </a:rPr>
              <a:t>Seventh Outline Level</a:t>
            </a: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07680" y="6324120"/>
            <a:ext cx="3962520" cy="258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fr-FR" sz="10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1000" spc="-1" strike="noStrike">
                <a:solidFill>
                  <a:srgbClr val="3333cc"/>
                </a:solidFill>
                <a:latin typeface="Arial"/>
              </a:rPr>
              <a:t>Problématique du stockage –  11 février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9440" y="6324120"/>
            <a:ext cx="56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017720" y="0"/>
            <a:ext cx="290520" cy="615960"/>
          </a:xfrm>
          <a:prstGeom prst="rect">
            <a:avLst/>
          </a:prstGeom>
          <a:solidFill>
            <a:srgbClr val="498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086520"/>
            <a:ext cx="291960" cy="771480"/>
          </a:xfrm>
          <a:prstGeom prst="rect">
            <a:avLst/>
          </a:prstGeom>
          <a:solidFill>
            <a:srgbClr val="498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447920" y="6324480"/>
            <a:ext cx="6120" cy="533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37360" y="6553080"/>
            <a:ext cx="78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fr-FR" sz="1000" spc="-1" strike="noStrike">
                <a:solidFill>
                  <a:srgbClr val="49869b"/>
                </a:solidFill>
                <a:latin typeface="Verdana"/>
              </a:rPr>
              <a:t>Club Cast3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18960" y="2057040"/>
            <a:ext cx="7086600" cy="2057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txBody>
          <a:bodyPr lIns="95760" rIns="95760" tIns="47880" bIns="47880" anchor="t">
            <a:normAutofit/>
          </a:bodyPr>
          <a:p>
            <a:pPr marL="358920" indent="0" algn="ctr">
              <a:spcBef>
                <a:spcPts val="5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100" spc="-1" strike="noStrike">
              <a:solidFill>
                <a:srgbClr val="cc0066"/>
              </a:solidFill>
              <a:latin typeface="Arial"/>
            </a:endParaRPr>
          </a:p>
          <a:p>
            <a:pPr marL="35892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800" spc="-1" strike="noStrike">
                <a:solidFill>
                  <a:srgbClr val="3333cc"/>
                </a:solidFill>
                <a:latin typeface="Arial"/>
              </a:rPr>
              <a:t>Problématique du stockage de radio-nucléides en milieux naturels</a:t>
            </a: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cc0066"/>
              </a:solidFill>
              <a:latin typeface="Arial"/>
            </a:endParaRPr>
          </a:p>
          <a:p>
            <a:pPr marL="35892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100" spc="-1" strike="noStrike">
                <a:solidFill>
                  <a:srgbClr val="3333cc"/>
                </a:solidFill>
                <a:latin typeface="Arial"/>
              </a:rPr>
              <a:t>Laboratoire SFME/MTMS</a:t>
            </a:r>
            <a:endParaRPr b="1" lang="en-US" sz="21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389FE-FBF9-43E4-B27D-311B45A3A05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042320" cy="54468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400" spc="-1" strike="noStrike">
                <a:solidFill>
                  <a:srgbClr val="49869b"/>
                </a:solidFill>
                <a:latin typeface="Arial Black"/>
              </a:rPr>
              <a:t>Les 10000 premières années</a:t>
            </a:r>
            <a:endParaRPr b="0" lang="en-US" sz="2400" spc="-1" strike="noStrike">
              <a:solidFill>
                <a:srgbClr val="49869b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8086680" cy="518148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524"/>
              </a:spcBef>
              <a:buClr>
                <a:srgbClr val="cc0066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100" spc="-1" strike="noStrike">
                <a:solidFill>
                  <a:srgbClr val="cc0066"/>
                </a:solidFill>
                <a:latin typeface="Arial"/>
              </a:rPr>
              <a:t>Échelle 0 – 10000 ans : </a:t>
            </a:r>
            <a:endParaRPr b="1" lang="en-US" sz="2100" spc="-1" strike="noStrike">
              <a:solidFill>
                <a:srgbClr val="cc0066"/>
              </a:solidFill>
              <a:latin typeface="Arial"/>
            </a:endParaRPr>
          </a:p>
          <a:p>
            <a:pPr lvl="1" marL="777960" indent="-298440">
              <a:lnSpc>
                <a:spcPct val="90000"/>
              </a:lnSpc>
              <a:spcBef>
                <a:spcPts val="451"/>
              </a:spcBef>
              <a:buClr>
                <a:srgbClr val="49869b"/>
              </a:buClr>
              <a:buFont typeface="Symbol" charset="2"/>
              <a:buChar char="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100" spc="-1" strike="noStrike">
                <a:solidFill>
                  <a:srgbClr val="49869b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49869b"/>
                </a:solidFill>
                <a:latin typeface="Arial"/>
              </a:rPr>
              <a:t>Dissolution des colis et chimie associée – </a:t>
            </a:r>
            <a:r>
              <a:rPr b="0" lang="fr-FR" sz="1800" spc="-1" strike="noStrike">
                <a:solidFill>
                  <a:srgbClr val="3333cc"/>
                </a:solidFill>
                <a:latin typeface="Arial"/>
              </a:rPr>
              <a:t>MOP dans cast3M.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Claude Mugler, Ph. Montarnal, …)</a:t>
            </a:r>
            <a:endParaRPr b="0" lang="en-US" sz="1800" spc="-1" strike="noStrike">
              <a:solidFill>
                <a:srgbClr val="49869b"/>
              </a:solidFill>
              <a:latin typeface="Arial"/>
            </a:endParaRPr>
          </a:p>
          <a:p>
            <a:pPr lvl="1" marL="777960" indent="-298440">
              <a:lnSpc>
                <a:spcPct val="90000"/>
              </a:lnSpc>
              <a:spcBef>
                <a:spcPts val="451"/>
              </a:spcBef>
              <a:buClr>
                <a:srgbClr val="49869b"/>
              </a:buClr>
              <a:buFont typeface="Symbol" charset="2"/>
              <a:buChar char="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1800" spc="-1" strike="noStrike">
                <a:solidFill>
                  <a:srgbClr val="49869b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49869b"/>
                </a:solidFill>
                <a:latin typeface="Arial"/>
              </a:rPr>
              <a:t>Gonflement des argiles, étude de l’endommagement des ouvrages – couplage HM dans cast3m (jeux de données). (P. Maugis, C. Lepotier).</a:t>
            </a:r>
            <a:endParaRPr b="0" lang="en-US" sz="1800" spc="-1" strike="noStrike">
              <a:solidFill>
                <a:srgbClr val="49869b"/>
              </a:solidFill>
              <a:latin typeface="Arial"/>
            </a:endParaRPr>
          </a:p>
          <a:p>
            <a:pPr lvl="1" marL="777960" indent="-298440">
              <a:lnSpc>
                <a:spcPct val="90000"/>
              </a:lnSpc>
              <a:spcBef>
                <a:spcPts val="451"/>
              </a:spcBef>
              <a:buClr>
                <a:srgbClr val="49869b"/>
              </a:buClr>
              <a:buFont typeface="Symbol" charset="2"/>
              <a:buChar char="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1800" spc="-1" strike="noStrike">
                <a:solidFill>
                  <a:srgbClr val="49869b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49869b"/>
                </a:solidFill>
                <a:latin typeface="Arial"/>
              </a:rPr>
              <a:t>Dégazage d’Hydrogène (Pression &gt; 80 bars) – développement diphasique en cours (jeux de données).</a:t>
            </a:r>
            <a:endParaRPr b="0" lang="en-US" sz="1800" spc="-1" strike="noStrike">
              <a:solidFill>
                <a:srgbClr val="49869b"/>
              </a:solidFill>
              <a:latin typeface="Arial"/>
            </a:endParaRPr>
          </a:p>
          <a:p>
            <a:pPr lvl="1" marL="777960" indent="-298440">
              <a:lnSpc>
                <a:spcPct val="90000"/>
              </a:lnSpc>
              <a:spcBef>
                <a:spcPts val="451"/>
              </a:spcBef>
              <a:buClr>
                <a:srgbClr val="49869b"/>
              </a:buClr>
              <a:buFont typeface="Symbol" charset="2"/>
              <a:buChar char="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1800" spc="-1" strike="noStrike">
                <a:solidFill>
                  <a:srgbClr val="49869b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49869b"/>
                </a:solidFill>
                <a:latin typeface="Arial"/>
              </a:rPr>
              <a:t>Resaturation du milieu (Richards disponible en l’absence de gaz piégé - </a:t>
            </a: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DARCYSAT</a:t>
            </a:r>
            <a:r>
              <a:rPr b="0" lang="fr-FR" sz="1800" spc="-1" strike="noStrike">
                <a:solidFill>
                  <a:srgbClr val="49869b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9869b"/>
              </a:solidFill>
              <a:latin typeface="Arial"/>
            </a:endParaRPr>
          </a:p>
          <a:p>
            <a:pPr lvl="1" marL="777960" indent="-298440">
              <a:lnSpc>
                <a:spcPct val="90000"/>
              </a:lnSpc>
              <a:spcBef>
                <a:spcPts val="451"/>
              </a:spcBef>
              <a:buClr>
                <a:srgbClr val="49869b"/>
              </a:buClr>
              <a:buFont typeface="Symbol" charset="2"/>
              <a:buChar char="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1800" spc="-1" strike="noStrike">
                <a:solidFill>
                  <a:srgbClr val="49869b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49869b"/>
                </a:solidFill>
                <a:latin typeface="Arial"/>
              </a:rPr>
              <a:t>Aspects thermiques (THM dans cast3m pour applications spécifiques)</a:t>
            </a:r>
            <a:endParaRPr b="0" lang="en-US" sz="1800" spc="-1" strike="noStrike">
              <a:solidFill>
                <a:srgbClr val="49869b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524"/>
              </a:spcBef>
              <a:buClr>
                <a:srgbClr val="cc0066"/>
              </a:buClr>
              <a:buFont typeface="Symbol" charset="2"/>
              <a:buChar char="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1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fr-FR" sz="2100" spc="-1" strike="noStrike">
                <a:solidFill>
                  <a:srgbClr val="cc0066"/>
                </a:solidFill>
                <a:latin typeface="Arial"/>
              </a:rPr>
              <a:t>Bilan :</a:t>
            </a:r>
            <a:endParaRPr b="1" lang="en-US" sz="2100" spc="-1" strike="noStrike">
              <a:solidFill>
                <a:srgbClr val="cc0066"/>
              </a:solidFill>
              <a:latin typeface="Arial"/>
            </a:endParaRPr>
          </a:p>
          <a:p>
            <a:pPr lvl="1" marL="777960" indent="-298440">
              <a:lnSpc>
                <a:spcPct val="90000"/>
              </a:lnSpc>
              <a:spcBef>
                <a:spcPts val="451"/>
              </a:spcBef>
              <a:buClr>
                <a:srgbClr val="49869b"/>
              </a:buClr>
              <a:buFont typeface="Symbol" charset="2"/>
              <a:buChar char="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1800" spc="-1" strike="noStrike">
                <a:solidFill>
                  <a:srgbClr val="49869b"/>
                </a:solidFill>
                <a:latin typeface="Arial"/>
              </a:rPr>
              <a:t>Chimie, mécanique, hydraulique, écoulement diphasique, transport de RNs. Localisé près du stockage (quelques mètres). </a:t>
            </a: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Nécessite des développements dans Cast3m</a:t>
            </a:r>
            <a:r>
              <a:rPr b="0" lang="fr-FR" sz="1800" spc="-1" strike="noStrike">
                <a:solidFill>
                  <a:srgbClr val="49869b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9869b"/>
              </a:solidFill>
              <a:latin typeface="Arial"/>
            </a:endParaRPr>
          </a:p>
          <a:p>
            <a:pPr lvl="1" marL="777960" indent="-298440">
              <a:lnSpc>
                <a:spcPct val="90000"/>
              </a:lnSpc>
              <a:spcBef>
                <a:spcPts val="451"/>
              </a:spcBef>
              <a:buClr>
                <a:srgbClr val="49869b"/>
              </a:buClr>
              <a:buFont typeface="Symbol" charset="2"/>
              <a:buChar char="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1800" spc="-1" strike="noStrike">
                <a:solidFill>
                  <a:srgbClr val="49869b"/>
                </a:solidFill>
                <a:latin typeface="Arial"/>
              </a:rPr>
              <a:t>Thèses Sébastien Cadalen (Richards), Nicolas Bouillard (Couplage chimie-transport)</a:t>
            </a:r>
            <a:endParaRPr b="0" lang="en-US" sz="1800" spc="-1" strike="noStrike">
              <a:solidFill>
                <a:srgbClr val="49869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E6123-D6E6-4D8B-97F0-C04EAC2916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53960" y="129960"/>
            <a:ext cx="7042320" cy="71892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400" spc="-1" strike="noStrike">
                <a:solidFill>
                  <a:srgbClr val="49869b"/>
                </a:solidFill>
                <a:latin typeface="Arial Black"/>
              </a:rPr>
              <a:t>Aux grandes échelles de temps (calculs de sureté ANDRA).</a:t>
            </a:r>
            <a:endParaRPr b="0" lang="en-US" sz="2400" spc="-1" strike="noStrike">
              <a:solidFill>
                <a:srgbClr val="49869b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004240" cy="1828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499"/>
              </a:spcBef>
              <a:buClr>
                <a:srgbClr val="cc0066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000" spc="-1" strike="noStrike">
                <a:solidFill>
                  <a:srgbClr val="cc0066"/>
                </a:solidFill>
                <a:latin typeface="Arial"/>
              </a:rPr>
              <a:t>Échelle 1000 – 100000 ans : rejet hors du colis</a:t>
            </a:r>
            <a:endParaRPr b="1" lang="en-US" sz="2000" spc="-1" strike="noStrike">
              <a:solidFill>
                <a:srgbClr val="cc0066"/>
              </a:solidFill>
              <a:latin typeface="Arial"/>
            </a:endParaRPr>
          </a:p>
          <a:p>
            <a:pPr lvl="1" marL="777960" indent="-298440">
              <a:spcBef>
                <a:spcPts val="499"/>
              </a:spcBef>
              <a:buClr>
                <a:srgbClr val="49869b"/>
              </a:buClr>
              <a:buFont typeface="Symbol" charset="2"/>
              <a:buChar char="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000" spc="-1" strike="noStrike">
                <a:solidFill>
                  <a:srgbClr val="49869b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49869b"/>
                </a:solidFill>
                <a:latin typeface="Arial"/>
              </a:rPr>
              <a:t>étude au grandes échelles, milieu saturé</a:t>
            </a:r>
            <a:endParaRPr b="0" lang="en-US" sz="2000" spc="-1" strike="noStrike">
              <a:solidFill>
                <a:srgbClr val="49869b"/>
              </a:solidFill>
              <a:latin typeface="Arial"/>
            </a:endParaRPr>
          </a:p>
          <a:p>
            <a:pPr lvl="1" marL="777960" indent="-298440">
              <a:spcBef>
                <a:spcPts val="499"/>
              </a:spcBef>
              <a:buClr>
                <a:srgbClr val="49869b"/>
              </a:buClr>
              <a:buFont typeface="Symbol" charset="2"/>
              <a:buChar char="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000" spc="-1" strike="noStrike">
                <a:solidFill>
                  <a:srgbClr val="49869b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49869b"/>
                </a:solidFill>
                <a:latin typeface="Arial"/>
              </a:rPr>
              <a:t>On utilise les résultats de la dissolution des colis et à la chimie associée comme termes sources</a:t>
            </a:r>
            <a:endParaRPr b="0" lang="en-US" sz="2000" spc="-1" strike="noStrike">
              <a:solidFill>
                <a:srgbClr val="49869b"/>
              </a:solidFill>
              <a:latin typeface="Arial"/>
            </a:endParaRPr>
          </a:p>
          <a:p>
            <a:pPr lvl="1" marL="777960" indent="-298440">
              <a:spcBef>
                <a:spcPts val="499"/>
              </a:spcBef>
              <a:buClr>
                <a:srgbClr val="49869b"/>
              </a:buClr>
              <a:buFont typeface="Symbol" charset="2"/>
              <a:buChar char="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000" spc="-1" strike="noStrike">
                <a:solidFill>
                  <a:srgbClr val="49869b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49869b"/>
                </a:solidFill>
                <a:latin typeface="Arial"/>
              </a:rPr>
              <a:t>Plus d’évolution thermique ou mécanique étudiées</a:t>
            </a:r>
            <a:endParaRPr b="0" lang="en-US" sz="2000" spc="-1" strike="noStrike">
              <a:solidFill>
                <a:srgbClr val="49869b"/>
              </a:solidFill>
              <a:latin typeface="Arial"/>
            </a:endParaRPr>
          </a:p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895480"/>
            <a:ext cx="8004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58920" indent="-358920">
              <a:lnSpc>
                <a:spcPct val="100000"/>
              </a:lnSpc>
              <a:spcBef>
                <a:spcPts val="499"/>
              </a:spcBef>
              <a:buClr>
                <a:srgbClr val="cc0066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000" spc="-1" strike="noStrike">
                <a:solidFill>
                  <a:srgbClr val="cc0066"/>
                </a:solidFill>
                <a:latin typeface="Arial"/>
              </a:rPr>
              <a:t>Chimie simplifi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lnSpc>
                <a:spcPct val="100000"/>
              </a:lnSpc>
              <a:spcBef>
                <a:spcPts val="499"/>
              </a:spcBef>
              <a:buClr>
                <a:srgbClr val="49869b"/>
              </a:buClr>
              <a:buFont typeface="Symbol" charset="2"/>
              <a:buChar char="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000" spc="-1" strike="noStrike">
                <a:solidFill>
                  <a:srgbClr val="49869b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49869b"/>
                </a:solidFill>
                <a:latin typeface="Arial"/>
              </a:rPr>
              <a:t>sorption modélisée par un coefficient de ret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lnSpc>
                <a:spcPct val="100000"/>
              </a:lnSpc>
              <a:spcBef>
                <a:spcPts val="499"/>
              </a:spcBef>
              <a:buClr>
                <a:srgbClr val="49869b"/>
              </a:buClr>
              <a:buFont typeface="Symbol" charset="2"/>
              <a:buChar char="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000" spc="-1" strike="noStrike">
                <a:solidFill>
                  <a:srgbClr val="49869b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49869b"/>
                </a:solidFill>
                <a:latin typeface="Arial"/>
              </a:rPr>
              <a:t>précipitation, constante cinétique par espè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4114800"/>
            <a:ext cx="8004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58920" indent="-358920">
              <a:lnSpc>
                <a:spcPct val="100000"/>
              </a:lnSpc>
              <a:spcBef>
                <a:spcPts val="499"/>
              </a:spcBef>
              <a:buClr>
                <a:srgbClr val="cc0066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000" spc="-1" strike="noStrike">
                <a:solidFill>
                  <a:srgbClr val="cc0066"/>
                </a:solidFill>
                <a:latin typeface="Arial"/>
              </a:rPr>
              <a:t>Passage petites – grandes échelles (alvéole/stock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lnSpc>
                <a:spcPct val="100000"/>
              </a:lnSpc>
              <a:spcBef>
                <a:spcPts val="499"/>
              </a:spcBef>
              <a:buClr>
                <a:srgbClr val="49869b"/>
              </a:buClr>
              <a:buFont typeface="Symbol" charset="2"/>
              <a:buChar char="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000" spc="-1" strike="noStrike">
                <a:solidFill>
                  <a:srgbClr val="49869b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49869b"/>
                </a:solidFill>
                <a:latin typeface="Arial"/>
              </a:rPr>
              <a:t>calcul sur une alvé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lnSpc>
                <a:spcPct val="100000"/>
              </a:lnSpc>
              <a:spcBef>
                <a:spcPts val="499"/>
              </a:spcBef>
              <a:buClr>
                <a:srgbClr val="49869b"/>
              </a:buClr>
              <a:buFont typeface="Symbol" charset="2"/>
              <a:buChar char="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000" spc="-1" strike="noStrike">
                <a:solidFill>
                  <a:srgbClr val="49869b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49869b"/>
                </a:solidFill>
                <a:latin typeface="Arial"/>
              </a:rPr>
              <a:t>résultat sommés puis calcul sur un 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5257800"/>
            <a:ext cx="8004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58920" indent="-358920">
              <a:lnSpc>
                <a:spcPct val="100000"/>
              </a:lnSpc>
              <a:spcBef>
                <a:spcPts val="499"/>
              </a:spcBef>
              <a:buClr>
                <a:srgbClr val="cc0066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000" spc="-1" strike="noStrike">
                <a:solidFill>
                  <a:srgbClr val="cc0066"/>
                </a:solidFill>
                <a:latin typeface="Arial"/>
              </a:rPr>
              <a:t>Développements disponibles de longue date dans cast3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000" spc="-1" strike="noStrike">
                <a:solidFill>
                  <a:srgbClr val="49869b"/>
                </a:solidFill>
                <a:latin typeface="Arial"/>
              </a:rPr>
              <a:t>=&gt;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DARCYTRA, TRAJ, ALEA, TRANSGEN</a:t>
            </a:r>
            <a:r>
              <a:rPr b="0" lang="fr-FR" sz="2000" spc="-1" strike="noStrike">
                <a:solidFill>
                  <a:srgbClr val="49869b"/>
                </a:solidFill>
                <a:latin typeface="Arial"/>
              </a:rPr>
              <a:t> (plus récent)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94258-BE60-4F09-BAF6-A4970F53E8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042320" cy="54468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400" spc="-1" strike="noStrike">
                <a:solidFill>
                  <a:srgbClr val="49869b"/>
                </a:solidFill>
                <a:latin typeface="Arial Black"/>
              </a:rPr>
              <a:t>Hydraulique non saturée (</a:t>
            </a:r>
            <a:r>
              <a:rPr b="0" lang="fr-FR" sz="2400" spc="-1" strike="noStrike">
                <a:solidFill>
                  <a:srgbClr val="3333cc"/>
                </a:solidFill>
                <a:latin typeface="Arial Black"/>
              </a:rPr>
              <a:t>DARCYSAT</a:t>
            </a:r>
            <a:r>
              <a:rPr b="0" lang="fr-FR" sz="2400" spc="-1" strike="noStrike">
                <a:solidFill>
                  <a:srgbClr val="49869b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49869b"/>
              </a:solidFill>
              <a:latin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1219320" y="2438280"/>
            <a:ext cx="731520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880" rIns="38880" tIns="19440" bIns="19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c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e tenseur de perméabilité tensor, h la charge hydraulique dépendant de la pression capilaire, 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la contenance d’eau (porosité x saturation), C le coefficient d’emmagazin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286000" y="1371600"/>
                <a:ext cx="44197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iv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acc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981080" y="2438280"/>
                <a:ext cx="1810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1066680" y="4038480"/>
            <a:ext cx="78487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880" rIns="38880" tIns="19440" bIns="19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   is the dispersion / diffusion tensor, R the retardation factor, 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the water content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 with S the saturation) and 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the radioactive dec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981080" y="2971800"/>
                <a:ext cx="479124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acc>
                          <m:accPr>
                            <m:chr m:val="¯"/>
                          </m:acc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</m:acc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r>
                          <m:t xml:space="preserve">C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  <m:r>
                          <m:t xml:space="preserve">C</m:t>
                        </m:r>
                        <m:r>
                          <m:t xml:space="preserve"> 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 </m:t>
                            </m:r>
                            <m:r>
                              <m:t xml:space="preserve">θ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λ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600200" y="4038480"/>
                <a:ext cx="1904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914400" y="914400"/>
            <a:ext cx="7848720" cy="282600"/>
          </a:xfrm>
          <a:prstGeom prst="rect">
            <a:avLst/>
          </a:pr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880" rIns="38880" tIns="19440" bIns="19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Équation de Richard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ilieu poreux non déformable, gaz à pression atmosphériq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362320" y="5105520"/>
                <a:ext cx="441936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k</m:t>
                                </m:r>
                              </m:e>
                            </m:ba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K</m:t>
                            </m:r>
                          </m:e>
                        </m:ba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3581280" y="4648320"/>
            <a:ext cx="1828800" cy="282600"/>
          </a:xfrm>
          <a:prstGeom prst="rect">
            <a:avLst/>
          </a:pr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880" rIns="38880" tIns="19440" bIns="19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Équation de Darc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B30C9-B894-4DF6-860F-9CCA727932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6705720" cy="7621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 Black"/>
              </a:rPr>
              <a:t>Equations de transport – saturé (DARCYTRA, TRANSGEN)</a:t>
            </a:r>
            <a:endParaRPr b="0" lang="en-US" sz="2400" spc="-1" strike="noStrike">
              <a:solidFill>
                <a:srgbClr val="49869b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055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txBody>
          <a:bodyPr lIns="95760" rIns="95760" tIns="47880" bIns="47880" anchor="t">
            <a:normAutofit/>
          </a:bodyPr>
          <a:p>
            <a:pPr marL="358920" indent="0" algn="ctr">
              <a:spcBef>
                <a:spcPts val="12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scription de l’évolution spatiale et temporelle</a:t>
            </a:r>
            <a:r>
              <a:rPr b="1" lang="fr-FR" sz="20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 radionucléides :</a:t>
            </a:r>
            <a:endParaRPr b="1" lang="en-US" sz="2000" spc="-1" strike="noStrike">
              <a:solidFill>
                <a:srgbClr val="cc0066"/>
              </a:solidFill>
              <a:latin typeface="Arial"/>
            </a:endParaRPr>
          </a:p>
          <a:p>
            <a:pPr lvl="1" marL="777960" indent="-298440">
              <a:spcBef>
                <a:spcPts val="499"/>
              </a:spcBef>
              <a:buClr>
                <a:srgbClr val="cc0066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000" spc="-1" strike="noStrike">
                <a:solidFill>
                  <a:srgbClr val="cc0066"/>
                </a:solidFill>
                <a:latin typeface="Arial"/>
              </a:rPr>
              <a:t>convection, diffusion, dispersion</a:t>
            </a:r>
            <a:endParaRPr b="0" lang="en-US" sz="2000" spc="-1" strike="noStrike">
              <a:solidFill>
                <a:srgbClr val="49869b"/>
              </a:solidFill>
              <a:latin typeface="Arial"/>
            </a:endParaRPr>
          </a:p>
          <a:p>
            <a:pPr lvl="1" marL="777960" indent="-298440">
              <a:spcBef>
                <a:spcPts val="499"/>
              </a:spcBef>
              <a:buClr>
                <a:srgbClr val="cc0066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000" spc="-1" strike="noStrike">
                <a:solidFill>
                  <a:srgbClr val="cc0066"/>
                </a:solidFill>
                <a:latin typeface="Arial"/>
              </a:rPr>
              <a:t>précipitation dissolution par espèce et par élément</a:t>
            </a:r>
            <a:endParaRPr b="0" lang="en-US" sz="2000" spc="-1" strike="noStrike">
              <a:solidFill>
                <a:srgbClr val="49869b"/>
              </a:solidFill>
              <a:latin typeface="Arial"/>
            </a:endParaRPr>
          </a:p>
          <a:p>
            <a:pPr lvl="1" marL="777960" indent="-298440">
              <a:spcBef>
                <a:spcPts val="499"/>
              </a:spcBef>
              <a:buClr>
                <a:srgbClr val="cc0066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000" spc="-1" strike="noStrike">
                <a:solidFill>
                  <a:srgbClr val="cc0066"/>
                </a:solidFill>
                <a:latin typeface="Arial"/>
              </a:rPr>
              <a:t>sorption modélisés par un coefficient de retard linéaire ou non</a:t>
            </a:r>
            <a:endParaRPr b="0" lang="en-US" sz="2000" spc="-1" strike="noStrike">
              <a:solidFill>
                <a:srgbClr val="49869b"/>
              </a:solidFill>
              <a:latin typeface="Arial"/>
            </a:endParaRPr>
          </a:p>
          <a:p>
            <a:pPr lvl="1" marL="777960" indent="-298440">
              <a:spcBef>
                <a:spcPts val="499"/>
              </a:spcBef>
              <a:buClr>
                <a:srgbClr val="cc0066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000" spc="-1" strike="noStrike">
                <a:solidFill>
                  <a:srgbClr val="cc0066"/>
                </a:solidFill>
                <a:latin typeface="Arial"/>
              </a:rPr>
              <a:t>décroissance radio-active et chaînes de filiation</a:t>
            </a:r>
            <a:endParaRPr b="0" lang="en-US" sz="2000" spc="-1" strike="noStrike">
              <a:solidFill>
                <a:srgbClr val="49869b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4191120"/>
            <a:ext cx="4648320" cy="16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880" rIns="38880" tIns="19440" bIns="19440" anchor="t">
            <a:spAutoFit/>
          </a:bodyPr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4986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9869b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cc0066"/>
                </a:solidFill>
                <a:latin typeface="Symbol"/>
                <a:ea typeface="Symbol"/>
              </a:rPr>
              <a:t></a:t>
            </a:r>
            <a:r>
              <a:rPr b="0" lang="fr-FR" sz="16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cc0066"/>
                </a:solidFill>
                <a:latin typeface="Arial"/>
              </a:rPr>
              <a:t>porosité (constan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cc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cc0066"/>
                </a:solidFill>
                <a:latin typeface="Arial"/>
              </a:rPr>
              <a:t>R retard linéaire, Freundlich, Langmu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cc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cc0066"/>
                </a:solidFill>
                <a:latin typeface="Arial"/>
              </a:rPr>
              <a:t>D tenseur de diffusion-disper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cc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0066"/>
                </a:solidFill>
                <a:latin typeface="Symbol"/>
                <a:ea typeface="Symbol"/>
              </a:rPr>
              <a:t></a:t>
            </a:r>
            <a:r>
              <a:rPr b="0" lang="fr-FR" sz="1600" spc="-1" strike="noStrike">
                <a:solidFill>
                  <a:srgbClr val="cc0066"/>
                </a:solidFill>
                <a:latin typeface="Arial"/>
              </a:rPr>
              <a:t>terme source, u vitesse de Dar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cc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cc0066"/>
                </a:solidFill>
                <a:latin typeface="Symbol"/>
                <a:ea typeface="Symbol"/>
              </a:rPr>
              <a:t></a:t>
            </a:r>
            <a:r>
              <a:rPr b="0" lang="fr-FR" sz="16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cc0066"/>
                </a:solidFill>
                <a:latin typeface="Arial"/>
              </a:rPr>
              <a:t>décroissance, S échange précipi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4343400"/>
            <a:ext cx="3429000" cy="147024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880" rIns="38880" tIns="19440" bIns="1944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49869b"/>
                </a:solidFill>
                <a:latin typeface="Arial"/>
              </a:rPr>
              <a:t>+ Conditions initi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49869b"/>
                </a:solidFill>
                <a:latin typeface="Arial"/>
              </a:rPr>
              <a:t>+ Conditions aux limites            (concentrations, flux diffusif, conditions mixtes mposés)</a:t>
            </a:r>
            <a:r>
              <a:rPr b="1" lang="fr-FR" sz="17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fr-FR" sz="1700" spc="-1" strike="noStrike">
                <a:solidFill>
                  <a:srgbClr val="cc0066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5748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880" rIns="38880" tIns="-19080" bIns="-19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600200" y="2819520"/>
                <a:ext cx="624852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iv</m:t>
                    </m:r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bar>
                              <m:barPr>
                                <m:pos m:val="top"/>
                              </m:barPr>
                              <m:e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/>
                                </m:sSubSup>
                              </m:e>
                            </m:ba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261468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880" rIns="38880" tIns="-19080" bIns="-19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600200" y="3352680"/>
                <a:ext cx="58672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t xml:space="preserve">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CCE0A-C095-4238-B0F5-6A8334798C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042320" cy="719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400" spc="-1" strike="noStrike">
                <a:solidFill>
                  <a:srgbClr val="49869b"/>
                </a:solidFill>
                <a:latin typeface="Arial Black"/>
              </a:rPr>
              <a:t>La décroissance radioactive</a:t>
            </a:r>
            <a:endParaRPr b="0" lang="en-US" sz="2400" spc="-1" strike="noStrike">
              <a:solidFill>
                <a:srgbClr val="49869b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5022720" cy="403884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Un radioélément voit sa masse décroître d’un facteur 2 toutes les T années (T est appelé période de demi-vie).</a:t>
            </a:r>
            <a:endParaRPr b="1" lang="en-US" sz="1800" spc="-1" strike="noStrike">
              <a:solidFill>
                <a:srgbClr val="cc0066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 masse disparue est transmise à un élément « fils » qui apparaît en conséquence :</a:t>
            </a:r>
            <a:endParaRPr b="1" lang="en-US" sz="1800" spc="-1" strike="noStrike">
              <a:solidFill>
                <a:srgbClr val="cc0066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cc0066"/>
                </a:solidFill>
                <a:latin typeface="Arial"/>
              </a:rPr>
              <a:t>=&gt;   X(N) -&gt; Y(N-4) -&gt; Z(N-8) ….</a:t>
            </a:r>
            <a:endParaRPr b="1" lang="en-US" sz="1800" spc="-1" strike="noStrike">
              <a:solidFill>
                <a:srgbClr val="cc0066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ù N est le nombre de nucléons</a:t>
            </a:r>
            <a:endParaRPr b="1" lang="en-US" sz="1800" spc="-1" strike="noStrike">
              <a:solidFill>
                <a:srgbClr val="cc0066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 chaîne s’arrête lorsqu’un élément stable (non radioactif) est produit.</a:t>
            </a:r>
            <a:endParaRPr b="1" lang="en-US" sz="1800" spc="-1" strike="noStrike">
              <a:solidFill>
                <a:srgbClr val="cc0066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s chaînes peuvent être ramifiées.</a:t>
            </a:r>
            <a:endParaRPr b="1" lang="en-US" sz="1800" spc="-1" strike="noStrike">
              <a:solidFill>
                <a:srgbClr val="cc0066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n radio nucléide peut donner naissance à un grand nombre d’espèces.</a:t>
            </a:r>
            <a:endParaRPr b="1" lang="en-US" sz="1800" spc="-1" strike="noStrike">
              <a:solidFill>
                <a:srgbClr val="cc0066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400800" y="2666880"/>
            <a:ext cx="1676520" cy="2067120"/>
            <a:chOff x="6400800" y="2666880"/>
            <a:chExt cx="1676520" cy="2067120"/>
          </a:xfrm>
        </p:grpSpPr>
        <p:grpSp>
          <p:nvGrpSpPr>
            <p:cNvPr id="106" name=""/>
            <p:cNvGrpSpPr/>
            <p:nvPr/>
          </p:nvGrpSpPr>
          <p:grpSpPr>
            <a:xfrm>
              <a:off x="6403680" y="2668320"/>
              <a:ext cx="1670040" cy="2063520"/>
              <a:chOff x="6403680" y="2668320"/>
              <a:chExt cx="1670040" cy="2063520"/>
            </a:xfrm>
          </p:grpSpPr>
          <p:grpSp>
            <p:nvGrpSpPr>
              <p:cNvPr id="107" name=""/>
              <p:cNvGrpSpPr/>
              <p:nvPr/>
            </p:nvGrpSpPr>
            <p:grpSpPr>
              <a:xfrm>
                <a:off x="6403680" y="2668320"/>
                <a:ext cx="568080" cy="294480"/>
                <a:chOff x="6403680" y="2668320"/>
                <a:chExt cx="568080" cy="29448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403680" y="2668320"/>
                  <a:ext cx="568080" cy="29448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8880" rIns="38880" tIns="19440" bIns="19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6403680" y="2668320"/>
                  <a:ext cx="568080" cy="294480"/>
                  <a:chOff x="6403680" y="2668320"/>
                  <a:chExt cx="568080" cy="29448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6443280" y="2668320"/>
                    <a:ext cx="488520" cy="2944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8880" rIns="38880" tIns="19440" bIns="19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6403680" y="2668320"/>
                    <a:ext cx="568080" cy="29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8880" rIns="38880" tIns="19440" bIns="1944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2" name=""/>
              <p:cNvGrpSpPr/>
              <p:nvPr/>
            </p:nvGrpSpPr>
            <p:grpSpPr>
              <a:xfrm>
                <a:off x="6971760" y="2668320"/>
                <a:ext cx="1101960" cy="294480"/>
                <a:chOff x="6971760" y="2668320"/>
                <a:chExt cx="1101960" cy="29448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6971760" y="2668320"/>
                  <a:ext cx="1101960" cy="29448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8880" rIns="38880" tIns="19440" bIns="19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4" name=""/>
                <p:cNvGrpSpPr/>
                <p:nvPr/>
              </p:nvGrpSpPr>
              <p:grpSpPr>
                <a:xfrm>
                  <a:off x="6971760" y="2668320"/>
                  <a:ext cx="1101960" cy="294480"/>
                  <a:chOff x="6971760" y="2668320"/>
                  <a:chExt cx="1101960" cy="29448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7011360" y="2668320"/>
                    <a:ext cx="1022400" cy="2944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8880" rIns="38880" tIns="19440" bIns="19440" anchor="t">
                    <a:noAutofit/>
                  </a:bodyPr>
                  <a:p>
                    <a:pPr>
                      <a:tabLst>
                        <a:tab algn="l" pos="0"/>
                        <a:tab algn="r" pos="44928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ériode (ans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r" pos="44928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6971760" y="2668320"/>
                    <a:ext cx="1101960" cy="29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8880" rIns="38880" tIns="19440" bIns="1944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7" name=""/>
              <p:cNvGrpSpPr/>
              <p:nvPr/>
            </p:nvGrpSpPr>
            <p:grpSpPr>
              <a:xfrm>
                <a:off x="6403680" y="2962800"/>
                <a:ext cx="568080" cy="294840"/>
                <a:chOff x="6403680" y="2962800"/>
                <a:chExt cx="568080" cy="29484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6443280" y="2962800"/>
                  <a:ext cx="488520" cy="29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8880" rIns="3888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m</a:t>
                  </a:r>
                  <a:r>
                    <a:rPr b="1" lang="en-US" sz="10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403680" y="2962800"/>
                  <a:ext cx="568080" cy="29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8880" rIns="38880" tIns="19440" bIns="19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6971760" y="2962800"/>
                <a:ext cx="1101960" cy="294840"/>
                <a:chOff x="6971760" y="2962800"/>
                <a:chExt cx="1101960" cy="29484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7011360" y="2962800"/>
                  <a:ext cx="1022400" cy="29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8880" rIns="3888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0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6971760" y="2962800"/>
                  <a:ext cx="1101960" cy="29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8880" rIns="38880" tIns="19440" bIns="19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6403680" y="3257640"/>
                <a:ext cx="568080" cy="294480"/>
                <a:chOff x="6403680" y="3257640"/>
                <a:chExt cx="568080" cy="2944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6443280" y="3257640"/>
                  <a:ext cx="488520" cy="29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8880" rIns="3888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</a:t>
                  </a:r>
                  <a:r>
                    <a:rPr b="1" lang="de-DE" sz="10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403680" y="3257640"/>
                  <a:ext cx="568080" cy="29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8880" rIns="38880" tIns="19440" bIns="19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6971760" y="3257640"/>
                <a:ext cx="1101960" cy="294480"/>
                <a:chOff x="6971760" y="3257640"/>
                <a:chExt cx="1101960" cy="2944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7011360" y="3257640"/>
                  <a:ext cx="1022400" cy="29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8880" rIns="3888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.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971760" y="3257640"/>
                  <a:ext cx="1101960" cy="29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8880" rIns="38880" tIns="19440" bIns="19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6403680" y="3552480"/>
                <a:ext cx="568080" cy="294840"/>
                <a:chOff x="6403680" y="3552480"/>
                <a:chExt cx="568080" cy="2948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6443280" y="3552480"/>
                  <a:ext cx="488520" cy="29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8880" rIns="3888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m</a:t>
                  </a:r>
                  <a:r>
                    <a:rPr b="1" lang="de-DE" sz="10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403680" y="3552480"/>
                  <a:ext cx="568080" cy="29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8880" rIns="38880" tIns="19440" bIns="19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6971760" y="3552480"/>
                <a:ext cx="1101960" cy="294840"/>
                <a:chOff x="6971760" y="3552480"/>
                <a:chExt cx="1101960" cy="294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7011360" y="3552480"/>
                  <a:ext cx="1022400" cy="29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8880" rIns="3888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971760" y="3552480"/>
                  <a:ext cx="1101960" cy="29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8880" rIns="38880" tIns="19440" bIns="19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6403680" y="3847320"/>
                <a:ext cx="568080" cy="294480"/>
                <a:chOff x="6403680" y="3847320"/>
                <a:chExt cx="568080" cy="2944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6443280" y="3847320"/>
                  <a:ext cx="488520" cy="29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8880" rIns="3888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p</a:t>
                  </a:r>
                  <a:r>
                    <a:rPr b="1" lang="de-DE" sz="10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7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403680" y="3847320"/>
                  <a:ext cx="568080" cy="29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8880" rIns="38880" tIns="19440" bIns="19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6971760" y="3847320"/>
                <a:ext cx="1101960" cy="294480"/>
                <a:chOff x="6971760" y="3847320"/>
                <a:chExt cx="1101960" cy="2944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7011360" y="3847320"/>
                  <a:ext cx="1022400" cy="29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8880" rIns="3888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14e+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6971760" y="3847320"/>
                  <a:ext cx="1101960" cy="29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8880" rIns="38880" tIns="19440" bIns="19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6403680" y="4142160"/>
                <a:ext cx="568080" cy="294480"/>
                <a:chOff x="6403680" y="4142160"/>
                <a:chExt cx="568080" cy="2944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6443280" y="4142160"/>
                  <a:ext cx="488520" cy="29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8880" rIns="3888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</a:t>
                  </a:r>
                  <a:r>
                    <a:rPr b="1" lang="de-DE" sz="10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403680" y="4142160"/>
                  <a:ext cx="568080" cy="29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8880" rIns="38880" tIns="19440" bIns="19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6971760" y="4142160"/>
                <a:ext cx="1101960" cy="294480"/>
                <a:chOff x="6971760" y="4142160"/>
                <a:chExt cx="1101960" cy="2944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7011360" y="4142160"/>
                  <a:ext cx="1022400" cy="29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8880" rIns="38880" tIns="19440" bIns="19440" anchor="t">
                  <a:noAutofit/>
                </a:bodyPr>
                <a:p>
                  <a:pPr>
                    <a:tabLst>
                      <a:tab algn="l" pos="0"/>
                      <a:tab algn="r" pos="449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59e+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r" pos="449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971760" y="4142160"/>
                  <a:ext cx="1101960" cy="29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8880" rIns="38880" tIns="19440" bIns="19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6403680" y="4437000"/>
                <a:ext cx="568080" cy="294840"/>
                <a:chOff x="6403680" y="4437000"/>
                <a:chExt cx="568080" cy="2948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6443280" y="4437000"/>
                  <a:ext cx="488520" cy="29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8880" rIns="3888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h</a:t>
                  </a:r>
                  <a:r>
                    <a:rPr b="1" lang="en-US" sz="10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9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403680" y="4437000"/>
                  <a:ext cx="568080" cy="29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8880" rIns="38880" tIns="19440" bIns="19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6971760" y="4437000"/>
                <a:ext cx="1101960" cy="294840"/>
                <a:chOff x="6971760" y="4437000"/>
                <a:chExt cx="1101960" cy="29484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7011360" y="4437000"/>
                  <a:ext cx="1022400" cy="29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8880" rIns="3888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34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971760" y="4437000"/>
                  <a:ext cx="1101960" cy="29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8880" rIns="38880" tIns="19440" bIns="19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3" name=""/>
            <p:cNvSpPr/>
            <p:nvPr/>
          </p:nvSpPr>
          <p:spPr>
            <a:xfrm>
              <a:off x="6400800" y="2666880"/>
              <a:ext cx="1676520" cy="206712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880" rIns="38880" tIns="19440" bIns="19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5562720" y="1676520"/>
            <a:ext cx="3429000" cy="5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880" rIns="38880" tIns="19440" bIns="19440" anchor="t">
            <a:spAutoFit/>
          </a:bodyPr>
          <a:p>
            <a:pPr algn="just"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 : Une chaîne comportant 6 radionucléides 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4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Pu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4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A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4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p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3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U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3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T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82E61-E77E-452F-983B-55C44EF4F3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53960" y="129960"/>
            <a:ext cx="7042320" cy="7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400" spc="-1" strike="noStrike">
                <a:solidFill>
                  <a:srgbClr val="49869b"/>
                </a:solidFill>
                <a:latin typeface="Arial Black"/>
              </a:rPr>
              <a:t>Retard dans les argiles</a:t>
            </a:r>
            <a:endParaRPr b="0" lang="en-US" sz="2400" spc="-1" strike="noStrike">
              <a:solidFill>
                <a:srgbClr val="49869b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3276360"/>
            <a:ext cx="4724640" cy="2057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451"/>
              </a:spcBef>
              <a:buClr>
                <a:srgbClr val="cc0066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1800" spc="-1" strike="noStrike">
                <a:solidFill>
                  <a:srgbClr val="cc0066"/>
                </a:solidFill>
                <a:latin typeface="Arial"/>
              </a:rPr>
              <a:t>Les anions (I129) sont repoussés =&gt; porosité plus faible, mais moins d’interaction avec les parois (retard diminué)</a:t>
            </a:r>
            <a:endParaRPr b="1" lang="en-US" sz="1800" spc="-1" strike="noStrike">
              <a:solidFill>
                <a:srgbClr val="cc0066"/>
              </a:solidFill>
              <a:latin typeface="Arial"/>
            </a:endParaRPr>
          </a:p>
          <a:p>
            <a:pPr marL="358920" indent="-358920">
              <a:spcBef>
                <a:spcPts val="451"/>
              </a:spcBef>
              <a:buClr>
                <a:srgbClr val="cc0066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1800" spc="-1" strike="noStrike">
                <a:solidFill>
                  <a:srgbClr val="cc0066"/>
                </a:solidFill>
                <a:latin typeface="Arial"/>
              </a:rPr>
              <a:t>Les cations à l’inverse sont attirés, ce qui favorise la sorption à la paroi.</a:t>
            </a:r>
            <a:endParaRPr b="1" lang="en-US" sz="1800" spc="-1" strike="noStrike">
              <a:solidFill>
                <a:srgbClr val="cc0066"/>
              </a:solidFill>
              <a:latin typeface="Arial"/>
            </a:endParaRPr>
          </a:p>
          <a:p>
            <a:pPr marL="358920" indent="0">
              <a:spcBef>
                <a:spcPts val="45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4800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880" rIns="38880" tIns="-19080" bIns="-19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2666880" cy="1882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486400" y="3276720"/>
            <a:ext cx="3276720" cy="20365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5334120" y="914400"/>
            <a:ext cx="338112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82F70-32D9-4523-8F92-E040CB4AFB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53960" y="129960"/>
            <a:ext cx="7042320" cy="71892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400" spc="-1" strike="noStrike">
                <a:solidFill>
                  <a:srgbClr val="49869b"/>
                </a:solidFill>
                <a:latin typeface="Arial Black"/>
              </a:rPr>
              <a:t>Les modèles disponibles - sorption</a:t>
            </a:r>
            <a:endParaRPr b="0" lang="en-US" sz="2400" spc="-1" strike="noStrike">
              <a:solidFill>
                <a:srgbClr val="49869b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004240" cy="426744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cc0066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500" spc="-1" strike="noStrike">
                <a:solidFill>
                  <a:srgbClr val="cc0066"/>
                </a:solidFill>
                <a:latin typeface="Arial"/>
              </a:rPr>
              <a:t>Le Kd et coefficient de retard R:</a:t>
            </a: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  <a:p>
            <a:pPr marL="358920"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  <a:p>
            <a:pPr marL="358920"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  <a:p>
            <a:pPr marL="358920"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  <a:p>
            <a:pPr marL="358920"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  <a:p>
            <a:pPr marL="358920"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  <a:p>
            <a:pPr marL="358920"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  <a:p>
            <a:pPr marL="358920"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  <a:p>
            <a:pPr marL="358920"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  <a:p>
            <a:pPr marL="358920" indent="0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  <a:p>
            <a:pPr marL="358920" indent="0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2920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880" rIns="38880" tIns="-19080" bIns="-19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9076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880" rIns="38880" tIns="-19080" bIns="-19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880" rIns="38880" tIns="-19080" bIns="-19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2904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880" rIns="38880" tIns="-19080" bIns="-19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194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880" rIns="38880" tIns="-19080" bIns="-19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8140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880" rIns="38880" tIns="-19080" bIns="-19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12920" y="189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880" rIns="38880" tIns="-19080" bIns="-1908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06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066680" y="1752480"/>
                <a:ext cx="113364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orbé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orbé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143000" y="2057400"/>
                <a:ext cx="9525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orbé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66680" y="2514600"/>
                <a:ext cx="1038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orbé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066680" y="3352680"/>
                <a:ext cx="11811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orbé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1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143000" y="4191120"/>
                <a:ext cx="90504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orbé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75" name=""/>
          <p:cNvGrpSpPr/>
          <p:nvPr/>
        </p:nvGrpSpPr>
        <p:grpSpPr>
          <a:xfrm>
            <a:off x="914400" y="1600200"/>
            <a:ext cx="3897360" cy="3079800"/>
            <a:chOff x="914400" y="1600200"/>
            <a:chExt cx="3897360" cy="3079800"/>
          </a:xfrm>
        </p:grpSpPr>
        <p:grpSp>
          <p:nvGrpSpPr>
            <p:cNvPr id="176" name=""/>
            <p:cNvGrpSpPr/>
            <p:nvPr/>
          </p:nvGrpSpPr>
          <p:grpSpPr>
            <a:xfrm>
              <a:off x="917640" y="1603440"/>
              <a:ext cx="3890880" cy="3073320"/>
              <a:chOff x="917640" y="1603440"/>
              <a:chExt cx="3890880" cy="307332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917640" y="1603440"/>
                <a:ext cx="1484280" cy="768240"/>
                <a:chOff x="917640" y="1603440"/>
                <a:chExt cx="1484280" cy="7682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961920" y="1603440"/>
                  <a:ext cx="1395720" cy="76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8880" rIns="38880" tIns="19440" bIns="19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917640" y="1603440"/>
                  <a:ext cx="1484280" cy="76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8880" rIns="38880" tIns="19440" bIns="19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2401920" y="1603440"/>
                <a:ext cx="2406600" cy="768240"/>
                <a:chOff x="2401920" y="1603440"/>
                <a:chExt cx="2406600" cy="7682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446560" y="1603440"/>
                  <a:ext cx="2317680" cy="76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8880" rIns="38880" tIns="19440" bIns="19440" anchor="t">
                  <a:noAutofit/>
                </a:bodyPr>
                <a:p>
                  <a:pPr algn="ctr">
                    <a:tabLst>
                      <a:tab algn="l" pos="0"/>
                      <a:tab algn="l" pos="387036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efficient de retard consta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387036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Kd</a:t>
                  </a:r>
                  <a:r>
                    <a:rPr b="0" lang="en-US" sz="12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Coefficient de distribu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387036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401920" y="1603440"/>
                  <a:ext cx="2406600" cy="76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8880" rIns="38880" tIns="19440" bIns="19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917640" y="2371680"/>
                <a:ext cx="1484280" cy="768600"/>
                <a:chOff x="917640" y="2371680"/>
                <a:chExt cx="1484280" cy="76860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961920" y="2371680"/>
                  <a:ext cx="1395720" cy="76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8880" rIns="38880" tIns="19440" bIns="19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917640" y="2371680"/>
                  <a:ext cx="1484280" cy="76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8880" rIns="38880" tIns="19440" bIns="19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2401920" y="2371680"/>
                <a:ext cx="2406600" cy="768600"/>
                <a:chOff x="2401920" y="2371680"/>
                <a:chExt cx="2406600" cy="7686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2446560" y="2371680"/>
                  <a:ext cx="2317680" cy="76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8880" rIns="38880" tIns="19440" bIns="19440" anchor="t">
                  <a:noAutofit/>
                </a:bodyPr>
                <a:p>
                  <a:pPr algn="ctr">
                    <a:tabLst>
                      <a:tab algn="l" pos="0"/>
                      <a:tab algn="l" pos="387036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sotherme de Langmui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387036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</a:t>
                  </a:r>
                  <a:r>
                    <a:rPr b="0" lang="en-US" sz="12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et B</a:t>
                  </a:r>
                  <a:r>
                    <a:rPr b="0" lang="en-US" sz="12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constan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387036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401920" y="2371680"/>
                  <a:ext cx="2406600" cy="76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8880" rIns="38880" tIns="19440" bIns="19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917640" y="3140280"/>
                <a:ext cx="1484280" cy="768240"/>
                <a:chOff x="917640" y="3140280"/>
                <a:chExt cx="1484280" cy="76824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961920" y="3140280"/>
                  <a:ext cx="1395720" cy="76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8880" rIns="38880" tIns="19440" bIns="19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917640" y="3140280"/>
                  <a:ext cx="1484280" cy="76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8880" rIns="38880" tIns="19440" bIns="19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2401920" y="3140280"/>
                <a:ext cx="2406600" cy="768240"/>
                <a:chOff x="2401920" y="3140280"/>
                <a:chExt cx="2406600" cy="76824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2446560" y="3140280"/>
                  <a:ext cx="2317680" cy="76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8880" rIns="38880" tIns="19440" bIns="19440" anchor="t">
                  <a:noAutofit/>
                </a:bodyPr>
                <a:p>
                  <a:pPr algn="ctr">
                    <a:tabLst>
                      <a:tab algn="l" pos="0"/>
                      <a:tab algn="l" pos="387036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sotherme de Freundlic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387036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</a:t>
                  </a:r>
                  <a:r>
                    <a:rPr b="0" lang="de-DE" sz="12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</a:t>
                  </a:r>
                  <a:r>
                    <a:rPr b="0" lang="de-DE" sz="12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</a:t>
                  </a: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consta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387036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2401920" y="3140280"/>
                  <a:ext cx="2406600" cy="76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8880" rIns="38880" tIns="19440" bIns="19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917640" y="3908520"/>
                <a:ext cx="1484280" cy="768240"/>
                <a:chOff x="917640" y="3908520"/>
                <a:chExt cx="1484280" cy="76824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961920" y="3908520"/>
                  <a:ext cx="1395720" cy="76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8880" rIns="38880" tIns="19440" bIns="19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917640" y="3908520"/>
                  <a:ext cx="1484280" cy="76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8880" rIns="38880" tIns="19440" bIns="19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2401920" y="3908520"/>
                <a:ext cx="2406600" cy="768240"/>
                <a:chOff x="2401920" y="3908520"/>
                <a:chExt cx="2406600" cy="7682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2446560" y="3908520"/>
                  <a:ext cx="2317680" cy="76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8880" rIns="38880" tIns="19440" bIns="19440" anchor="t">
                  <a:noAutofit/>
                </a:bodyPr>
                <a:p>
                  <a:pPr algn="ctr">
                    <a:tabLst>
                      <a:tab algn="l" pos="0"/>
                      <a:tab algn="l" pos="387036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nction quelconque de la concentration en solu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387036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Non Intégré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401920" y="3908520"/>
                  <a:ext cx="2406600" cy="76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8880" rIns="38880" tIns="19440" bIns="19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1" name=""/>
            <p:cNvSpPr/>
            <p:nvPr/>
          </p:nvSpPr>
          <p:spPr>
            <a:xfrm>
              <a:off x="914400" y="1600200"/>
              <a:ext cx="3897360" cy="307980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880" rIns="38880" tIns="19440" bIns="19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87180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880" rIns="38880" tIns="-19080" bIns="-19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6553080" y="1752480"/>
                <a:ext cx="14004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371484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880" rIns="38880" tIns="-19080" bIns="-19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6400800" y="2438280"/>
                <a:ext cx="171468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f>
                      <m:num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371484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880" rIns="38880" tIns="-19080" bIns="-19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6400800" y="3200400"/>
                <a:ext cx="17146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B3CC0-B292-4F28-8150-311625F8DD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53960" y="129960"/>
            <a:ext cx="7042320" cy="71892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400" spc="-1" strike="noStrike">
                <a:solidFill>
                  <a:srgbClr val="49869b"/>
                </a:solidFill>
                <a:latin typeface="Arial Black"/>
              </a:rPr>
              <a:t>Les modèles disponibles</a:t>
            </a:r>
            <a:endParaRPr b="0" lang="en-US" sz="2400" spc="-1" strike="noStrike">
              <a:solidFill>
                <a:srgbClr val="49869b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004240" cy="50292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cc0066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500" spc="-1" strike="noStrike">
                <a:solidFill>
                  <a:srgbClr val="cc0066"/>
                </a:solidFill>
                <a:latin typeface="Arial"/>
              </a:rPr>
              <a:t>Le tenseur de diffusion-dispersion : </a:t>
            </a: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  <a:p>
            <a:pPr marL="358920" indent="0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  <a:p>
            <a:pPr marL="358920" indent="0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  <a:p>
            <a:pPr marL="358920" indent="-358920">
              <a:spcBef>
                <a:spcPts val="624"/>
              </a:spcBef>
              <a:buClr>
                <a:srgbClr val="cc0066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500" spc="-1" strike="noStrike">
                <a:solidFill>
                  <a:srgbClr val="cc0066"/>
                </a:solidFill>
                <a:latin typeface="Arial"/>
              </a:rPr>
              <a:t>Les conditions mixtes :</a:t>
            </a: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  <a:p>
            <a:pPr marL="358920"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  <a:p>
            <a:pPr marL="358920"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  <a:p>
            <a:pPr marL="358920" indent="-358920">
              <a:spcBef>
                <a:spcPts val="624"/>
              </a:spcBef>
              <a:buClr>
                <a:srgbClr val="cc0066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500" spc="-1" strike="noStrike">
                <a:solidFill>
                  <a:srgbClr val="cc0066"/>
                </a:solidFill>
                <a:latin typeface="Arial"/>
              </a:rPr>
              <a:t>La précipitation par élément :</a:t>
            </a: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2920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880" rIns="38880" tIns="-19080" bIns="-19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6705720" y="914400"/>
                <a:ext cx="18288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/>
                                </m:sSup>
                              </m:sub>
                            </m:sSub>
                          </m:e>
                        </m:bar>
                      </m:e>
                    </m:ba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</m:sSub>
                          </m:e>
                        </m:bar>
                      </m:e>
                    </m:ba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D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329076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880" rIns="38880" tIns="-19080" bIns="-19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2286000" y="1447920"/>
                <a:ext cx="48006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vec</m:t>
                    </m: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D</m:t>
                            </m:r>
                          </m:e>
                        </m:bar>
                      </m:e>
                    </m:ba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‖"/>
                        <m:endChr m:val="‖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</m:e>
                        </m:d>
                      </m:den>
                    </m:f>
                    <m:m>
                      <m:mr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358128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880" rIns="38880" tIns="-19080" bIns="-19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209680" y="2895480"/>
                <a:ext cx="3962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bar>
                      <m:barPr>
                        <m:pos m:val="top"/>
                      </m:barPr>
                      <m:e>
                        <m:bar>
                          <m:barPr>
                            <m:pos m:val="top"/>
                          </m:barPr>
                          <m:e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</m:sSubSup>
                          </m:e>
                        </m:bar>
                      </m:e>
                    </m:ba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grad</m:t>
                        </m:r>
                      </m:e>
                    </m:acc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392904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880" rIns="38880" tIns="-19080" bIns="-19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286000" y="4267080"/>
                <a:ext cx="25909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at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36194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880" rIns="38880" tIns="-19080" bIns="-19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5562720" y="4114800"/>
                <a:ext cx="30477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δ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m>
                            <m:mr>
                              <m:e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t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&lt;</m:t>
                                </m:r>
                                <m:sSubSup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at</m:t>
                                    </m:r>
                                  </m:sup>
                                </m:sSubSup>
                              </m:e>
                            </m:mr>
                          </m:m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δ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m>
                            <m:mr>
                              <m:e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on</m:t>
                                </m:r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328140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880" rIns="38880" tIns="-19080" bIns="-19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286000" y="4952880"/>
                <a:ext cx="419112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at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lem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at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 </m:t>
                            </m:r>
                            <m:r>
                              <m:t xml:space="preserve">∈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le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φ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D201D-DF49-4B22-95DA-6BFA4C25F9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53960" y="129960"/>
            <a:ext cx="7042320" cy="7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400" spc="-1" strike="noStrike">
                <a:solidFill>
                  <a:srgbClr val="49869b"/>
                </a:solidFill>
                <a:latin typeface="Arial Black"/>
              </a:rPr>
              <a:t>Et le reste ?</a:t>
            </a:r>
            <a:endParaRPr b="0" lang="en-US" sz="2400" spc="-1" strike="noStrike">
              <a:solidFill>
                <a:srgbClr val="49869b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5960" y="1447560"/>
            <a:ext cx="8004240" cy="3886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Les couplages HM, THM, Chimie-transport, etc…, ont fait l’objet d’études (ou de thèses) dans cast3m.</a:t>
            </a: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Il existe des jeux de données qui tournent avec succès sur des applications particulières. Ces jeux de données font appels à des opérateurs de discrétisation élémentaires de cast3m (MHYB, MATP …) ou plus élaborés (DARCYTRA …).</a:t>
            </a: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Du travail reste à faire pour en faire des opérateurs cast3m à vocation plus universelle.</a:t>
            </a: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E7CAE-9FE1-42DF-AC69-0E87CA4144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042320" cy="544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400" spc="-1" strike="noStrike">
                <a:solidFill>
                  <a:srgbClr val="49869b"/>
                </a:solidFill>
                <a:latin typeface="Arial Black"/>
              </a:rPr>
              <a:t>Les aspects numériques</a:t>
            </a:r>
            <a:endParaRPr b="0" lang="en-US" sz="2400" spc="-1" strike="noStrike">
              <a:solidFill>
                <a:srgbClr val="49869b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8382240" cy="2895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5760" rIns="95760" tIns="47880" bIns="47880" anchor="t">
            <a:normAutofit/>
          </a:bodyPr>
          <a:p>
            <a:pPr lvl="1" marL="777960" indent="-298440">
              <a:buClr>
                <a:srgbClr val="cc0066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400" spc="-1" strike="noStrike">
                <a:solidFill>
                  <a:srgbClr val="cc0066"/>
                </a:solidFill>
                <a:latin typeface="Arial"/>
              </a:rPr>
              <a:t>Tenseurs de diffusion pleins (dispersivité)</a:t>
            </a:r>
            <a:endParaRPr b="0" lang="en-US" sz="2400" spc="-1" strike="noStrike">
              <a:solidFill>
                <a:srgbClr val="49869b"/>
              </a:solidFill>
              <a:latin typeface="Arial"/>
            </a:endParaRPr>
          </a:p>
          <a:p>
            <a:pPr lvl="1" marL="777960" indent="-298440">
              <a:buClr>
                <a:srgbClr val="cc0066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400" spc="-1" strike="noStrike">
                <a:solidFill>
                  <a:srgbClr val="cc0066"/>
                </a:solidFill>
                <a:latin typeface="Arial"/>
              </a:rPr>
              <a:t>Propriétés discontinues et fortement hétérogènes des matériaux</a:t>
            </a:r>
            <a:endParaRPr b="0" lang="en-US" sz="2400" spc="-1" strike="noStrike">
              <a:solidFill>
                <a:srgbClr val="49869b"/>
              </a:solidFill>
              <a:latin typeface="Arial"/>
            </a:endParaRPr>
          </a:p>
          <a:p>
            <a:pPr lvl="1" marL="777960" indent="-298440">
              <a:buClr>
                <a:srgbClr val="cc0066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400" spc="-1" strike="noStrike">
                <a:solidFill>
                  <a:srgbClr val="cc0066"/>
                </a:solidFill>
                <a:latin typeface="Arial"/>
              </a:rPr>
              <a:t>Fort rapport d’aspect de la géométrie discrétisée </a:t>
            </a:r>
            <a:endParaRPr b="0" lang="en-US" sz="2400" spc="-1" strike="noStrike">
              <a:solidFill>
                <a:srgbClr val="49869b"/>
              </a:solidFill>
              <a:latin typeface="Arial"/>
            </a:endParaRPr>
          </a:p>
          <a:p>
            <a:pPr lvl="1" marL="777960" indent="-298440">
              <a:buClr>
                <a:srgbClr val="cc0066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400" spc="-1" strike="noStrike">
                <a:solidFill>
                  <a:srgbClr val="cc0066"/>
                </a:solidFill>
                <a:latin typeface="Arial"/>
              </a:rPr>
              <a:t>Les concentrations doivent rester positives</a:t>
            </a:r>
            <a:endParaRPr b="0" lang="en-US" sz="2400" spc="-1" strike="noStrike">
              <a:solidFill>
                <a:srgbClr val="49869b"/>
              </a:solidFill>
              <a:latin typeface="Arial"/>
            </a:endParaRPr>
          </a:p>
          <a:p>
            <a:pPr lvl="1" marL="777960" indent="-298440">
              <a:buClr>
                <a:srgbClr val="cc0066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400" spc="-1" strike="noStrike">
                <a:solidFill>
                  <a:srgbClr val="cc0066"/>
                </a:solidFill>
                <a:latin typeface="Arial"/>
              </a:rPr>
              <a:t>Bonne précision sur les concentrations et les flux</a:t>
            </a:r>
            <a:endParaRPr b="0" lang="en-US" sz="2400" spc="-1" strike="noStrike">
              <a:solidFill>
                <a:srgbClr val="49869b"/>
              </a:solidFill>
              <a:latin typeface="Arial"/>
            </a:endParaRPr>
          </a:p>
          <a:p>
            <a:pPr lvl="1" marL="777960" indent="-298440">
              <a:buClr>
                <a:srgbClr val="cc0066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400" spc="-1" strike="noStrike">
                <a:solidFill>
                  <a:srgbClr val="cc0066"/>
                </a:solidFill>
                <a:latin typeface="Arial"/>
              </a:rPr>
              <a:t>Rapidité et robustesse du code</a:t>
            </a:r>
            <a:endParaRPr b="0" lang="en-US" sz="2400" spc="-1" strike="noStrike">
              <a:solidFill>
                <a:srgbClr val="49869b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1371600"/>
            <a:ext cx="6629400" cy="6858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 Black"/>
              </a:rPr>
              <a:t>Besoins impérat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CBABD-287D-4C50-A2BE-99B118312D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042320" cy="718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 Black"/>
              </a:rPr>
              <a:t>PLAN DE l’EXPOSE</a:t>
            </a:r>
            <a:endParaRPr b="0" lang="en-US" sz="2400" spc="-1" strike="noStrike">
              <a:solidFill>
                <a:srgbClr val="49869b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924680" cy="33526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Times New Roman"/>
              </a:rPr>
              <a:t>Le contexte – Les déchets nucléaires</a:t>
            </a: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Times New Roman"/>
              </a:rPr>
              <a:t>Présentation de sites de stockages envisagés</a:t>
            </a: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Times New Roman"/>
              </a:rPr>
              <a:t>Description générale des phénomènes physiques</a:t>
            </a: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Times New Roman"/>
              </a:rPr>
              <a:t>Exemples de difficultés numériques</a:t>
            </a: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Times New Roman"/>
              </a:rPr>
              <a:t>Quelques applications</a:t>
            </a: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8009A-30D2-49F3-9498-43DC5CEF17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400" spc="-1" strike="noStrike">
                <a:solidFill>
                  <a:srgbClr val="49869b"/>
                </a:solidFill>
                <a:latin typeface="Arial Black"/>
              </a:rPr>
              <a:t>SIMULATIONS NUMERIQUES</a:t>
            </a:r>
            <a:br>
              <a:rPr sz="2400"/>
            </a:br>
            <a:r>
              <a:rPr b="0" lang="fr-FR" sz="2400" spc="-1" strike="noStrike">
                <a:solidFill>
                  <a:srgbClr val="49869b"/>
                </a:solidFill>
                <a:latin typeface="Arial Black"/>
              </a:rPr>
              <a:t>ILLUSTRATION DE PROBLEMES</a:t>
            </a:r>
            <a:br>
              <a:rPr sz="2400"/>
            </a:br>
            <a:r>
              <a:rPr b="0" lang="fr-FR" sz="2400" spc="-1" strike="noStrike">
                <a:solidFill>
                  <a:srgbClr val="49869b"/>
                </a:solidFill>
                <a:latin typeface="Arial Black"/>
              </a:rPr>
              <a:t>RENCONTRES</a:t>
            </a:r>
            <a:endParaRPr b="0" lang="en-US" sz="2400" spc="-1" strike="noStrike">
              <a:solidFill>
                <a:srgbClr val="49869b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500" spc="-1" strike="noStrike">
                <a:solidFill>
                  <a:srgbClr val="cc0066"/>
                </a:solidFill>
                <a:latin typeface="Arial"/>
              </a:rPr>
              <a:t>Benchmark COUPLEX 1</a:t>
            </a: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500" spc="-1" strike="noStrike">
                <a:solidFill>
                  <a:srgbClr val="cc0066"/>
                </a:solidFill>
                <a:latin typeface="Arial"/>
              </a:rPr>
              <a:t>Calcul sur le site de l’Est</a:t>
            </a: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2E971-F35E-4259-8633-B7393B077A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53960" y="129960"/>
            <a:ext cx="7042320" cy="7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400" spc="-1" strike="noStrike">
                <a:solidFill>
                  <a:srgbClr val="49869b"/>
                </a:solidFill>
                <a:latin typeface="Arial Black"/>
              </a:rPr>
              <a:t>Cas couplex 1 - EFMH</a:t>
            </a:r>
            <a:endParaRPr b="0" lang="en-US" sz="2400" spc="-1" strike="noStrike">
              <a:solidFill>
                <a:srgbClr val="49869b"/>
              </a:solidFill>
              <a:latin typeface="Arial Black"/>
            </a:endParaRPr>
          </a:p>
        </p:txBody>
      </p:sp>
      <p:sp>
        <p:nvSpPr>
          <p:cNvPr id="230" name=""/>
          <p:cNvSpPr/>
          <p:nvPr/>
        </p:nvSpPr>
        <p:spPr>
          <a:xfrm>
            <a:off x="7391520" y="1219320"/>
            <a:ext cx="1447560" cy="46479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0066"/>
                </a:solidFill>
                <a:latin typeface="Arial"/>
              </a:rPr>
              <a:t>Couplex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Équation de transport diffusion-convection iode I_1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Calcul sur 10 M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Domaine de 25 km x 500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EFM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6486480" cy="457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371AD-006F-446D-8020-9CDAB62BB4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629400" cy="4572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 Black"/>
              </a:rPr>
              <a:t>Couplex 1 - VF</a:t>
            </a:r>
            <a:endParaRPr b="0" lang="en-US" sz="2400" spc="-1" strike="noStrike">
              <a:solidFill>
                <a:srgbClr val="49869b"/>
              </a:solidFill>
              <a:latin typeface="Arial Black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324560" cy="516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233C1-A813-4938-B4C0-9038B9BC5D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53960" y="129960"/>
            <a:ext cx="7042320" cy="7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400" spc="-1" strike="noStrike">
                <a:solidFill>
                  <a:srgbClr val="49869b"/>
                </a:solidFill>
                <a:latin typeface="Arial Black"/>
              </a:rPr>
              <a:t>Bilan Couplex 1</a:t>
            </a:r>
            <a:endParaRPr b="0" lang="en-US" sz="2400" spc="-1" strike="noStrike">
              <a:solidFill>
                <a:srgbClr val="49869b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004240" cy="4670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cc0066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500" spc="-1" strike="noStrike">
                <a:solidFill>
                  <a:srgbClr val="cc0066"/>
                </a:solidFill>
                <a:latin typeface="Arial"/>
              </a:rPr>
              <a:t>Importance d’avoir des schémas monotones (en gros qui ne provoquent pas d’oscillation artificielle de la solution). C’est essentiel en cas de couplage chimie-transport.</a:t>
            </a: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  <a:p>
            <a:pPr marL="358920" indent="-358920">
              <a:spcBef>
                <a:spcPts val="624"/>
              </a:spcBef>
              <a:buClr>
                <a:srgbClr val="cc0066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500" spc="-1" strike="noStrike">
                <a:solidFill>
                  <a:srgbClr val="cc0066"/>
                </a:solidFill>
                <a:latin typeface="Arial"/>
              </a:rPr>
              <a:t>Précision des flux : EFMH ou VF MPFA</a:t>
            </a: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  <a:p>
            <a:pPr marL="358920" indent="-358920">
              <a:spcBef>
                <a:spcPts val="624"/>
              </a:spcBef>
              <a:buClr>
                <a:srgbClr val="cc0066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500" spc="-1" strike="noStrike">
                <a:solidFill>
                  <a:srgbClr val="cc0066"/>
                </a:solidFill>
                <a:latin typeface="Arial"/>
              </a:rPr>
              <a:t>Maillages fins =&gt; solveurs performants nécessaires.</a:t>
            </a: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  <a:p>
            <a:pPr marL="358920" indent="-358920">
              <a:spcBef>
                <a:spcPts val="624"/>
              </a:spcBef>
              <a:buClr>
                <a:srgbClr val="cc0066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500" spc="-1" strike="noStrike">
                <a:solidFill>
                  <a:srgbClr val="cc0066"/>
                </a:solidFill>
                <a:latin typeface="Arial"/>
              </a:rPr>
              <a:t>Supporter des distorsions de maillage</a:t>
            </a: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  <a:p>
            <a:pPr marL="358920" indent="-358920">
              <a:spcBef>
                <a:spcPts val="624"/>
              </a:spcBef>
              <a:buClr>
                <a:srgbClr val="cc0066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500" spc="-1" strike="noStrike">
                <a:solidFill>
                  <a:srgbClr val="cc0066"/>
                </a:solidFill>
                <a:latin typeface="Arial"/>
              </a:rPr>
              <a:t>Accepter des tenseurs de diffusivité hétérogènes et anisotropes (voire pleins).</a:t>
            </a: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  <a:p>
            <a:pPr marL="358920"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9F848-384C-470B-B6A7-F90F141D17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53960" y="129960"/>
            <a:ext cx="7042320" cy="7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400" spc="-1" strike="noStrike">
                <a:solidFill>
                  <a:srgbClr val="49869b"/>
                </a:solidFill>
                <a:latin typeface="Arial Black"/>
              </a:rPr>
              <a:t>NOS CHOIX</a:t>
            </a:r>
            <a:endParaRPr b="0" lang="en-US" sz="2400" spc="-1" strike="noStrike">
              <a:solidFill>
                <a:srgbClr val="49869b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5960" y="942480"/>
            <a:ext cx="8004240" cy="446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cc0066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500" spc="-1" strike="noStrike">
                <a:solidFill>
                  <a:srgbClr val="cc0066"/>
                </a:solidFill>
                <a:latin typeface="Arial"/>
              </a:rPr>
              <a:t>3 discrétisations : EFMH,  VF MPFA, VF « New »</a:t>
            </a: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  <a:p>
            <a:pPr lvl="2" marL="1197000" indent="-239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ffusion-convection implicite EFMH : cas cour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ffusion VF MPFA–convection VF upwind implici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24"/>
              </a:spcBef>
              <a:buClr>
                <a:srgbClr val="cc0066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500" spc="-1" strike="noStrike">
                <a:solidFill>
                  <a:srgbClr val="cc0066"/>
                </a:solidFill>
                <a:latin typeface="Arial"/>
              </a:rPr>
              <a:t>Schéma en temps ordre 1 en général</a:t>
            </a: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  <a:p>
            <a:pPr marL="358920" indent="-358920">
              <a:spcBef>
                <a:spcPts val="624"/>
              </a:spcBef>
              <a:buClr>
                <a:srgbClr val="cc0066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500" spc="-1" strike="noStrike">
                <a:solidFill>
                  <a:srgbClr val="cc0066"/>
                </a:solidFill>
                <a:latin typeface="Arial"/>
              </a:rPr>
              <a:t>Solveurs :</a:t>
            </a: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  <a:p>
            <a:pPr lvl="2" marL="1197000" indent="-239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rect multithread pour petits cas (&lt; 100000 dd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tératif (BCGSTAB) avec préconditionneurs ILU0, ILUT et pivoting (pour plus de 500000 mail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24"/>
              </a:spcBef>
              <a:buClr>
                <a:srgbClr val="cc0066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500" spc="-1" strike="noStrike">
                <a:solidFill>
                  <a:srgbClr val="cc0066"/>
                </a:solidFill>
                <a:latin typeface="Arial"/>
              </a:rPr>
              <a:t>Enjeux : </a:t>
            </a: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  <a:p>
            <a:pPr lvl="2" marL="1197000" indent="-239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obustesse sur cas AND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00 mille à 1 million de mailles avec temps réalis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9835B-8F16-46E3-A8D7-C2F286BBBBC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71240" y="190476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400" spc="-1" strike="noStrike">
                <a:solidFill>
                  <a:srgbClr val="49869b"/>
                </a:solidFill>
                <a:latin typeface="Arial Black"/>
              </a:rPr>
              <a:t>Application – Calcul de sûreté ANDRA</a:t>
            </a:r>
            <a:br>
              <a:rPr sz="2400"/>
            </a:br>
            <a:r>
              <a:rPr b="0" lang="fr-FR" sz="2400" spc="-1" strike="noStrike">
                <a:solidFill>
                  <a:srgbClr val="49869b"/>
                </a:solidFill>
                <a:latin typeface="Arial Black"/>
              </a:rPr>
              <a:t>Cas du site de Bure</a:t>
            </a:r>
            <a:br>
              <a:rPr sz="2400"/>
            </a:br>
            <a:r>
              <a:rPr b="0" lang="fr-FR" sz="2400" spc="-1" strike="noStrike">
                <a:solidFill>
                  <a:srgbClr val="49869b"/>
                </a:solidFill>
                <a:latin typeface="Arial Black"/>
              </a:rPr>
              <a:t>Scénario d’évolution normale</a:t>
            </a:r>
            <a:endParaRPr b="0" lang="en-US" sz="2400" spc="-1" strike="noStrike">
              <a:solidFill>
                <a:srgbClr val="49869b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28D3E-A45D-47CD-9104-CE8888472D4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23880" y="129960"/>
            <a:ext cx="6872400" cy="7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400" spc="-1" strike="noStrike">
                <a:solidFill>
                  <a:srgbClr val="49869b"/>
                </a:solidFill>
                <a:latin typeface="Arial Black"/>
              </a:rPr>
              <a:t>Calcul à grande échelle – évolution normale</a:t>
            </a:r>
            <a:endParaRPr b="0" lang="en-US" sz="2400" spc="-1" strike="noStrike">
              <a:solidFill>
                <a:srgbClr val="49869b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4551480" cy="1698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Objectif : </a:t>
            </a:r>
            <a:endParaRPr b="1" lang="en-US" sz="2400" spc="-1" strike="noStrike">
              <a:solidFill>
                <a:srgbClr val="cc0066"/>
              </a:solidFill>
              <a:latin typeface="Arial"/>
            </a:endParaRPr>
          </a:p>
          <a:p>
            <a:pPr marL="358920" indent="-358920">
              <a:spcBef>
                <a:spcPts val="425"/>
              </a:spcBef>
              <a:buClr>
                <a:srgbClr val="3333cc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1700" spc="-1" strike="noStrike">
                <a:solidFill>
                  <a:srgbClr val="3333cc"/>
                </a:solidFill>
                <a:latin typeface="Arial"/>
              </a:rPr>
              <a:t>site 3D  réaliste.</a:t>
            </a:r>
            <a:endParaRPr b="1" lang="en-US" sz="1700" spc="-1" strike="noStrike">
              <a:solidFill>
                <a:srgbClr val="cc0066"/>
              </a:solidFill>
              <a:latin typeface="Arial"/>
            </a:endParaRPr>
          </a:p>
          <a:p>
            <a:pPr marL="358920" indent="-358920">
              <a:spcBef>
                <a:spcPts val="425"/>
              </a:spcBef>
              <a:buClr>
                <a:srgbClr val="3333cc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17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fr-FR" sz="1700" spc="-1" strike="noStrike">
                <a:solidFill>
                  <a:srgbClr val="3333cc"/>
                </a:solidFill>
                <a:latin typeface="Arial"/>
              </a:rPr>
              <a:t>480000 mailles Les hexaèdres sont très déformés loin de la source et réguliers près du stockage.</a:t>
            </a:r>
            <a:endParaRPr b="1" lang="en-US" sz="1700" spc="-1" strike="noStrike">
              <a:solidFill>
                <a:srgbClr val="cc0066"/>
              </a:solidFill>
              <a:latin typeface="Arial"/>
            </a:endParaRPr>
          </a:p>
          <a:p>
            <a:pPr marL="358920" indent="0">
              <a:spcBef>
                <a:spcPts val="4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700" spc="-1" strike="noStrike">
              <a:solidFill>
                <a:srgbClr val="cc0066"/>
              </a:solidFill>
              <a:latin typeface="Arial"/>
            </a:endParaRPr>
          </a:p>
        </p:txBody>
      </p:sp>
      <p:pic>
        <p:nvPicPr>
          <p:cNvPr id="241" name="schema1" descr=""/>
          <p:cNvPicPr/>
          <p:nvPr/>
        </p:nvPicPr>
        <p:blipFill>
          <a:blip r:embed="rId1"/>
          <a:stretch/>
        </p:blipFill>
        <p:spPr>
          <a:xfrm>
            <a:off x="3962520" y="3276720"/>
            <a:ext cx="3504960" cy="2646360"/>
          </a:xfrm>
          <a:prstGeom prst="rect">
            <a:avLst/>
          </a:prstGeom>
          <a:ln w="0">
            <a:noFill/>
          </a:ln>
        </p:spPr>
      </p:pic>
      <p:pic>
        <p:nvPicPr>
          <p:cNvPr id="242" name="maillage-2" descr=""/>
          <p:cNvPicPr/>
          <p:nvPr/>
        </p:nvPicPr>
        <p:blipFill>
          <a:blip r:embed="rId2"/>
          <a:stretch/>
        </p:blipFill>
        <p:spPr>
          <a:xfrm>
            <a:off x="228600" y="3362400"/>
            <a:ext cx="3276720" cy="2841480"/>
          </a:xfrm>
          <a:prstGeom prst="rect">
            <a:avLst/>
          </a:prstGeom>
          <a:ln w="0">
            <a:noFill/>
          </a:ln>
        </p:spPr>
      </p:pic>
      <p:pic>
        <p:nvPicPr>
          <p:cNvPr id="243" name="mail483000" descr=""/>
          <p:cNvPicPr/>
          <p:nvPr/>
        </p:nvPicPr>
        <p:blipFill>
          <a:blip r:embed="rId3"/>
          <a:stretch/>
        </p:blipFill>
        <p:spPr>
          <a:xfrm>
            <a:off x="5486400" y="914400"/>
            <a:ext cx="3200400" cy="257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D0E1A-44A7-4893-8C07-D937C312A04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43000" y="1066680"/>
            <a:ext cx="746748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77c40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"/>
              </a:rPr>
              <a:t>Calculs avec  VF et EFMH. Résultats comparabl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77c40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"/>
              </a:rPr>
              <a:t>Pour les VF : solveur BICGSTAB, préconditionneur ILU0. Pour les EFMH, ( BICGSTAB ou gradient conjugué). Env 10-15 minu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77c40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3333cc"/>
                </a:solidFill>
                <a:latin typeface="Arial"/>
              </a:rPr>
              <a:t>La matrice globale obtenue est mieux conditionnée en VF qu’en EFMH =&gt; environs 100 itérés au lieu de 6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228600"/>
            <a:ext cx="7513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00"/>
                </a:solidFill>
                <a:latin typeface="Arial"/>
              </a:rPr>
              <a:t>Calcul de sûreté</a:t>
            </a: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9900"/>
                </a:solidFill>
                <a:latin typeface="Arial"/>
              </a:rPr>
              <a:t>: l’hydraul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hydro_oxfo_30m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3505320" cy="2901960"/>
          </a:xfrm>
          <a:prstGeom prst="rect">
            <a:avLst/>
          </a:prstGeom>
          <a:ln w="0">
            <a:noFill/>
          </a:ln>
        </p:spPr>
      </p:pic>
      <p:pic>
        <p:nvPicPr>
          <p:cNvPr id="247" name="hydro_plan_stockage" descr=""/>
          <p:cNvPicPr/>
          <p:nvPr/>
        </p:nvPicPr>
        <p:blipFill>
          <a:blip r:embed="rId2"/>
          <a:stretch/>
        </p:blipFill>
        <p:spPr>
          <a:xfrm>
            <a:off x="4876920" y="2743200"/>
            <a:ext cx="3429000" cy="28306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80040" y="5715000"/>
            <a:ext cx="27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upe de charge à –30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17800" y="5715000"/>
            <a:ext cx="36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upe de charge dans le sto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2743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00"/>
                </a:solidFill>
                <a:latin typeface="Arial"/>
              </a:rPr>
              <a:t>exut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3124080"/>
            <a:ext cx="609840" cy="175284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10080" y="26668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00"/>
                </a:solidFill>
                <a:latin typeface="Arial"/>
              </a:rPr>
              <a:t>stock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895480"/>
            <a:ext cx="609480" cy="175284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3E980-B1A6-4591-865B-9F7EFB22719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52280" y="152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9900"/>
                </a:solidFill>
                <a:latin typeface="Arial Unicode MS"/>
              </a:rPr>
              <a:t>Champ de concentration I129 dans l’oxford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43000" y="114300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upe dans le plan horizontal z = - 13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3080" y="1981080"/>
            <a:ext cx="236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pagation aux différentes date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= 11 000 a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= 50 000 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 =100 000 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 =300 000 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= 500 000 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 =1 000 000 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transport_130m_1000000ans" descr=""/>
          <p:cNvPicPr/>
          <p:nvPr/>
        </p:nvPicPr>
        <p:blipFill>
          <a:blip r:embed="rId1"/>
          <a:stretch/>
        </p:blipFill>
        <p:spPr>
          <a:xfrm>
            <a:off x="4114800" y="4648320"/>
            <a:ext cx="1981080" cy="1709640"/>
          </a:xfrm>
          <a:prstGeom prst="rect">
            <a:avLst/>
          </a:prstGeom>
          <a:ln w="0">
            <a:noFill/>
          </a:ln>
        </p:spPr>
      </p:pic>
      <p:pic>
        <p:nvPicPr>
          <p:cNvPr id="258" name="transport_130m_500000ans" descr=""/>
          <p:cNvPicPr/>
          <p:nvPr/>
        </p:nvPicPr>
        <p:blipFill>
          <a:blip r:embed="rId2"/>
          <a:stretch/>
        </p:blipFill>
        <p:spPr>
          <a:xfrm>
            <a:off x="1219320" y="4529160"/>
            <a:ext cx="1981080" cy="1697040"/>
          </a:xfrm>
          <a:prstGeom prst="rect">
            <a:avLst/>
          </a:prstGeom>
          <a:ln w="0">
            <a:noFill/>
          </a:ln>
        </p:spPr>
      </p:pic>
      <p:pic>
        <p:nvPicPr>
          <p:cNvPr id="259" name="transport_130m_300000ans" descr=""/>
          <p:cNvPicPr/>
          <p:nvPr/>
        </p:nvPicPr>
        <p:blipFill>
          <a:blip r:embed="rId3"/>
          <a:stretch/>
        </p:blipFill>
        <p:spPr>
          <a:xfrm>
            <a:off x="4114800" y="3124080"/>
            <a:ext cx="2057400" cy="1743120"/>
          </a:xfrm>
          <a:prstGeom prst="rect">
            <a:avLst/>
          </a:prstGeom>
          <a:ln w="0">
            <a:noFill/>
          </a:ln>
        </p:spPr>
      </p:pic>
      <p:pic>
        <p:nvPicPr>
          <p:cNvPr id="260" name="transport_197m_100000ans" descr=""/>
          <p:cNvPicPr/>
          <p:nvPr/>
        </p:nvPicPr>
        <p:blipFill>
          <a:blip r:embed="rId4"/>
          <a:stretch/>
        </p:blipFill>
        <p:spPr>
          <a:xfrm>
            <a:off x="4114800" y="1523880"/>
            <a:ext cx="2014560" cy="1752840"/>
          </a:xfrm>
          <a:prstGeom prst="rect">
            <a:avLst/>
          </a:prstGeom>
          <a:ln w="0">
            <a:noFill/>
          </a:ln>
        </p:spPr>
      </p:pic>
      <p:pic>
        <p:nvPicPr>
          <p:cNvPr id="261" name="transport_130m_50000ans" descr=""/>
          <p:cNvPicPr/>
          <p:nvPr/>
        </p:nvPicPr>
        <p:blipFill>
          <a:blip r:embed="rId5"/>
          <a:stretch/>
        </p:blipFill>
        <p:spPr>
          <a:xfrm>
            <a:off x="1219320" y="3048120"/>
            <a:ext cx="1981080" cy="1698480"/>
          </a:xfrm>
          <a:prstGeom prst="rect">
            <a:avLst/>
          </a:prstGeom>
          <a:ln w="0">
            <a:noFill/>
          </a:ln>
        </p:spPr>
      </p:pic>
      <p:pic>
        <p:nvPicPr>
          <p:cNvPr id="262" name="transport_197m_11000ans" descr=""/>
          <p:cNvPicPr/>
          <p:nvPr/>
        </p:nvPicPr>
        <p:blipFill>
          <a:blip r:embed="rId6"/>
          <a:stretch/>
        </p:blipFill>
        <p:spPr>
          <a:xfrm>
            <a:off x="1143000" y="1447920"/>
            <a:ext cx="2057400" cy="171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6A2A8-E631-441C-A478-04EACEA23FA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53960" y="129960"/>
            <a:ext cx="7042320" cy="7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400" spc="-1" strike="noStrike">
                <a:solidFill>
                  <a:srgbClr val="49869b"/>
                </a:solidFill>
                <a:latin typeface="Arial Black"/>
              </a:rPr>
              <a:t>Calcul de sûreté</a:t>
            </a:r>
            <a:r>
              <a:rPr b="0" lang="fr-FR" sz="2400" spc="-1" strike="noStrike">
                <a:solidFill>
                  <a:srgbClr val="3333cc"/>
                </a:solidFill>
                <a:latin typeface="Arial Black"/>
              </a:rPr>
              <a:t> </a:t>
            </a:r>
            <a:r>
              <a:rPr b="0" lang="fr-FR" sz="2400" spc="-1" strike="noStrike">
                <a:solidFill>
                  <a:srgbClr val="49869b"/>
                </a:solidFill>
                <a:latin typeface="Arial Black"/>
              </a:rPr>
              <a:t>: le Transport VF</a:t>
            </a:r>
            <a:endParaRPr b="0" lang="en-US" sz="2400" spc="-1" strike="noStrike">
              <a:solidFill>
                <a:srgbClr val="49869b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1900" spc="-1" strike="noStrike">
                <a:solidFill>
                  <a:srgbClr val="ff0000"/>
                </a:solidFill>
                <a:latin typeface="Arial"/>
              </a:rPr>
              <a:t>Transport</a:t>
            </a:r>
            <a:endParaRPr b="1" lang="en-US" sz="1900" spc="-1" strike="noStrike">
              <a:solidFill>
                <a:srgbClr val="cc0066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1900" spc="-1" strike="noStrike">
                <a:solidFill>
                  <a:srgbClr val="3333cc"/>
                </a:solidFill>
                <a:latin typeface="Arial"/>
              </a:rPr>
              <a:t>1 million d’années. 1600 pas de temps de 100 ans à 5000 ans.</a:t>
            </a:r>
            <a:endParaRPr b="1" lang="en-US" sz="1900" spc="-1" strike="noStrike">
              <a:solidFill>
                <a:srgbClr val="cc0066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1900" spc="-1" strike="noStrike">
                <a:solidFill>
                  <a:srgbClr val="3333cc"/>
                </a:solidFill>
                <a:latin typeface="Arial"/>
              </a:rPr>
              <a:t>Solveur itératif  BICGSTAB, préconditionneur ILU0. (plus tard ILUT ou ILUDP)</a:t>
            </a:r>
            <a:endParaRPr b="1" lang="en-US" sz="1900" spc="-1" strike="noStrike">
              <a:solidFill>
                <a:srgbClr val="cc0066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1500" spc="-1" strike="noStrike">
                <a:solidFill>
                  <a:srgbClr val="3333cc"/>
                </a:solidFill>
                <a:latin typeface="Arial"/>
              </a:rPr>
              <a:t>  </a:t>
            </a:r>
            <a:endParaRPr b="1" lang="en-US" sz="1500" spc="-1" strike="noStrike">
              <a:solidFill>
                <a:srgbClr val="cc0066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1900" spc="-1" strike="noStrike">
                <a:solidFill>
                  <a:srgbClr val="ff0000"/>
                </a:solidFill>
                <a:latin typeface="Arial"/>
              </a:rPr>
              <a:t>Observations :</a:t>
            </a:r>
            <a:r>
              <a:rPr b="1" lang="fr-FR" sz="19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cc0066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1900" spc="-1" strike="noStrike">
                <a:solidFill>
                  <a:srgbClr val="3333cc"/>
                </a:solidFill>
                <a:latin typeface="Arial"/>
              </a:rPr>
              <a:t>Valeurs négatives 10000 fois plus petites que la concentration moyenne.</a:t>
            </a:r>
            <a:endParaRPr b="1" lang="en-US" sz="1900" spc="-1" strike="noStrike">
              <a:solidFill>
                <a:srgbClr val="cc0066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1900" spc="-1" strike="noStrike">
                <a:solidFill>
                  <a:srgbClr val="3333cc"/>
                </a:solidFill>
                <a:latin typeface="Arial"/>
              </a:rPr>
              <a:t>Avec Porflow, on constate également des oscillations.</a:t>
            </a:r>
            <a:endParaRPr b="1" lang="en-US" sz="1900" spc="-1" strike="noStrike">
              <a:solidFill>
                <a:srgbClr val="cc0066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1900" spc="-1" strike="noStrike">
                <a:solidFill>
                  <a:srgbClr val="3333cc"/>
                </a:solidFill>
                <a:latin typeface="Arial"/>
              </a:rPr>
              <a:t>Remarque :  il n’existe pas à notre connaissance de méthodes monotones sur tout type de maillage.</a:t>
            </a:r>
            <a:endParaRPr b="1" lang="en-US" sz="1900" spc="-1" strike="noStrike">
              <a:solidFill>
                <a:srgbClr val="cc0066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cc0066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1900" spc="-1" strike="noStrike">
                <a:solidFill>
                  <a:srgbClr val="ff0000"/>
                </a:solidFill>
                <a:latin typeface="Arial"/>
              </a:rPr>
              <a:t>Résultats:</a:t>
            </a:r>
            <a:endParaRPr b="1" lang="en-US" sz="1900" spc="-1" strike="noStrike">
              <a:solidFill>
                <a:srgbClr val="cc0066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1900" spc="-1" strike="noStrike">
                <a:solidFill>
                  <a:srgbClr val="3333cc"/>
                </a:solidFill>
                <a:latin typeface="Arial"/>
              </a:rPr>
              <a:t>Bonnes comparaisons à des cartes de concentrations de Nammu et Porflow.</a:t>
            </a:r>
            <a:endParaRPr b="1" lang="en-US" sz="1900" spc="-1" strike="noStrike">
              <a:solidFill>
                <a:srgbClr val="cc0066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1900" spc="-1" strike="noStrike">
                <a:solidFill>
                  <a:srgbClr val="3333cc"/>
                </a:solidFill>
                <a:latin typeface="Arial"/>
              </a:rPr>
              <a:t>Temps de calcul : 5h sur une machine à 2GO de mémoire vive et à fréquence de 3Ghz.</a:t>
            </a:r>
            <a:endParaRPr b="1" lang="en-US" sz="19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46C50-FD65-4A75-AF54-997421D3A07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53960" y="129960"/>
            <a:ext cx="7042320" cy="7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400" spc="-1" strike="noStrike">
                <a:solidFill>
                  <a:srgbClr val="49869b"/>
                </a:solidFill>
                <a:latin typeface="Arial Black"/>
              </a:rPr>
              <a:t>Le contexte</a:t>
            </a:r>
            <a:endParaRPr b="0" lang="en-US" sz="2400" spc="-1" strike="noStrike">
              <a:solidFill>
                <a:srgbClr val="49869b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5960" y="1044720"/>
            <a:ext cx="8004240" cy="17748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cc0066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500" spc="-1" strike="noStrike">
                <a:solidFill>
                  <a:srgbClr val="cc0066"/>
                </a:solidFill>
                <a:latin typeface="Arial"/>
              </a:rPr>
              <a:t>La France produit plus de 70 % de l’énergie électrique avec des centrales nucléaires</a:t>
            </a: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  <a:p>
            <a:pPr marL="358920" indent="-358920">
              <a:spcBef>
                <a:spcPts val="624"/>
              </a:spcBef>
              <a:buClr>
                <a:srgbClr val="cc0066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500" spc="-1" strike="noStrike">
                <a:solidFill>
                  <a:srgbClr val="cc0066"/>
                </a:solidFill>
                <a:latin typeface="Arial"/>
              </a:rPr>
              <a:t>Ces centrales produisent des déchets nocifs qu’il faut stocker de manière fiable</a:t>
            </a: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3124080"/>
            <a:ext cx="8004240" cy="27432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58920" indent="-3589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La loi Bataille (1991) impose 3 axes de recherche dans la gestion des déchets nucléaires 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a transmutation pour réduire le volume et la toxic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 stockage en milieu naturel profond pour un stockage permanent éventuellement réver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ntreposage et le conditionnement des déchets pour des temps de l’ordre de 300 a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9BCD7-4B81-49CB-88B2-85E6E7A1DE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53960" y="129960"/>
            <a:ext cx="7042320" cy="7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400" spc="-1" strike="noStrike">
                <a:solidFill>
                  <a:srgbClr val="49869b"/>
                </a:solidFill>
                <a:latin typeface="Arial Black"/>
              </a:rPr>
              <a:t>Calcul de sûreté</a:t>
            </a:r>
            <a:r>
              <a:rPr b="0" lang="fr-FR" sz="2400" spc="-1" strike="noStrike">
                <a:solidFill>
                  <a:srgbClr val="3333cc"/>
                </a:solidFill>
                <a:latin typeface="Arial Black"/>
              </a:rPr>
              <a:t> </a:t>
            </a:r>
            <a:r>
              <a:rPr b="0" lang="fr-FR" sz="2400" spc="-1" strike="noStrike">
                <a:solidFill>
                  <a:srgbClr val="49869b"/>
                </a:solidFill>
                <a:latin typeface="Arial Black"/>
              </a:rPr>
              <a:t>: le Transport EFMH</a:t>
            </a:r>
            <a:endParaRPr b="0" lang="en-US" sz="2400" spc="-1" strike="noStrike">
              <a:solidFill>
                <a:srgbClr val="49869b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17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fr-FR" sz="2100" spc="-1" strike="noStrike">
                <a:solidFill>
                  <a:srgbClr val="ff0000"/>
                </a:solidFill>
                <a:latin typeface="Arial"/>
              </a:rPr>
              <a:t>Observations :</a:t>
            </a:r>
            <a:r>
              <a:rPr b="1" lang="fr-FR" sz="21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cc0066"/>
              </a:solidFill>
              <a:latin typeface="Arial"/>
            </a:endParaRPr>
          </a:p>
          <a:p>
            <a:pPr marL="358920" indent="-358920"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100" spc="-1" strike="noStrike">
                <a:solidFill>
                  <a:srgbClr val="3333cc"/>
                </a:solidFill>
                <a:latin typeface="Arial"/>
              </a:rPr>
              <a:t>Nécessité de rajouter de la diffusion numérique pour atteindre un Péclet de maille de 0,2</a:t>
            </a:r>
            <a:endParaRPr b="1" lang="en-US" sz="2100" spc="-1" strike="noStrike">
              <a:solidFill>
                <a:srgbClr val="cc0066"/>
              </a:solidFill>
              <a:latin typeface="Arial"/>
            </a:endParaRPr>
          </a:p>
          <a:p>
            <a:pPr marL="358920" indent="-358920"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100" spc="-1" strike="noStrike">
                <a:solidFill>
                  <a:srgbClr val="3333cc"/>
                </a:solidFill>
                <a:latin typeface="Arial"/>
              </a:rPr>
              <a:t>Maillage d’hexaèdres à angle droit pour mass-lumping</a:t>
            </a:r>
            <a:endParaRPr b="1" lang="en-US" sz="2100" spc="-1" strike="noStrike">
              <a:solidFill>
                <a:srgbClr val="cc0066"/>
              </a:solidFill>
              <a:latin typeface="Arial"/>
            </a:endParaRPr>
          </a:p>
          <a:p>
            <a:pPr marL="358920" indent="-358920"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100" spc="-1" strike="noStrike">
                <a:solidFill>
                  <a:srgbClr val="3333cc"/>
                </a:solidFill>
                <a:latin typeface="Arial"/>
              </a:rPr>
              <a:t>Valeurs négatives 1000 fois plus petites que la concentration moyenne.</a:t>
            </a:r>
            <a:endParaRPr b="1" lang="en-US" sz="2100" spc="-1" strike="noStrike">
              <a:solidFill>
                <a:srgbClr val="cc0066"/>
              </a:solidFill>
              <a:latin typeface="Arial"/>
            </a:endParaRPr>
          </a:p>
          <a:p>
            <a:pPr marL="358920" indent="0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100" spc="-1" strike="noStrike">
              <a:solidFill>
                <a:srgbClr val="cc0066"/>
              </a:solidFill>
              <a:latin typeface="Arial"/>
            </a:endParaRPr>
          </a:p>
          <a:p>
            <a:pPr marL="358920" indent="-358920"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100" spc="-1" strike="noStrike">
                <a:solidFill>
                  <a:srgbClr val="ff0000"/>
                </a:solidFill>
                <a:latin typeface="Arial"/>
              </a:rPr>
              <a:t>Résultats:</a:t>
            </a:r>
            <a:endParaRPr b="1" lang="en-US" sz="2100" spc="-1" strike="noStrike">
              <a:solidFill>
                <a:srgbClr val="cc0066"/>
              </a:solidFill>
              <a:latin typeface="Arial"/>
            </a:endParaRPr>
          </a:p>
          <a:p>
            <a:pPr marL="358920" indent="-358920"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100" spc="-1" strike="noStrike">
                <a:solidFill>
                  <a:srgbClr val="3333cc"/>
                </a:solidFill>
                <a:latin typeface="Arial"/>
              </a:rPr>
              <a:t>Bonnes comparaisons à des cartes de concentrations de Nammu, Porflow et castem VF.</a:t>
            </a:r>
            <a:endParaRPr b="1" lang="en-US" sz="2100" spc="-1" strike="noStrike">
              <a:solidFill>
                <a:srgbClr val="cc0066"/>
              </a:solidFill>
              <a:latin typeface="Arial"/>
            </a:endParaRPr>
          </a:p>
          <a:p>
            <a:pPr marL="358920" indent="-358920"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100" spc="-1" strike="noStrike">
                <a:solidFill>
                  <a:srgbClr val="3333cc"/>
                </a:solidFill>
                <a:latin typeface="Arial"/>
              </a:rPr>
              <a:t>Temps de calcul : plus importants car 3 fois plus de degrés de liberté qu’en VF.</a:t>
            </a:r>
            <a:endParaRPr b="1" lang="en-US" sz="21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E301C-528B-4C0A-873E-149AFFB7326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5280" y="1905120"/>
            <a:ext cx="7042320" cy="1295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400" spc="-1" strike="noStrike">
                <a:solidFill>
                  <a:srgbClr val="49869b"/>
                </a:solidFill>
                <a:latin typeface="Arial Black"/>
              </a:rPr>
              <a:t>Milieu fracturé (ASPO)</a:t>
            </a:r>
            <a:br>
              <a:rPr sz="2400"/>
            </a:br>
            <a:r>
              <a:rPr b="0" lang="fr-FR" sz="2400" spc="-1" strike="noStrike">
                <a:solidFill>
                  <a:srgbClr val="49869b"/>
                </a:solidFill>
                <a:latin typeface="Arial Black"/>
              </a:rPr>
              <a:t>Essais de traçage</a:t>
            </a:r>
            <a:br>
              <a:rPr sz="2400"/>
            </a:br>
            <a:r>
              <a:rPr b="0" lang="fr-FR" sz="2400" spc="-1" strike="noStrike">
                <a:solidFill>
                  <a:srgbClr val="49869b"/>
                </a:solidFill>
                <a:latin typeface="Arial Black"/>
              </a:rPr>
              <a:t>Réseaux de fractures 2D dans 3D</a:t>
            </a:r>
            <a:endParaRPr b="0" lang="en-US" sz="2400" spc="-1" strike="noStrike">
              <a:solidFill>
                <a:srgbClr val="49869b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F9A3D-373C-489D-AD01-2FF7905C0A0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400" spc="-1" strike="noStrike">
                <a:solidFill>
                  <a:srgbClr val="49869b"/>
                </a:solidFill>
                <a:latin typeface="Arial Black"/>
              </a:rPr>
              <a:t>Maillage de 1200 fractures (env 50 représentées)</a:t>
            </a:r>
            <a:endParaRPr b="0" lang="en-US" sz="2400" spc="-1" strike="noStrike">
              <a:solidFill>
                <a:srgbClr val="49869b"/>
              </a:solidFill>
              <a:latin typeface="Arial Black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657440" y="1525680"/>
            <a:ext cx="5130720" cy="46767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4227480" y="3789360"/>
            <a:ext cx="69048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151CD-4F28-4EB4-8E93-C3A37573D5B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6951600" cy="1012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400" spc="-1" strike="noStrike">
                <a:solidFill>
                  <a:srgbClr val="49869b"/>
                </a:solidFill>
                <a:latin typeface="Arial Black"/>
              </a:rPr>
              <a:t>Charge et écoulement sur une fracture isolée pour l’exemple. Discrétisation EFMH 2D dans du 3D</a:t>
            </a:r>
            <a:endParaRPr b="0" lang="en-US" sz="2400" spc="-1" strike="noStrike">
              <a:solidFill>
                <a:srgbClr val="49869b"/>
              </a:solidFill>
              <a:latin typeface="Arial Black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15960" y="3179880"/>
            <a:ext cx="3932280" cy="29988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4076640" cy="382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AB365-C68D-4BF8-90DC-E1C5EC0AB4A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53960" y="129960"/>
            <a:ext cx="7042320" cy="7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400" spc="-1" strike="noStrike">
                <a:solidFill>
                  <a:srgbClr val="49869b"/>
                </a:solidFill>
                <a:latin typeface="Arial Black"/>
              </a:rPr>
              <a:t>Main transport paths</a:t>
            </a:r>
            <a:endParaRPr b="0" lang="en-US" sz="2400" spc="-1" strike="noStrike">
              <a:solidFill>
                <a:srgbClr val="49869b"/>
              </a:solidFill>
              <a:latin typeface="Arial Black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162080" y="1044720"/>
            <a:ext cx="6910200" cy="52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580BF-35D1-4F35-BA8C-036DC47ABB0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53960" y="129960"/>
            <a:ext cx="7042320" cy="71892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400" spc="-1" strike="noStrike">
                <a:solidFill>
                  <a:srgbClr val="49869b"/>
                </a:solidFill>
                <a:latin typeface="Arial Black"/>
              </a:rPr>
              <a:t>Transport (Diffusion dans le bloc 3D calculé par fonction de Green)</a:t>
            </a:r>
            <a:endParaRPr b="0" lang="en-US" sz="2400" spc="-1" strike="noStrike">
              <a:solidFill>
                <a:srgbClr val="49869b"/>
              </a:solidFill>
              <a:latin typeface="Arial Black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17440" y="914400"/>
            <a:ext cx="6883560" cy="50292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7230240" y="5221440"/>
            <a:ext cx="1693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fr-FR" sz="23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fr-FR" sz="23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 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7337520" y="1865160"/>
            <a:ext cx="1766880" cy="2901600"/>
            <a:chOff x="7337520" y="1865160"/>
            <a:chExt cx="1766880" cy="2901600"/>
          </a:xfrm>
        </p:grpSpPr>
        <p:grpSp>
          <p:nvGrpSpPr>
            <p:cNvPr id="280" name=""/>
            <p:cNvGrpSpPr/>
            <p:nvPr/>
          </p:nvGrpSpPr>
          <p:grpSpPr>
            <a:xfrm>
              <a:off x="7337520" y="1865160"/>
              <a:ext cx="1173240" cy="348840"/>
              <a:chOff x="7337520" y="1865160"/>
              <a:chExt cx="1173240" cy="348840"/>
            </a:xfrm>
          </p:grpSpPr>
          <p:sp>
            <p:nvSpPr>
              <p:cNvPr id="281" name=""/>
              <p:cNvSpPr/>
              <p:nvPr/>
            </p:nvSpPr>
            <p:spPr>
              <a:xfrm>
                <a:off x="7337520" y="2060640"/>
                <a:ext cx="27720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741800" y="1865160"/>
                <a:ext cx="768960" cy="34884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280" rIns="89280" tIns="44640" bIns="446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2080"/>
                    <a:tab algn="l" pos="1784520"/>
                    <a:tab algn="l" pos="2676600"/>
                    <a:tab algn="l" pos="3568680"/>
                    <a:tab algn="l" pos="4460760"/>
                    <a:tab algn="l" pos="5353200"/>
                    <a:tab algn="l" pos="6245280"/>
                    <a:tab algn="l" pos="7137360"/>
                    <a:tab algn="l" pos="8029440"/>
                    <a:tab algn="l" pos="8921880"/>
                    <a:tab algn="l" pos="9813960"/>
                    <a:tab algn="l" pos="10706040"/>
                  </a:tabLst>
                </a:pPr>
                <a:r>
                  <a:rPr b="0" lang="fr-FR" sz="1700" spc="-1" strike="noStrike">
                    <a:solidFill>
                      <a:srgbClr val="000000"/>
                    </a:solidFill>
                    <a:latin typeface="Arial"/>
                  </a:rPr>
                  <a:t>Iodine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7337520" y="2414520"/>
              <a:ext cx="1367640" cy="348840"/>
              <a:chOff x="7337520" y="2414520"/>
              <a:chExt cx="1367640" cy="348840"/>
            </a:xfrm>
          </p:grpSpPr>
          <p:sp>
            <p:nvSpPr>
              <p:cNvPr id="284" name=""/>
              <p:cNvSpPr/>
              <p:nvPr/>
            </p:nvSpPr>
            <p:spPr>
              <a:xfrm>
                <a:off x="7337520" y="2610000"/>
                <a:ext cx="27720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742520" y="2414520"/>
                <a:ext cx="962640" cy="348840"/>
              </a:xfrm>
              <a:prstGeom prst="rect">
                <a:avLst/>
              </a:prstGeom>
              <a:noFill/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280" rIns="89280" tIns="44640" bIns="446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2080"/>
                    <a:tab algn="l" pos="1784520"/>
                    <a:tab algn="l" pos="2676600"/>
                    <a:tab algn="l" pos="3568680"/>
                    <a:tab algn="l" pos="4460760"/>
                    <a:tab algn="l" pos="5353200"/>
                    <a:tab algn="l" pos="6245280"/>
                    <a:tab algn="l" pos="7137360"/>
                    <a:tab algn="l" pos="8029440"/>
                    <a:tab algn="l" pos="8921880"/>
                    <a:tab algn="l" pos="9813960"/>
                    <a:tab algn="l" pos="10706040"/>
                  </a:tabLst>
                </a:pPr>
                <a:r>
                  <a:rPr b="0" lang="fr-FR" sz="1700" spc="-1" strike="noStrike">
                    <a:solidFill>
                      <a:srgbClr val="000000"/>
                    </a:solidFill>
                    <a:latin typeface="Arial"/>
                  </a:rPr>
                  <a:t>Calcium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7337520" y="2917800"/>
              <a:ext cx="1318680" cy="348840"/>
              <a:chOff x="7337520" y="2917800"/>
              <a:chExt cx="1318680" cy="348840"/>
            </a:xfrm>
          </p:grpSpPr>
          <p:sp>
            <p:nvSpPr>
              <p:cNvPr id="287" name=""/>
              <p:cNvSpPr/>
              <p:nvPr/>
            </p:nvSpPr>
            <p:spPr>
              <a:xfrm>
                <a:off x="7337520" y="3113280"/>
                <a:ext cx="2772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742520" y="2917800"/>
                <a:ext cx="913680" cy="348840"/>
              </a:xfrm>
              <a:prstGeom prst="rect">
                <a:avLst/>
              </a:prstGeom>
              <a:noFill/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280" rIns="89280" tIns="44640" bIns="446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2080"/>
                    <a:tab algn="l" pos="1784520"/>
                    <a:tab algn="l" pos="2676600"/>
                    <a:tab algn="l" pos="3568680"/>
                    <a:tab algn="l" pos="4460760"/>
                    <a:tab algn="l" pos="5353200"/>
                    <a:tab algn="l" pos="6245280"/>
                    <a:tab algn="l" pos="7137360"/>
                    <a:tab algn="l" pos="8029440"/>
                    <a:tab algn="l" pos="8921880"/>
                    <a:tab algn="l" pos="9813960"/>
                    <a:tab algn="l" pos="10706040"/>
                  </a:tabLst>
                </a:pPr>
                <a:r>
                  <a:rPr b="0" lang="fr-FR" sz="1700" spc="-1" strike="noStrike">
                    <a:solidFill>
                      <a:srgbClr val="000000"/>
                    </a:solidFill>
                    <a:latin typeface="Arial"/>
                  </a:rPr>
                  <a:t>Cesium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7337520" y="3422520"/>
              <a:ext cx="1330920" cy="348840"/>
              <a:chOff x="7337520" y="3422520"/>
              <a:chExt cx="1330920" cy="348840"/>
            </a:xfrm>
          </p:grpSpPr>
          <p:sp>
            <p:nvSpPr>
              <p:cNvPr id="290" name=""/>
              <p:cNvSpPr/>
              <p:nvPr/>
            </p:nvSpPr>
            <p:spPr>
              <a:xfrm>
                <a:off x="7337520" y="3618000"/>
                <a:ext cx="277200" cy="0"/>
              </a:xfrm>
              <a:prstGeom prst="line">
                <a:avLst/>
              </a:prstGeom>
              <a:ln w="1260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742520" y="3422520"/>
                <a:ext cx="925920" cy="348840"/>
              </a:xfrm>
              <a:prstGeom prst="rect">
                <a:avLst/>
              </a:prstGeom>
              <a:noFill/>
              <a:ln w="1260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280" rIns="89280" tIns="44640" bIns="446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2080"/>
                    <a:tab algn="l" pos="1784520"/>
                    <a:tab algn="l" pos="2676600"/>
                    <a:tab algn="l" pos="3568680"/>
                    <a:tab algn="l" pos="4460760"/>
                    <a:tab algn="l" pos="5353200"/>
                    <a:tab algn="l" pos="6245280"/>
                    <a:tab algn="l" pos="7137360"/>
                    <a:tab algn="l" pos="8029440"/>
                    <a:tab algn="l" pos="8921880"/>
                    <a:tab algn="l" pos="9813960"/>
                    <a:tab algn="l" pos="10706040"/>
                  </a:tabLst>
                </a:pPr>
                <a:r>
                  <a:rPr b="0" lang="fr-FR" sz="1700" spc="-1" strike="noStrike">
                    <a:solidFill>
                      <a:srgbClr val="000000"/>
                    </a:solidFill>
                    <a:latin typeface="Arial"/>
                  </a:rPr>
                  <a:t>Radium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7337520" y="3925800"/>
              <a:ext cx="1766880" cy="348840"/>
              <a:chOff x="7337520" y="3925800"/>
              <a:chExt cx="1766880" cy="348840"/>
            </a:xfrm>
          </p:grpSpPr>
          <p:sp>
            <p:nvSpPr>
              <p:cNvPr id="293" name=""/>
              <p:cNvSpPr/>
              <p:nvPr/>
            </p:nvSpPr>
            <p:spPr>
              <a:xfrm>
                <a:off x="7337520" y="4121280"/>
                <a:ext cx="277200" cy="0"/>
              </a:xfrm>
              <a:prstGeom prst="line">
                <a:avLst/>
              </a:prstGeom>
              <a:ln w="1260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745400" y="3925800"/>
                <a:ext cx="1359000" cy="348840"/>
              </a:xfrm>
              <a:prstGeom prst="rect">
                <a:avLst/>
              </a:prstGeom>
              <a:noFill/>
              <a:ln w="1260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280" rIns="89280" tIns="44640" bIns="446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2080"/>
                    <a:tab algn="l" pos="1784520"/>
                    <a:tab algn="l" pos="2676600"/>
                    <a:tab algn="l" pos="3568680"/>
                    <a:tab algn="l" pos="4460760"/>
                    <a:tab algn="l" pos="5353200"/>
                    <a:tab algn="l" pos="6245280"/>
                    <a:tab algn="l" pos="7137360"/>
                    <a:tab algn="l" pos="8029440"/>
                    <a:tab algn="l" pos="8921880"/>
                    <a:tab algn="l" pos="9813960"/>
                    <a:tab algn="l" pos="10706040"/>
                  </a:tabLst>
                </a:pPr>
                <a:r>
                  <a:rPr b="0" lang="fr-FR" sz="1700" spc="-1" strike="noStrike">
                    <a:solidFill>
                      <a:srgbClr val="000000"/>
                    </a:solidFill>
                    <a:latin typeface="Arial"/>
                  </a:rPr>
                  <a:t>Technecium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7337520" y="4417920"/>
              <a:ext cx="1609200" cy="348840"/>
              <a:chOff x="7337520" y="4417920"/>
              <a:chExt cx="1609200" cy="348840"/>
            </a:xfrm>
          </p:grpSpPr>
          <p:sp>
            <p:nvSpPr>
              <p:cNvPr id="296" name=""/>
              <p:cNvSpPr/>
              <p:nvPr/>
            </p:nvSpPr>
            <p:spPr>
              <a:xfrm>
                <a:off x="7337520" y="4613400"/>
                <a:ext cx="277200" cy="0"/>
              </a:xfrm>
              <a:prstGeom prst="line">
                <a:avLst/>
              </a:prstGeom>
              <a:ln w="1260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744680" y="4417920"/>
                <a:ext cx="1202040" cy="348840"/>
              </a:xfrm>
              <a:prstGeom prst="rect">
                <a:avLst/>
              </a:prstGeom>
              <a:noFill/>
              <a:ln w="1260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280" rIns="89280" tIns="44640" bIns="446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2080"/>
                    <a:tab algn="l" pos="1784520"/>
                    <a:tab algn="l" pos="2676600"/>
                    <a:tab algn="l" pos="3568680"/>
                    <a:tab algn="l" pos="4460760"/>
                    <a:tab algn="l" pos="5353200"/>
                    <a:tab algn="l" pos="6245280"/>
                    <a:tab algn="l" pos="7137360"/>
                    <a:tab algn="l" pos="8029440"/>
                    <a:tab algn="l" pos="8921880"/>
                    <a:tab algn="l" pos="9813960"/>
                    <a:tab algn="l" pos="10706040"/>
                  </a:tabLst>
                </a:pPr>
                <a:r>
                  <a:rPr b="0" lang="fr-FR" sz="1700" spc="-1" strike="noStrike">
                    <a:solidFill>
                      <a:srgbClr val="000000"/>
                    </a:solidFill>
                    <a:latin typeface="Arial"/>
                  </a:rPr>
                  <a:t>Americium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A1F9A-F746-4E00-BC2F-428443B90B2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53960" y="129960"/>
            <a:ext cx="7042320" cy="7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400" spc="-1" strike="noStrike">
                <a:solidFill>
                  <a:srgbClr val="49869b"/>
                </a:solidFill>
                <a:latin typeface="Arial Black"/>
              </a:rPr>
              <a:t>Conclusions</a:t>
            </a:r>
            <a:endParaRPr b="0" lang="en-US" sz="2400" spc="-1" strike="noStrike">
              <a:solidFill>
                <a:srgbClr val="49869b"/>
              </a:solidFill>
              <a:latin typeface="Arial Black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838080"/>
            <a:ext cx="7696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58920" indent="-35892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17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fr-FR" sz="2100" spc="-1" strike="noStrike">
                <a:solidFill>
                  <a:srgbClr val="ff0000"/>
                </a:solidFill>
                <a:latin typeface="Arial"/>
              </a:rPr>
              <a:t>De nombreux outils opérationnels :</a:t>
            </a:r>
            <a:r>
              <a:rPr b="1" lang="fr-FR" sz="21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100" spc="-1" strike="noStrike">
                <a:solidFill>
                  <a:srgbClr val="3333cc"/>
                </a:solidFill>
                <a:latin typeface="Arial"/>
              </a:rPr>
              <a:t>Le transport de RNs en milieu saturé hétérogène ou fracturé avec une gamme étoffée de modèles physiqu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100" spc="-1" strike="noStrike">
                <a:solidFill>
                  <a:srgbClr val="3333cc"/>
                </a:solidFill>
                <a:latin typeface="Arial"/>
              </a:rPr>
              <a:t>Une approche diphasique simplifiée (Richard) opérationnell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100" spc="-1" strike="noStrike">
                <a:solidFill>
                  <a:srgbClr val="3333cc"/>
                </a:solidFill>
                <a:latin typeface="Arial"/>
              </a:rPr>
              <a:t>De nombreux schémas de discrétisations et solveurs disponibl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100" spc="-1" strike="noStrike">
                <a:solidFill>
                  <a:srgbClr val="ff0000"/>
                </a:solidFill>
                <a:latin typeface="Arial"/>
              </a:rPr>
              <a:t>Les perspectives 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100" spc="-1" strike="noStrike">
                <a:solidFill>
                  <a:srgbClr val="3333cc"/>
                </a:solidFill>
                <a:latin typeface="Arial"/>
              </a:rPr>
              <a:t>Un opérateur diphasique Cast3m capable de gérer la dissolution des gaz (H2, N2) et la migration des RN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100" spc="-1" strike="noStrike">
                <a:solidFill>
                  <a:srgbClr val="3333cc"/>
                </a:solidFill>
                <a:latin typeface="Arial"/>
              </a:rPr>
              <a:t>Améliorer les modèles de dispersivité en non saturé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100" spc="-1" strike="noStrike">
                <a:solidFill>
                  <a:srgbClr val="3333cc"/>
                </a:solidFill>
                <a:latin typeface="Arial"/>
              </a:rPr>
              <a:t>Poursuivre le travail numérique sur les schémas respectant la monotoni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100" spc="-1" strike="noStrike">
                <a:solidFill>
                  <a:srgbClr val="3333cc"/>
                </a:solidFill>
                <a:latin typeface="Arial"/>
              </a:rPr>
              <a:t>Décomposition de domaine pour le couplage petites/grandes échell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EAB79-053A-4C46-ABDD-CEE5DB70283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400" spc="-1" strike="noStrike">
                <a:solidFill>
                  <a:srgbClr val="49869b"/>
                </a:solidFill>
                <a:latin typeface="Arial Black"/>
              </a:rPr>
              <a:t>LE STOCKAGE</a:t>
            </a:r>
            <a:endParaRPr b="0" lang="en-US" sz="2400" spc="-1" strike="noStrike">
              <a:solidFill>
                <a:srgbClr val="49869b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920" y="2895480"/>
            <a:ext cx="6400800" cy="152424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txBody>
          <a:bodyPr lIns="95760" rIns="95760" tIns="47880" bIns="4788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500" spc="-1" strike="noStrike">
                <a:solidFill>
                  <a:srgbClr val="cc0066"/>
                </a:solidFill>
                <a:latin typeface="Arial"/>
              </a:rPr>
              <a:t>Le site géologique</a:t>
            </a: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500" spc="-1" strike="noStrike">
                <a:solidFill>
                  <a:srgbClr val="cc0066"/>
                </a:solidFill>
                <a:latin typeface="Arial"/>
              </a:rPr>
              <a:t>Les infrastructures du stockage</a:t>
            </a: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500" spc="-1" strike="noStrike">
                <a:solidFill>
                  <a:srgbClr val="cc0066"/>
                </a:solidFill>
                <a:latin typeface="Arial"/>
              </a:rPr>
              <a:t>Les colis</a:t>
            </a: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3DDB8-9D62-4A7C-AEEA-9292EDC7B5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53960" y="129960"/>
            <a:ext cx="7042320" cy="479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400" spc="-1" strike="noStrike">
                <a:solidFill>
                  <a:srgbClr val="49869b"/>
                </a:solidFill>
                <a:latin typeface="Arial Black"/>
              </a:rPr>
              <a:t>Laboratoire souterrain - Bures</a:t>
            </a:r>
            <a:endParaRPr b="0" lang="en-US" sz="2400" spc="-1" strike="noStrike">
              <a:solidFill>
                <a:srgbClr val="49869b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5638320"/>
            <a:ext cx="7848720" cy="631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5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1" lang="fr-FR" sz="2500" spc="-1" strike="noStrike">
                <a:solidFill>
                  <a:srgbClr val="cc0066"/>
                </a:solidFill>
                <a:latin typeface="Arial"/>
              </a:rPr>
              <a:t>Laboratoire de Bure (Meuse) – couche d’argile</a:t>
            </a: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0016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880" rIns="38880" tIns="-19080" bIns="-19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420400" cy="484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A926F-71EE-4C74-89E1-BE393B253C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3812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 Black"/>
              </a:rPr>
              <a:t>Propriétés générales</a:t>
            </a:r>
            <a:endParaRPr b="0" lang="en-US" sz="1800" spc="-1" strike="noStrike">
              <a:solidFill>
                <a:srgbClr val="49869b"/>
              </a:solidFill>
              <a:latin typeface="Arial Black"/>
            </a:endParaRPr>
          </a:p>
        </p:txBody>
      </p:sp>
      <p:pic>
        <p:nvPicPr>
          <p:cNvPr id="64" name="site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685800" y="762120"/>
            <a:ext cx="7974000" cy="396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14400" y="4191120"/>
            <a:ext cx="7772400" cy="19810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Paramètres des équations mal conn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=&gt; études paramétriques (&gt;1000 simulations 3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=&gt; résolutions rapides (qqes heures sur P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Calculs sur des temps allant de 10 kans à 10 M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Échelles spatiales allant de 1 m à 25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Milieux aux propriétés fortement discontin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53DD0-A5B0-4B03-A4C6-42BFEB6C75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53560" cy="62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400" spc="-1" strike="noStrike">
                <a:solidFill>
                  <a:srgbClr val="990066"/>
                </a:solidFill>
                <a:latin typeface="Arial Black"/>
              </a:rPr>
              <a:t>Aspö : Bloc fracturé à 3 niveaux d’hétérogénéité</a:t>
            </a:r>
            <a:endParaRPr b="0" lang="en-US" sz="2400" spc="-1" strike="noStrike">
              <a:solidFill>
                <a:srgbClr val="49869b"/>
              </a:solidFill>
              <a:latin typeface="Arial Black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50760" y="2009880"/>
            <a:ext cx="3292560" cy="3006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267160" y="873000"/>
            <a:ext cx="2998800" cy="3013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52000" y="2147760"/>
            <a:ext cx="153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33cc"/>
                </a:solidFill>
                <a:latin typeface="Arial"/>
              </a:rPr>
              <a:t>200 m</a:t>
            </a:r>
            <a:r>
              <a:rPr b="1" lang="fr-FR" sz="1800" spc="-1" strike="noStrike">
                <a:solidFill>
                  <a:srgbClr val="ff33cc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cc"/>
                </a:solidFill>
                <a:latin typeface="Arial"/>
              </a:rPr>
              <a:t>30 Fra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cc"/>
                </a:solidFill>
                <a:latin typeface="Arial"/>
              </a:rPr>
              <a:t>princip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705640" y="4014720"/>
            <a:ext cx="2268360" cy="2233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389480" y="1219320"/>
            <a:ext cx="23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9900"/>
                </a:solidFill>
                <a:latin typeface="Arial"/>
              </a:rPr>
              <a:t>Hétérogénéité da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9900"/>
                </a:solidFill>
                <a:latin typeface="Arial"/>
              </a:rPr>
              <a:t>les fra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74920" y="5562720"/>
            <a:ext cx="240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99"/>
                </a:solidFill>
                <a:latin typeface="Arial"/>
              </a:rPr>
              <a:t>Fracturation de fo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99"/>
                </a:solidFill>
                <a:latin typeface="Arial"/>
              </a:rPr>
              <a:t>5000 fractures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99"/>
                </a:solidFill>
                <a:latin typeface="Arial"/>
              </a:rPr>
              <a:t>2 à 10 mèt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DE424-3DFE-4D58-B2B8-C15D42F424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53960" y="129960"/>
            <a:ext cx="7042320" cy="7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400" spc="-1" strike="noStrike">
                <a:solidFill>
                  <a:srgbClr val="49869b"/>
                </a:solidFill>
                <a:latin typeface="Arial Black"/>
              </a:rPr>
              <a:t>Les colis</a:t>
            </a:r>
            <a:endParaRPr b="0" lang="en-US" sz="2400" spc="-1" strike="noStrike">
              <a:solidFill>
                <a:srgbClr val="49869b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337280" cy="5203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524"/>
              </a:spcBef>
              <a:buClr>
                <a:srgbClr val="cc0066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100" spc="-1" strike="noStrike">
                <a:solidFill>
                  <a:srgbClr val="cc0066"/>
                </a:solidFill>
                <a:latin typeface="Arial"/>
              </a:rPr>
              <a:t>Contiennent des déchets thermiques très actifs (T &gt; 100 C avant stockage).</a:t>
            </a:r>
            <a:endParaRPr b="1" lang="en-US" sz="2100" spc="-1" strike="noStrike">
              <a:solidFill>
                <a:srgbClr val="cc0066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524"/>
              </a:spcBef>
              <a:buClr>
                <a:srgbClr val="cc0066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100" spc="-1" strike="noStrike">
                <a:solidFill>
                  <a:srgbClr val="cc0066"/>
                </a:solidFill>
                <a:latin typeface="Arial"/>
              </a:rPr>
              <a:t>Contiennent des déchets non thermiques mais à vie très longue.</a:t>
            </a:r>
            <a:endParaRPr b="1" lang="en-US" sz="2100" spc="-1" strike="noStrike">
              <a:solidFill>
                <a:srgbClr val="cc0066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524"/>
              </a:spcBef>
              <a:buClr>
                <a:srgbClr val="cc0066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100" spc="-1" strike="noStrike">
                <a:solidFill>
                  <a:srgbClr val="cc0066"/>
                </a:solidFill>
                <a:latin typeface="Arial"/>
              </a:rPr>
              <a:t>La nature du centre des colis est variable :</a:t>
            </a:r>
            <a:endParaRPr b="1" lang="en-US" sz="2100" spc="-1" strike="noStrike">
              <a:solidFill>
                <a:srgbClr val="cc0066"/>
              </a:solidFill>
              <a:latin typeface="Arial"/>
            </a:endParaRPr>
          </a:p>
          <a:p>
            <a:pPr lvl="1" marL="777960" indent="-298440">
              <a:lnSpc>
                <a:spcPct val="90000"/>
              </a:lnSpc>
              <a:spcBef>
                <a:spcPts val="524"/>
              </a:spcBef>
              <a:buClr>
                <a:srgbClr val="49869b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100" spc="-1" strike="noStrike">
                <a:solidFill>
                  <a:srgbClr val="49869b"/>
                </a:solidFill>
                <a:latin typeface="Arial"/>
              </a:rPr>
              <a:t>Bitumes</a:t>
            </a:r>
            <a:endParaRPr b="0" lang="en-US" sz="2100" spc="-1" strike="noStrike">
              <a:solidFill>
                <a:srgbClr val="49869b"/>
              </a:solidFill>
              <a:latin typeface="Arial"/>
            </a:endParaRPr>
          </a:p>
          <a:p>
            <a:pPr lvl="1" marL="777960" indent="-298440">
              <a:lnSpc>
                <a:spcPct val="90000"/>
              </a:lnSpc>
              <a:spcBef>
                <a:spcPts val="524"/>
              </a:spcBef>
              <a:buClr>
                <a:srgbClr val="49869b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100" spc="-1" strike="noStrike">
                <a:solidFill>
                  <a:srgbClr val="49869b"/>
                </a:solidFill>
                <a:latin typeface="Arial"/>
              </a:rPr>
              <a:t>Vitrifiés</a:t>
            </a:r>
            <a:endParaRPr b="0" lang="en-US" sz="2100" spc="-1" strike="noStrike">
              <a:solidFill>
                <a:srgbClr val="49869b"/>
              </a:solidFill>
              <a:latin typeface="Arial"/>
            </a:endParaRPr>
          </a:p>
          <a:p>
            <a:pPr lvl="1" marL="777960" indent="-298440">
              <a:lnSpc>
                <a:spcPct val="90000"/>
              </a:lnSpc>
              <a:spcBef>
                <a:spcPts val="524"/>
              </a:spcBef>
              <a:buClr>
                <a:srgbClr val="49869b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100" spc="-1" strike="noStrike">
                <a:solidFill>
                  <a:srgbClr val="49869b"/>
                </a:solidFill>
                <a:latin typeface="Arial"/>
              </a:rPr>
              <a:t>Béton mélangé aux déchets</a:t>
            </a:r>
            <a:endParaRPr b="0" lang="en-US" sz="2100" spc="-1" strike="noStrike">
              <a:solidFill>
                <a:srgbClr val="49869b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524"/>
              </a:spcBef>
              <a:buClr>
                <a:srgbClr val="cc0066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100" spc="-1" strike="noStrike">
                <a:solidFill>
                  <a:srgbClr val="cc0066"/>
                </a:solidFill>
                <a:latin typeface="Arial"/>
              </a:rPr>
              <a:t>Parfois une enveloppe en acier puis béton</a:t>
            </a:r>
            <a:endParaRPr b="1" lang="en-US" sz="2100" spc="-1" strike="noStrike">
              <a:solidFill>
                <a:srgbClr val="cc0066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524"/>
              </a:spcBef>
              <a:buClr>
                <a:srgbClr val="cc0066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100" spc="-1" strike="noStrike">
                <a:solidFill>
                  <a:srgbClr val="cc0066"/>
                </a:solidFill>
                <a:latin typeface="Arial"/>
              </a:rPr>
              <a:t>Parfois directement une enveloppe de béton</a:t>
            </a:r>
            <a:endParaRPr b="1" lang="en-US" sz="21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990720"/>
            <a:ext cx="3498840" cy="52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58920" indent="-358920">
              <a:lnSpc>
                <a:spcPct val="90000"/>
              </a:lnSpc>
              <a:spcBef>
                <a:spcPts val="524"/>
              </a:spcBef>
              <a:buClr>
                <a:srgbClr val="cc0066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100" spc="-1" strike="noStrike">
                <a:solidFill>
                  <a:srgbClr val="cc0066"/>
                </a:solidFill>
                <a:latin typeface="Arial"/>
              </a:rPr>
              <a:t>Le colis doit rester intègre &gt; 100 ans si on veut la réversibilité du stockag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90000"/>
              </a:lnSpc>
              <a:spcBef>
                <a:spcPts val="524"/>
              </a:spcBef>
              <a:buClr>
                <a:srgbClr val="cc0066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90000"/>
              </a:lnSpc>
              <a:spcBef>
                <a:spcPts val="524"/>
              </a:spcBef>
              <a:buClr>
                <a:srgbClr val="cc0066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100" spc="-1" strike="noStrike">
                <a:solidFill>
                  <a:srgbClr val="cc0066"/>
                </a:solidFill>
                <a:latin typeface="Arial"/>
              </a:rPr>
              <a:t>Le colis doit confiner ou réguler le dégazage (H2) des boues organiqu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90000"/>
              </a:lnSpc>
              <a:spcBef>
                <a:spcPts val="524"/>
              </a:spcBef>
              <a:buClr>
                <a:srgbClr val="cc0066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90000"/>
              </a:lnSpc>
              <a:spcBef>
                <a:spcPts val="524"/>
              </a:spcBef>
              <a:buClr>
                <a:srgbClr val="cc0066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100" spc="-1" strike="noStrike">
                <a:solidFill>
                  <a:srgbClr val="cc0066"/>
                </a:solidFill>
                <a:latin typeface="Arial"/>
              </a:rPr>
              <a:t>Le colis doit prévenir l’échappement des radio nucléides sur la durée la plus longue possible (&gt;1000 an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A0177-B25D-4804-851A-3FFEEB882E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400" spc="-1" strike="noStrike">
                <a:solidFill>
                  <a:srgbClr val="49869b"/>
                </a:solidFill>
                <a:latin typeface="Arial Black"/>
              </a:rPr>
              <a:t>Les phénomènes physiques</a:t>
            </a:r>
            <a:endParaRPr b="0" lang="en-US" sz="2400" spc="-1" strike="noStrike">
              <a:solidFill>
                <a:srgbClr val="49869b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324480" cy="25146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txBody>
          <a:bodyPr lIns="95760" rIns="95760" tIns="47880" bIns="4788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500" spc="-1" strike="noStrike">
                <a:solidFill>
                  <a:srgbClr val="cc0066"/>
                </a:solidFill>
                <a:latin typeface="Arial"/>
              </a:rPr>
              <a:t>La chimie</a:t>
            </a: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500" spc="-1" strike="noStrike">
                <a:solidFill>
                  <a:srgbClr val="cc0066"/>
                </a:solidFill>
                <a:latin typeface="Arial"/>
              </a:rPr>
              <a:t>L’hydraulique</a:t>
            </a: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500" spc="-1" strike="noStrike">
                <a:solidFill>
                  <a:srgbClr val="cc0066"/>
                </a:solidFill>
                <a:latin typeface="Arial"/>
              </a:rPr>
              <a:t>La mécanique</a:t>
            </a: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500" spc="-1" strike="noStrike">
                <a:solidFill>
                  <a:srgbClr val="cc0066"/>
                </a:solidFill>
                <a:latin typeface="Arial"/>
              </a:rPr>
              <a:t>La thermique </a:t>
            </a: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500" spc="-1" strike="noStrike">
                <a:solidFill>
                  <a:srgbClr val="cc0066"/>
                </a:solidFill>
                <a:latin typeface="Arial"/>
              </a:rPr>
              <a:t>Le transport</a:t>
            </a:r>
            <a:endParaRPr b="1" lang="en-US" sz="25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91164-1A43-4689-9008-B5A4A6B841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bm</cp:lastModifiedBy>
  <cp:lastPrinted>2003-02-18T08:58:51Z</cp:lastPrinted>
  <dcterms:modified xsi:type="dcterms:W3CDTF">2005-11-25T01:06:48Z</dcterms:modified>
  <cp:revision>551</cp:revision>
  <dc:subject/>
  <dc:title>PowerPoint Presentation</dc:title>
</cp:coreProperties>
</file>