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ACF6-CCBA-432E-806B-B5AABBAD8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3186-9A5E-40F5-A6FF-B6FD62F0F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76B4-770B-4196-8AE1-183080C70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4AFB-73B5-4895-A6AD-35A6BB57F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DF2D-6B54-4BDA-A3D3-937FB87D3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EDAA-5221-4929-A1D2-20F7DF576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6885-6A00-43C4-ADC6-314DDB424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57A9-2EF3-4D26-9D24-04C61C482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A35B-6C5F-4C6F-9EEA-53BD1D335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3C96-197D-45BB-85C5-C2164D34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642C-CBCD-4646-8DA4-F74E9CD2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4DE1-3872-48A4-BE6E-05AE4056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F5A67-1BC2-4AC4-94E8-17A5CF6B27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BRATIONS DU DEVERSOIR DE SUPERPHENI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é – Jean Gib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ILLAGES des SOUS STRU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77320" cy="548640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versées d’échangeur intermédiaire et de pomp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vibr%20LMFBR6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64008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RUCTURE ASSEMBL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7467840" cy="51814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ue d’un quart de structure assemblé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vibr%20LMFBR7" descr=""/>
          <p:cNvPicPr/>
          <p:nvPr/>
        </p:nvPicPr>
        <p:blipFill>
          <a:blip r:embed="rId1"/>
          <a:stretch/>
        </p:blipFill>
        <p:spPr>
          <a:xfrm>
            <a:off x="1981080" y="1447920"/>
            <a:ext cx="51055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URCES D’EXCI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610480" cy="586764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mps de pression fluctuan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paroi associés au zones 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us  perturbée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ie des échangeu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médiaires (collecteur fro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ie du cœur (collecteur chau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vibr%20LMFBR4" descr=""/>
          <p:cNvPicPr/>
          <p:nvPr/>
        </p:nvPicPr>
        <p:blipFill>
          <a:blip r:embed="rId1"/>
          <a:stretch/>
        </p:blipFill>
        <p:spPr>
          <a:xfrm>
            <a:off x="5715000" y="1066680"/>
            <a:ext cx="3027240" cy="51818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023800" y="6248520"/>
            <a:ext cx="39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ul d’écoulement à la sortie d’un E.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838080" y="39625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61722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6920" y="388620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01120" y="571500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éq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8080" y="57150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8080" y="5257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48006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43434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4267080"/>
            <a:ext cx="1676520" cy="1295640"/>
          </a:xfrm>
          <a:custGeom>
            <a:avLst/>
            <a:gdLst/>
            <a:ahLst/>
            <a:rect l="l" t="t" r="r" b="b"/>
            <a:pathLst>
              <a:path w="1056" h="816">
                <a:moveTo>
                  <a:pt x="0" y="0"/>
                </a:moveTo>
                <a:cubicBezTo>
                  <a:pt x="16" y="92"/>
                  <a:pt x="32" y="184"/>
                  <a:pt x="96" y="288"/>
                </a:cubicBezTo>
                <a:cubicBezTo>
                  <a:pt x="160" y="392"/>
                  <a:pt x="224" y="536"/>
                  <a:pt x="384" y="624"/>
                </a:cubicBezTo>
                <a:cubicBezTo>
                  <a:pt x="544" y="712"/>
                  <a:pt x="944" y="784"/>
                  <a:pt x="1056" y="816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4724280"/>
            <a:ext cx="1600200" cy="1295640"/>
          </a:xfrm>
          <a:custGeom>
            <a:avLst/>
            <a:gdLst/>
            <a:ahLst/>
            <a:rect l="l" t="t" r="r" b="b"/>
            <a:pathLst>
              <a:path w="1008" h="816">
                <a:moveTo>
                  <a:pt x="0" y="0"/>
                </a:moveTo>
                <a:cubicBezTo>
                  <a:pt x="28" y="156"/>
                  <a:pt x="56" y="312"/>
                  <a:pt x="144" y="432"/>
                </a:cubicBezTo>
                <a:cubicBezTo>
                  <a:pt x="232" y="552"/>
                  <a:pt x="384" y="656"/>
                  <a:pt x="528" y="720"/>
                </a:cubicBezTo>
                <a:cubicBezTo>
                  <a:pt x="672" y="784"/>
                  <a:pt x="928" y="800"/>
                  <a:pt x="1008" y="816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905120" y="4952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61960" y="4572000"/>
            <a:ext cx="16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lecteur fr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057040" y="533412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160" y="510552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lecteur chau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16200000">
            <a:off x="1638360" y="5524200"/>
            <a:ext cx="152280" cy="1600200"/>
          </a:xfrm>
          <a:custGeom>
            <a:avLst/>
            <a:gdLst>
              <a:gd name="textAreaLeft" fmla="*/ 97200 w 152280"/>
              <a:gd name="textAreaRight" fmla="*/ 152640 w 1522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20" y="6324480"/>
            <a:ext cx="32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one des premiers modes prop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4191120"/>
            <a:ext cx="4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8280" y="46483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0920" y="51055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8640" y="556272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,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LUSION DE L’ETUDE VIBRATO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56236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Résultat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alculs modaux en 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t vérifications expérimentales sur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alculs couplés en sod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500 modes de 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74 modes dans la gamme 0,25 Hz et 1,5 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alcul des niveaux vibratoi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avec la source la plus pénalisa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Niveaux vibratoires (contraintes) accep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038480" y="2438280"/>
            <a:ext cx="4860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38480" y="4419720"/>
            <a:ext cx="4860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038480" y="3581280"/>
            <a:ext cx="4860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038480" y="5562720"/>
            <a:ext cx="4860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SERVATIONS LORS DES ESSAIS A CHAU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556272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0,3 Hz environ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Schéma%20SPX1" descr=""/>
          <p:cNvPicPr/>
          <p:nvPr/>
        </p:nvPicPr>
        <p:blipFill>
          <a:blip r:embed="rId1"/>
          <a:stretch/>
        </p:blipFill>
        <p:spPr>
          <a:xfrm>
            <a:off x="4572000" y="1219320"/>
            <a:ext cx="3425760" cy="50403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1981080"/>
            <a:ext cx="4114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ébattement vertical de la surface libre du collecteur de restitution de plusieurs dizaines de centimèt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ants mouvement de la virole déversoir (nécessitant l’arrêt pour préserver les marges en fatigue des structur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23880" y="6248520"/>
            <a:ext cx="634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ue du circuit du déversoir sur une coupe au niveau d’une pom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243920" y="4952880"/>
            <a:ext cx="136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lecteu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’ali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4080" y="3352680"/>
            <a:ext cx="124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lecteu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 restit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7467120" y="25909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99320" y="2286000"/>
            <a:ext cx="9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ro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éverso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96080" y="426708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lecteu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09480" y="1371600"/>
            <a:ext cx="7696440" cy="5181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ABILITE DU DEVERSO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chéma du mécanism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90720" y="2666880"/>
            <a:ext cx="533160" cy="9907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3657600"/>
            <a:ext cx="914400" cy="6094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24382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90720" y="4267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05120" y="24382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447920" y="2743200"/>
            <a:ext cx="0" cy="1523880"/>
          </a:xfrm>
          <a:prstGeom prst="line">
            <a:avLst/>
          </a:prstGeom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43200" y="2413080"/>
            <a:ext cx="533520" cy="1549440"/>
          </a:xfrm>
          <a:custGeom>
            <a:avLst/>
            <a:gdLst/>
            <a:ahLst/>
            <a:rect l="l" t="t" r="r" b="b"/>
            <a:pathLst>
              <a:path w="336" h="976">
                <a:moveTo>
                  <a:pt x="0" y="112"/>
                </a:moveTo>
                <a:cubicBezTo>
                  <a:pt x="28" y="60"/>
                  <a:pt x="56" y="8"/>
                  <a:pt x="96" y="16"/>
                </a:cubicBezTo>
                <a:cubicBezTo>
                  <a:pt x="136" y="24"/>
                  <a:pt x="200" y="0"/>
                  <a:pt x="240" y="160"/>
                </a:cubicBezTo>
                <a:cubicBezTo>
                  <a:pt x="280" y="320"/>
                  <a:pt x="320" y="840"/>
                  <a:pt x="336" y="976"/>
                </a:cubicBezTo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43200" y="2590920"/>
            <a:ext cx="533520" cy="1295280"/>
          </a:xfrm>
          <a:prstGeom prst="rtTriangl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3886200"/>
            <a:ext cx="914400" cy="3808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743200" y="4267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3657600" y="24382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743200" y="24382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8120" y="2743200"/>
            <a:ext cx="164880" cy="1523880"/>
          </a:xfrm>
          <a:custGeom>
            <a:avLst/>
            <a:gdLst/>
            <a:ahLst/>
            <a:rect l="l" t="t" r="r" b="b"/>
            <a:pathLst>
              <a:path w="152" h="1008">
                <a:moveTo>
                  <a:pt x="144" y="1008"/>
                </a:moveTo>
                <a:cubicBezTo>
                  <a:pt x="148" y="904"/>
                  <a:pt x="152" y="800"/>
                  <a:pt x="144" y="672"/>
                </a:cubicBezTo>
                <a:cubicBezTo>
                  <a:pt x="136" y="544"/>
                  <a:pt x="120" y="352"/>
                  <a:pt x="96" y="240"/>
                </a:cubicBezTo>
                <a:cubicBezTo>
                  <a:pt x="72" y="128"/>
                  <a:pt x="16" y="40"/>
                  <a:pt x="0" y="0"/>
                </a:cubicBezTo>
              </a:path>
            </a:pathLst>
          </a:custGeom>
          <a:noFill/>
          <a:ln w="381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0" y="4267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86400" y="24382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315200" y="24382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0" y="2565360"/>
            <a:ext cx="762120" cy="1244520"/>
          </a:xfrm>
          <a:custGeom>
            <a:avLst/>
            <a:gdLst/>
            <a:ahLst/>
            <a:rect l="l" t="t" r="r" b="b"/>
            <a:pathLst>
              <a:path w="408" h="784">
                <a:moveTo>
                  <a:pt x="0" y="16"/>
                </a:moveTo>
                <a:cubicBezTo>
                  <a:pt x="88" y="8"/>
                  <a:pt x="176" y="0"/>
                  <a:pt x="240" y="16"/>
                </a:cubicBezTo>
                <a:cubicBezTo>
                  <a:pt x="304" y="32"/>
                  <a:pt x="360" y="64"/>
                  <a:pt x="384" y="112"/>
                </a:cubicBezTo>
                <a:cubicBezTo>
                  <a:pt x="408" y="160"/>
                  <a:pt x="400" y="240"/>
                  <a:pt x="384" y="304"/>
                </a:cubicBezTo>
                <a:cubicBezTo>
                  <a:pt x="368" y="368"/>
                  <a:pt x="304" y="416"/>
                  <a:pt x="288" y="496"/>
                </a:cubicBezTo>
                <a:cubicBezTo>
                  <a:pt x="272" y="576"/>
                  <a:pt x="288" y="736"/>
                  <a:pt x="288" y="784"/>
                </a:cubicBezTo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0" y="2514600"/>
            <a:ext cx="609480" cy="1371600"/>
          </a:xfrm>
          <a:prstGeom prst="rtTriangl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0" y="3657600"/>
            <a:ext cx="914400" cy="6094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5029200" y="2742840"/>
            <a:ext cx="0" cy="1523880"/>
          </a:xfrm>
          <a:prstGeom prst="line">
            <a:avLst/>
          </a:prstGeom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0" y="24382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934320" y="3086280"/>
            <a:ext cx="228600" cy="419040"/>
          </a:xfrm>
          <a:custGeom>
            <a:avLst/>
            <a:gdLst/>
            <a:ahLst/>
            <a:rect l="l" t="t" r="r" b="b"/>
            <a:pathLst>
              <a:path w="144" h="264">
                <a:moveTo>
                  <a:pt x="0" y="24"/>
                </a:moveTo>
                <a:cubicBezTo>
                  <a:pt x="36" y="12"/>
                  <a:pt x="72" y="0"/>
                  <a:pt x="96" y="24"/>
                </a:cubicBezTo>
                <a:cubicBezTo>
                  <a:pt x="120" y="48"/>
                  <a:pt x="144" y="128"/>
                  <a:pt x="144" y="168"/>
                </a:cubicBezTo>
                <a:cubicBezTo>
                  <a:pt x="144" y="208"/>
                  <a:pt x="104" y="248"/>
                  <a:pt x="96" y="264"/>
                </a:cubicBezTo>
              </a:path>
            </a:pathLst>
          </a:custGeom>
          <a:solidFill>
            <a:srgbClr val="66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781680" y="3200400"/>
            <a:ext cx="381240" cy="380880"/>
          </a:xfrm>
          <a:prstGeom prst="triangle">
            <a:avLst>
              <a:gd name="adj" fmla="val 50000"/>
            </a:avLst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400800" y="3505320"/>
            <a:ext cx="914400" cy="7617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00800" y="4267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 rot="10722600">
            <a:off x="6780960" y="2893320"/>
            <a:ext cx="227160" cy="694080"/>
          </a:xfrm>
          <a:prstGeom prst="rtTriangl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400800" y="2895480"/>
            <a:ext cx="457200" cy="6098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32440" y="2743200"/>
            <a:ext cx="177840" cy="1523880"/>
          </a:xfrm>
          <a:custGeom>
            <a:avLst/>
            <a:gdLst/>
            <a:ahLst/>
            <a:rect l="l" t="t" r="r" b="b"/>
            <a:pathLst>
              <a:path w="112" h="960">
                <a:moveTo>
                  <a:pt x="16" y="960"/>
                </a:moveTo>
                <a:cubicBezTo>
                  <a:pt x="8" y="776"/>
                  <a:pt x="0" y="592"/>
                  <a:pt x="16" y="432"/>
                </a:cubicBezTo>
                <a:cubicBezTo>
                  <a:pt x="32" y="272"/>
                  <a:pt x="96" y="72"/>
                  <a:pt x="112" y="0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400800" y="24382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38080" y="36576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38080" y="266688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219320" y="3352680"/>
            <a:ext cx="0" cy="5335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67040" y="1905120"/>
            <a:ext cx="77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95680" y="1905120"/>
            <a:ext cx="9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125160" y="2209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01680" y="2209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706800" y="2209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2590920" y="21337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486400" y="21337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971800" y="3352680"/>
            <a:ext cx="0" cy="5335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4800600" y="3352680"/>
            <a:ext cx="0" cy="5335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6629400" y="3352680"/>
            <a:ext cx="0" cy="5335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010280" y="3429000"/>
            <a:ext cx="0" cy="304920"/>
          </a:xfrm>
          <a:prstGeom prst="line">
            <a:avLst/>
          </a:prstGeom>
          <a:ln w="2844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5334120"/>
            <a:ext cx="5689800" cy="799920"/>
          </a:xfrm>
          <a:custGeom>
            <a:avLst/>
            <a:gdLst/>
            <a:ahLst/>
            <a:rect l="l" t="t" r="r" b="b"/>
            <a:pathLst>
              <a:path w="3584" h="504">
                <a:moveTo>
                  <a:pt x="112" y="208"/>
                </a:moveTo>
                <a:cubicBezTo>
                  <a:pt x="176" y="184"/>
                  <a:pt x="312" y="144"/>
                  <a:pt x="400" y="112"/>
                </a:cubicBezTo>
                <a:cubicBezTo>
                  <a:pt x="488" y="80"/>
                  <a:pt x="584" y="32"/>
                  <a:pt x="640" y="16"/>
                </a:cubicBezTo>
                <a:cubicBezTo>
                  <a:pt x="696" y="0"/>
                  <a:pt x="568" y="16"/>
                  <a:pt x="736" y="16"/>
                </a:cubicBezTo>
                <a:cubicBezTo>
                  <a:pt x="904" y="16"/>
                  <a:pt x="1488" y="16"/>
                  <a:pt x="1648" y="16"/>
                </a:cubicBezTo>
                <a:cubicBezTo>
                  <a:pt x="1808" y="16"/>
                  <a:pt x="1680" y="8"/>
                  <a:pt x="1696" y="16"/>
                </a:cubicBezTo>
                <a:cubicBezTo>
                  <a:pt x="1712" y="24"/>
                  <a:pt x="1688" y="32"/>
                  <a:pt x="1744" y="64"/>
                </a:cubicBezTo>
                <a:cubicBezTo>
                  <a:pt x="1800" y="96"/>
                  <a:pt x="1912" y="168"/>
                  <a:pt x="2032" y="208"/>
                </a:cubicBezTo>
                <a:cubicBezTo>
                  <a:pt x="2152" y="248"/>
                  <a:pt x="2352" y="288"/>
                  <a:pt x="2464" y="304"/>
                </a:cubicBezTo>
                <a:cubicBezTo>
                  <a:pt x="2576" y="320"/>
                  <a:pt x="2600" y="320"/>
                  <a:pt x="2704" y="304"/>
                </a:cubicBezTo>
                <a:cubicBezTo>
                  <a:pt x="2808" y="288"/>
                  <a:pt x="2984" y="248"/>
                  <a:pt x="3088" y="208"/>
                </a:cubicBezTo>
                <a:cubicBezTo>
                  <a:pt x="3192" y="168"/>
                  <a:pt x="3280" y="96"/>
                  <a:pt x="3328" y="64"/>
                </a:cubicBezTo>
                <a:cubicBezTo>
                  <a:pt x="3376" y="32"/>
                  <a:pt x="3352" y="24"/>
                  <a:pt x="3376" y="16"/>
                </a:cubicBezTo>
                <a:cubicBezTo>
                  <a:pt x="3400" y="8"/>
                  <a:pt x="3440" y="16"/>
                  <a:pt x="3472" y="16"/>
                </a:cubicBezTo>
                <a:cubicBezTo>
                  <a:pt x="3504" y="16"/>
                  <a:pt x="3552" y="0"/>
                  <a:pt x="3568" y="16"/>
                </a:cubicBezTo>
                <a:cubicBezTo>
                  <a:pt x="3584" y="32"/>
                  <a:pt x="3568" y="40"/>
                  <a:pt x="3568" y="112"/>
                </a:cubicBezTo>
                <a:cubicBezTo>
                  <a:pt x="3568" y="184"/>
                  <a:pt x="3576" y="392"/>
                  <a:pt x="3568" y="448"/>
                </a:cubicBezTo>
                <a:cubicBezTo>
                  <a:pt x="3560" y="504"/>
                  <a:pt x="3568" y="448"/>
                  <a:pt x="3520" y="448"/>
                </a:cubicBezTo>
                <a:cubicBezTo>
                  <a:pt x="3472" y="448"/>
                  <a:pt x="3416" y="448"/>
                  <a:pt x="3280" y="448"/>
                </a:cubicBezTo>
                <a:cubicBezTo>
                  <a:pt x="3144" y="448"/>
                  <a:pt x="3064" y="448"/>
                  <a:pt x="2704" y="448"/>
                </a:cubicBezTo>
                <a:cubicBezTo>
                  <a:pt x="2344" y="448"/>
                  <a:pt x="1520" y="448"/>
                  <a:pt x="1120" y="448"/>
                </a:cubicBezTo>
                <a:cubicBezTo>
                  <a:pt x="720" y="448"/>
                  <a:pt x="480" y="448"/>
                  <a:pt x="304" y="448"/>
                </a:cubicBezTo>
                <a:cubicBezTo>
                  <a:pt x="128" y="448"/>
                  <a:pt x="112" y="456"/>
                  <a:pt x="64" y="448"/>
                </a:cubicBezTo>
                <a:cubicBezTo>
                  <a:pt x="16" y="440"/>
                  <a:pt x="24" y="432"/>
                  <a:pt x="16" y="400"/>
                </a:cubicBezTo>
                <a:cubicBezTo>
                  <a:pt x="8" y="368"/>
                  <a:pt x="0" y="288"/>
                  <a:pt x="16" y="256"/>
                </a:cubicBezTo>
                <a:cubicBezTo>
                  <a:pt x="32" y="224"/>
                  <a:pt x="48" y="232"/>
                  <a:pt x="112" y="208"/>
                </a:cubicBezTo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0" y="5029200"/>
            <a:ext cx="1676520" cy="317520"/>
          </a:xfrm>
          <a:custGeom>
            <a:avLst/>
            <a:gdLst/>
            <a:ahLst/>
            <a:rect l="l" t="t" r="r" b="b"/>
            <a:pathLst>
              <a:path w="1056" h="200">
                <a:moveTo>
                  <a:pt x="0" y="200"/>
                </a:moveTo>
                <a:cubicBezTo>
                  <a:pt x="60" y="168"/>
                  <a:pt x="120" y="136"/>
                  <a:pt x="192" y="104"/>
                </a:cubicBezTo>
                <a:cubicBezTo>
                  <a:pt x="264" y="72"/>
                  <a:pt x="336" y="16"/>
                  <a:pt x="432" y="8"/>
                </a:cubicBezTo>
                <a:cubicBezTo>
                  <a:pt x="528" y="0"/>
                  <a:pt x="664" y="24"/>
                  <a:pt x="768" y="56"/>
                </a:cubicBezTo>
                <a:cubicBezTo>
                  <a:pt x="872" y="88"/>
                  <a:pt x="1008" y="176"/>
                  <a:pt x="1056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295280" y="5486400"/>
            <a:ext cx="5639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133720" y="5486400"/>
            <a:ext cx="0" cy="30492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90920" y="5486400"/>
            <a:ext cx="0" cy="30492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48120" y="5486400"/>
            <a:ext cx="0" cy="30492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505320" y="5486400"/>
            <a:ext cx="0" cy="30492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5486400"/>
            <a:ext cx="0" cy="30492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4495680" y="5181480"/>
            <a:ext cx="1526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648680" y="4876920"/>
            <a:ext cx="183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 du déverso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705720" y="5181480"/>
            <a:ext cx="228600" cy="152640"/>
          </a:xfrm>
          <a:custGeom>
            <a:avLst/>
            <a:gdLst/>
            <a:ahLst/>
            <a:rect l="l" t="t" r="r" b="b"/>
            <a:pathLst>
              <a:path w="144" h="96">
                <a:moveTo>
                  <a:pt x="0" y="96"/>
                </a:moveTo>
                <a:cubicBezTo>
                  <a:pt x="60" y="56"/>
                  <a:pt x="120" y="16"/>
                  <a:pt x="144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629400" y="5486400"/>
            <a:ext cx="0" cy="30492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934320" y="5486400"/>
            <a:ext cx="0" cy="30492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295280" y="48769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934320" y="48006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ELIS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458200" cy="533376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ollecteur d’alimentation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dition de  surface libre :  p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g Z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source de débit fluctuant : 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Δq</a:t>
            </a:r>
            <a:r>
              <a:rPr b="0" lang="fr-FR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t,θ) = − k√g Z</a:t>
            </a:r>
            <a:r>
              <a:rPr b="0" lang="fr-FR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fr-FR" sz="24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3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elation validée en écoulement permanent ; k = coeffici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nction de la forme du déversoir et de la tension superficiel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 flu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ollecteur de restitution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dition de  surface libre :  p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g Z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source de débit fluctuant : 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Δq</a:t>
            </a:r>
            <a:r>
              <a:rPr b="0" lang="fr-FR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2 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t,θ)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= − Δq</a:t>
            </a:r>
            <a:r>
              <a:rPr b="0" lang="fr-FR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1 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t − τ,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Force :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F(t,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θ) =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−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ρ</a:t>
            </a:r>
            <a:r>
              <a:rPr b="0" lang="fr-FR" sz="2400" spc="-1" strike="noStrike" baseline="-25000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Δq</a:t>
            </a:r>
            <a:r>
              <a:rPr b="0" lang="fr-FR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2 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t,θ) V</a:t>
            </a:r>
            <a:r>
              <a:rPr b="0" lang="fr-FR" sz="2400" spc="-1" strike="noStrike" baseline="-25000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τ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et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ont calculés pour un écoulement permanent à l’aide de la corrélation de Manning. Il sont donc fonctions du </a:t>
            </a:r>
            <a:r>
              <a:rPr b="0" lang="fr-FR" sz="2000" spc="-1" strike="noStrike">
                <a:solidFill>
                  <a:srgbClr val="3333cc"/>
                </a:solidFill>
                <a:latin typeface="Times New Roman"/>
              </a:rPr>
              <a:t>débit Q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et de la </a:t>
            </a:r>
            <a:r>
              <a:rPr b="0" lang="fr-FR" sz="2000" spc="-1" strike="noStrike">
                <a:solidFill>
                  <a:srgbClr val="3333cc"/>
                </a:solidFill>
                <a:latin typeface="Times New Roman"/>
              </a:rPr>
              <a:t>hauteur de chute H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467480" y="1828800"/>
            <a:ext cx="533520" cy="12952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467480" y="3124080"/>
            <a:ext cx="914400" cy="60984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467480" y="17524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381880" y="17524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924680" y="2057400"/>
            <a:ext cx="0" cy="16765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8880" y="2057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7238520" y="1828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7238880" y="3352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381880" y="3124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7315200" y="1828440"/>
            <a:ext cx="0" cy="2286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238880" y="20574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36120" y="2514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8534520" y="3123720"/>
            <a:ext cx="0" cy="2286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940440" y="167652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Z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464320" y="281952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Z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8381520" y="2057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535960" y="1828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83815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535960" y="3200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001000" y="3352680"/>
            <a:ext cx="0" cy="3049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00280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001000" y="1905120"/>
            <a:ext cx="0" cy="3045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931520" y="1676520"/>
            <a:ext cx="50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Δq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001000" y="2666880"/>
            <a:ext cx="0" cy="3049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930080" y="2590920"/>
            <a:ext cx="38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V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NEARISATION DU MODELE et ETUDE DE STABIL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51814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linéarise les conditions aux limites et on les applique sur la position moyenne des surfaces li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effectue l’étude de stabilité : Pour un ordre azimutal n correspondant aux modes les plus sensibl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1523880" y="304776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523880" y="50292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5105520" y="304776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105520" y="50292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124080" y="4800600"/>
            <a:ext cx="990720" cy="228600"/>
          </a:xfrm>
          <a:custGeom>
            <a:avLst/>
            <a:gdLst/>
            <a:ahLst/>
            <a:rect l="l" t="t" r="r" b="b"/>
            <a:pathLst>
              <a:path w="624" h="144">
                <a:moveTo>
                  <a:pt x="0" y="144"/>
                </a:moveTo>
                <a:cubicBezTo>
                  <a:pt x="140" y="132"/>
                  <a:pt x="280" y="120"/>
                  <a:pt x="384" y="96"/>
                </a:cubicBezTo>
                <a:cubicBezTo>
                  <a:pt x="488" y="72"/>
                  <a:pt x="584" y="16"/>
                  <a:pt x="624" y="0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438280" y="3352680"/>
            <a:ext cx="914400" cy="1600200"/>
          </a:xfrm>
          <a:custGeom>
            <a:avLst/>
            <a:gdLst/>
            <a:ahLst/>
            <a:rect l="l" t="t" r="r" b="b"/>
            <a:pathLst>
              <a:path w="576" h="1008">
                <a:moveTo>
                  <a:pt x="576" y="0"/>
                </a:moveTo>
                <a:cubicBezTo>
                  <a:pt x="576" y="104"/>
                  <a:pt x="576" y="208"/>
                  <a:pt x="528" y="336"/>
                </a:cubicBezTo>
                <a:cubicBezTo>
                  <a:pt x="480" y="464"/>
                  <a:pt x="376" y="656"/>
                  <a:pt x="288" y="768"/>
                </a:cubicBezTo>
                <a:cubicBezTo>
                  <a:pt x="200" y="880"/>
                  <a:pt x="48" y="968"/>
                  <a:pt x="0" y="1008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438280" y="4495680"/>
            <a:ext cx="1676520" cy="457200"/>
          </a:xfrm>
          <a:custGeom>
            <a:avLst/>
            <a:gdLst/>
            <a:ahLst/>
            <a:rect l="l" t="t" r="r" b="b"/>
            <a:pathLst>
              <a:path w="1056" h="288">
                <a:moveTo>
                  <a:pt x="0" y="288"/>
                </a:moveTo>
                <a:cubicBezTo>
                  <a:pt x="128" y="288"/>
                  <a:pt x="256" y="288"/>
                  <a:pt x="432" y="240"/>
                </a:cubicBezTo>
                <a:cubicBezTo>
                  <a:pt x="608" y="192"/>
                  <a:pt x="952" y="40"/>
                  <a:pt x="1056" y="0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657600" y="3352680"/>
            <a:ext cx="482760" cy="711360"/>
          </a:xfrm>
          <a:custGeom>
            <a:avLst/>
            <a:gdLst/>
            <a:ahLst/>
            <a:rect l="l" t="t" r="r" b="b"/>
            <a:pathLst>
              <a:path w="304" h="448">
                <a:moveTo>
                  <a:pt x="112" y="0"/>
                </a:moveTo>
                <a:cubicBezTo>
                  <a:pt x="116" y="24"/>
                  <a:pt x="120" y="48"/>
                  <a:pt x="112" y="96"/>
                </a:cubicBezTo>
                <a:cubicBezTo>
                  <a:pt x="104" y="144"/>
                  <a:pt x="80" y="240"/>
                  <a:pt x="64" y="288"/>
                </a:cubicBezTo>
                <a:cubicBezTo>
                  <a:pt x="48" y="336"/>
                  <a:pt x="24" y="360"/>
                  <a:pt x="16" y="384"/>
                </a:cubicBezTo>
                <a:cubicBezTo>
                  <a:pt x="8" y="408"/>
                  <a:pt x="0" y="424"/>
                  <a:pt x="16" y="432"/>
                </a:cubicBezTo>
                <a:cubicBezTo>
                  <a:pt x="32" y="440"/>
                  <a:pt x="64" y="448"/>
                  <a:pt x="112" y="432"/>
                </a:cubicBezTo>
                <a:cubicBezTo>
                  <a:pt x="160" y="416"/>
                  <a:pt x="272" y="352"/>
                  <a:pt x="304" y="336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523880" y="335268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14800" y="33526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05120" y="3352680"/>
            <a:ext cx="939600" cy="1676520"/>
          </a:xfrm>
          <a:custGeom>
            <a:avLst/>
            <a:gdLst/>
            <a:ahLst/>
            <a:rect l="l" t="t" r="r" b="b"/>
            <a:pathLst>
              <a:path w="592" h="1056">
                <a:moveTo>
                  <a:pt x="576" y="0"/>
                </a:moveTo>
                <a:cubicBezTo>
                  <a:pt x="584" y="56"/>
                  <a:pt x="592" y="112"/>
                  <a:pt x="576" y="192"/>
                </a:cubicBezTo>
                <a:cubicBezTo>
                  <a:pt x="560" y="272"/>
                  <a:pt x="544" y="360"/>
                  <a:pt x="480" y="480"/>
                </a:cubicBezTo>
                <a:cubicBezTo>
                  <a:pt x="416" y="600"/>
                  <a:pt x="272" y="816"/>
                  <a:pt x="192" y="912"/>
                </a:cubicBezTo>
                <a:cubicBezTo>
                  <a:pt x="112" y="1008"/>
                  <a:pt x="32" y="1032"/>
                  <a:pt x="0" y="1056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753200" y="358128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820240" y="403848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s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105520" y="3352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467480" y="33526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144800" y="3048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192920" y="4648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726080" y="3048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621920" y="4648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29480" y="3352680"/>
            <a:ext cx="876240" cy="863640"/>
          </a:xfrm>
          <a:custGeom>
            <a:avLst/>
            <a:gdLst/>
            <a:ahLst/>
            <a:rect l="l" t="t" r="r" b="b"/>
            <a:pathLst>
              <a:path w="552" h="544">
                <a:moveTo>
                  <a:pt x="120" y="0"/>
                </a:moveTo>
                <a:cubicBezTo>
                  <a:pt x="124" y="20"/>
                  <a:pt x="128" y="40"/>
                  <a:pt x="120" y="96"/>
                </a:cubicBezTo>
                <a:cubicBezTo>
                  <a:pt x="112" y="152"/>
                  <a:pt x="88" y="280"/>
                  <a:pt x="72" y="336"/>
                </a:cubicBezTo>
                <a:cubicBezTo>
                  <a:pt x="56" y="392"/>
                  <a:pt x="32" y="400"/>
                  <a:pt x="24" y="432"/>
                </a:cubicBezTo>
                <a:cubicBezTo>
                  <a:pt x="16" y="464"/>
                  <a:pt x="0" y="512"/>
                  <a:pt x="24" y="528"/>
                </a:cubicBezTo>
                <a:cubicBezTo>
                  <a:pt x="48" y="544"/>
                  <a:pt x="120" y="544"/>
                  <a:pt x="168" y="528"/>
                </a:cubicBezTo>
                <a:cubicBezTo>
                  <a:pt x="216" y="512"/>
                  <a:pt x="264" y="480"/>
                  <a:pt x="312" y="432"/>
                </a:cubicBezTo>
                <a:cubicBezTo>
                  <a:pt x="360" y="384"/>
                  <a:pt x="416" y="312"/>
                  <a:pt x="456" y="240"/>
                </a:cubicBezTo>
                <a:cubicBezTo>
                  <a:pt x="496" y="168"/>
                  <a:pt x="536" y="40"/>
                  <a:pt x="552" y="0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096600" y="441972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92040" y="350532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s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143000" y="5105520"/>
            <a:ext cx="3581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Comportement bimod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Couplage par la virole déversoir des 2 modes de ballottement des coll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952880" y="5105520"/>
            <a:ext cx="3292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Comportement monomod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 fluide – structure (ballottement secondai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ALYSE SUR MAQUETTES DE LA STABIL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2 maquettes : plane (LDP) et cylindrique (LDC) 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aramètre de similitude de ba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 = fréquences de ballottement/fréquences fluidélastiqu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362400" y="2819520"/>
            <a:ext cx="2096280" cy="510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g = (ρ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 D)/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62120" y="4038480"/>
            <a:ext cx="3962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s diagrammes de stabilité cadrent très bien avec le modè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ls ne sont pas directement transposables à la réalité du fait des différentes distorsions (Reynolds, Froude, géométrie et complexité des structures, amortissements,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334120" y="44956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5880" y="41911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334120" y="50292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334120" y="556272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258520" y="457200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X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4120" y="510552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920" y="556272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D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172920" y="4114800"/>
            <a:ext cx="9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éch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162920" y="41911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392600" y="4114800"/>
            <a:ext cx="49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401880" y="4572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324480" y="510552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324480" y="556272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315200" y="45720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,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315200" y="51055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,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315200" y="55627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,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ALYSE SUR SITE DE LA STABIL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bes limites plus compliquées mais limites globales bien représentées par le modèl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vibr%20LMFBR9" descr=""/>
          <p:cNvPicPr/>
          <p:nvPr/>
        </p:nvPicPr>
        <p:blipFill>
          <a:blip r:embed="rId1"/>
          <a:stretch/>
        </p:blipFill>
        <p:spPr>
          <a:xfrm>
            <a:off x="2590920" y="2590920"/>
            <a:ext cx="4114800" cy="320508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2971800" y="2743200"/>
            <a:ext cx="3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097680" y="50292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RONOLOG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 début des années 80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ude vibratoire de SPX1 à l’aide de CA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érimentations sur site pendant la co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85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ais à chaud sur si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 du phénomène d’instabilité du déverso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e au point d’un modèle et validation sur 2 maquettes hydro élast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 du problème par modification des paramètres hydraul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imination du phénomène d’instabilit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odification hydrauliq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Q et H) a permis de sortir des plages d’instabil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ème résolu en quelques moi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seignement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lgré une analyse vibratoire préliminaire très sérieuse, le phénomène n’a pas été prévu du fait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so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ractère nouvea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type de mécanisme jamais observé – saut entre Phénix et Superphéni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la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lexité des structu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t du caractèr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o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le déversoir est un « détail» dans l’ensemble du bloc réacteu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prévision de tels phénomènes reste toujours très diffic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038480" y="1905120"/>
            <a:ext cx="4860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CHEMA GENERAL DU BLOC REACTE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548640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c réacteur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vibr%20LMFBR2" descr=""/>
          <p:cNvPicPr/>
          <p:nvPr/>
        </p:nvPicPr>
        <p:blipFill>
          <a:blip r:embed="rId1"/>
          <a:stretch/>
        </p:blipFill>
        <p:spPr>
          <a:xfrm>
            <a:off x="4495680" y="1295280"/>
            <a:ext cx="4114800" cy="51055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09480" y="175248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 ensemble tridimensionnel de coques minces séparées par des volumes flu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133720" y="3048120"/>
            <a:ext cx="48564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3429000"/>
            <a:ext cx="3581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de complexité de la structure des modes de vibration du fait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ques mi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éfauts de fo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upl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r les lames flu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urfaces lib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lu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RUCTURE MODALE DES COQUES MINCES DE REV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1676520"/>
            <a:ext cx="8686800" cy="487656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15000" y="24382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41040 h 1447920"/>
              <a:gd name="textAreaBottom" fmla="*/ 14068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83"/>
                  <a:pt x="10800" y="1966"/>
                </a:cubicBezTo>
                <a:lnTo>
                  <a:pt x="10800" y="8834"/>
                </a:lnTo>
                <a:cubicBezTo>
                  <a:pt x="10800" y="9817"/>
                  <a:pt x="16200" y="10800"/>
                  <a:pt x="21600" y="10800"/>
                </a:cubicBezTo>
                <a:cubicBezTo>
                  <a:pt x="16200" y="10800"/>
                  <a:pt x="10800" y="11783"/>
                  <a:pt x="10800" y="12766"/>
                </a:cubicBezTo>
                <a:lnTo>
                  <a:pt x="10800" y="19634"/>
                </a:lnTo>
                <a:cubicBezTo>
                  <a:pt x="10800" y="2061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6440" y="3581280"/>
            <a:ext cx="1709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ompor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membran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α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~ 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865120" y="2743200"/>
            <a:ext cx="1709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ompor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de flex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α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~ 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4800600"/>
            <a:ext cx="1616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ditions aux limite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 = encastr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 = li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13400" y="1828800"/>
            <a:ext cx="2189520" cy="825480"/>
          </a:xfrm>
          <a:prstGeom prst="rect">
            <a:avLst/>
          </a:prstGeom>
          <a:solidFill>
            <a:srgbClr val="ff99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X : e/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/D ≈ 0,5 à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vibr%20LMFBR10" descr=""/>
          <p:cNvPicPr/>
          <p:nvPr/>
        </p:nvPicPr>
        <p:blipFill>
          <a:blip r:embed="rId1"/>
          <a:stretch/>
        </p:blipFill>
        <p:spPr>
          <a:xfrm>
            <a:off x="2057400" y="1981080"/>
            <a:ext cx="3581280" cy="43434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637880" y="4952880"/>
            <a:ext cx="423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olution de la pulsation de résona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 premiers modes axiaux en fon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l’indice azimutal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810400" y="4343400"/>
            <a:ext cx="2552040" cy="440640"/>
          </a:xfrm>
          <a:prstGeom prst="rect">
            <a:avLst/>
          </a:prstGeom>
          <a:solidFill>
            <a:srgbClr val="ffff66"/>
          </a:solidFill>
          <a:ln w="9360">
            <a:solidFill>
              <a:srgbClr val="66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 2 α(n) /D (E/ρ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971800" y="2057400"/>
            <a:ext cx="120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/D = 0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350532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FFET DES DEFAUTS DE FO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518148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Défaut « sinusoïdal »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vibr%20LMFBR1" descr=""/>
          <p:cNvPicPr/>
          <p:nvPr/>
        </p:nvPicPr>
        <p:blipFill>
          <a:blip r:embed="rId1"/>
          <a:stretch/>
        </p:blipFill>
        <p:spPr>
          <a:xfrm>
            <a:off x="4419720" y="2057400"/>
            <a:ext cx="3919320" cy="3511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H="1">
            <a:off x="700992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2209680"/>
            <a:ext cx="3048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 = δ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s n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 sin πz/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315920" y="4038480"/>
            <a:ext cx="12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ns défa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315200" y="3352680"/>
            <a:ext cx="1411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éfaut 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7238520" y="373392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66680" y="2819520"/>
            <a:ext cx="1517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éfaut 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00800" y="32767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773840" y="4952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30640" y="5257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1520" y="5257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92760" y="5257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49760" y="5257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73640" y="5257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554880" y="5257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935760" y="5257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17000" y="5257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77640" y="228600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éq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95680" y="5562720"/>
            <a:ext cx="390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olution des fréquences de résonance en fonction de l’ordre azimutal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6760" y="2133720"/>
            <a:ext cx="118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e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2743200"/>
            <a:ext cx="4856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239960" y="4495680"/>
            <a:ext cx="155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s coupl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3200400"/>
            <a:ext cx="3809880" cy="35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’effet d’un défaut de l’ordre de l’épaisseur de la coque est important sur les modes tels qu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n – n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= 0,  1 ou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      f 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|n – n0|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≈  f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tant la fréquence de résonance sans défau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ERACTION FLUIDE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533412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mes minces de révolution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plages tridimensionnel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vibr%20LMFBR3" descr=""/>
          <p:cNvPicPr/>
          <p:nvPr/>
        </p:nvPicPr>
        <p:blipFill>
          <a:blip r:embed="rId1"/>
          <a:stretch/>
        </p:blipFill>
        <p:spPr>
          <a:xfrm>
            <a:off x="5486400" y="1447920"/>
            <a:ext cx="3097080" cy="4290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562720" y="57150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uplage fluide structure au niveau des traversées de pom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2438280"/>
            <a:ext cx="47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te diminution des fréquences de résonance : Rapport masse ajoutée fluide / masse structur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 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733920"/>
            <a:ext cx="48564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4114800"/>
            <a:ext cx="428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mières résonances vers 0,8 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533412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particulier au niveau des traversées des pompes et des échang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30120" y="1828800"/>
            <a:ext cx="3419640" cy="459720"/>
          </a:xfrm>
          <a:prstGeom prst="rect">
            <a:avLst/>
          </a:prstGeom>
          <a:solidFill>
            <a:srgbClr val="ff99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X1 : épaisseur/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39116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7391520" y="35812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543800" y="24382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dan con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96080" y="3276720"/>
            <a:ext cx="8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dan tor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94360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05520" y="2895480"/>
            <a:ext cx="115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ve princip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ES DE BALLOTTEMEN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518184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ésence de surfaces libres dans le champ de pesanteur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905120"/>
            <a:ext cx="474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s de ballottement importants pour les structures si :</a:t>
            </a:r>
            <a:r>
              <a:rPr b="0" lang="en-US" sz="2400" spc="-1" strike="noStrike">
                <a:solidFill>
                  <a:srgbClr val="000000"/>
                </a:solidFill>
                <a:latin typeface="French Script MT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French Script MT"/>
              </a:rPr>
              <a:t>F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ω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/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114800" y="2971800"/>
          <a:ext cx="4410000" cy="3025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2971800"/>
                    <a:ext cx="441000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2743200" y="22096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2895480"/>
            <a:ext cx="3352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xemp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coque cylindrique encastrée-libre couplée à une lame fluide avec surface libre (dimensions SPX1)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olution des fréquences de résonance en fonction de l’ordre azimut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028840" y="3809880"/>
            <a:ext cx="304920" cy="3049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04800" y="3505320"/>
            <a:ext cx="26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Modes « fluide/structure 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5257800" y="5105160"/>
            <a:ext cx="38088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637600" y="5105520"/>
            <a:ext cx="22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Modes de ballott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078760" y="5257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20440" y="3124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éq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38680" y="419112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05120" y="5181480"/>
            <a:ext cx="48564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5486400"/>
            <a:ext cx="266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plage possible dans la zone du minim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OIX DE LA MODELIS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se par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ynthèse moda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lon la procédure libr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 modal des sous structures : Ensembles coques lames fluides d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évolu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grandes viroles, redans, traversées de pompes et d’échangeurs intermédiair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cordement des sous structures avec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rrection de contribution des modes négligé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se en considération approchée du couplage dû au grands volumes flu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il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QUAMODE              CASTEM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STANA                  OSCAR (CASTEM 2000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81280" y="5562720"/>
            <a:ext cx="533520" cy="152280"/>
          </a:xfrm>
          <a:prstGeom prst="rightArrow">
            <a:avLst>
              <a:gd name="adj1" fmla="val 50000"/>
              <a:gd name="adj2" fmla="val 8758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81280" y="6019920"/>
            <a:ext cx="533520" cy="152280"/>
          </a:xfrm>
          <a:prstGeom prst="rightArrow">
            <a:avLst>
              <a:gd name="adj1" fmla="val 50000"/>
              <a:gd name="adj2" fmla="val 8758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ILLAGES des SOUS STRU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semble grandes viroles, redans, lames fluide et grands volumes fluide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vibr%20LMFBR5" descr=""/>
          <p:cNvPicPr/>
          <p:nvPr/>
        </p:nvPicPr>
        <p:blipFill>
          <a:blip r:embed="rId1"/>
          <a:stretch/>
        </p:blipFill>
        <p:spPr>
          <a:xfrm>
            <a:off x="1447920" y="2057400"/>
            <a:ext cx="63514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21:17:09Z</dcterms:created>
  <dc:creator>rené-jean Gibert</dc:creator>
  <dc:description/>
  <dc:language>en-US</dc:language>
  <cp:lastModifiedBy>rené-jean Gibert</cp:lastModifiedBy>
  <dcterms:modified xsi:type="dcterms:W3CDTF">2005-11-23T21:59:08Z</dcterms:modified>
  <cp:revision>26</cp:revision>
  <dc:subject/>
  <dc:title> </dc:title>
</cp:coreProperties>
</file>