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EF1-277F-49DB-B19A-F67C4422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E40B-591B-473C-B97B-89000582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22A9-C108-47B6-A62C-FFBA4E27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1FD-71ED-45E8-AF2D-28BCDF0A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C92B-3FBA-4DFD-AF9D-9824815E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A6C-CB53-4DD8-9409-BEFB5BEB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13F7-45A7-4C6C-9673-61B6968E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377-2EC5-4420-A664-71FB542C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5B92-B439-4548-BAA4-CA128AB2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90EA-F0B7-4E59-B942-293F0D29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A9E-30A7-4F52-9915-D0F82909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DB6F-3141-4B65-AF15-7828E394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3FE1-7A0F-453F-A342-B324830A71F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428760"/>
            <a:ext cx="9753840" cy="771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58920" y="-531720"/>
            <a:ext cx="5599080" cy="80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lques caractéristiques de Castem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èle algébrique: rationalisation de la connaiss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u de types d’obj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érateurs atomiques et géné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x d’un niveau de descri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de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érateurs d’impression ou de 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é d’utilis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ègles: régularité, visibilité, localité, orthogon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en ligne. C’est elle qui a r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trapage des erreurs. Pas de pl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tem2000 en 198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cement en Janvier 1986 (linéai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éliorations du langag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des procédures pour l’écriture d’algorith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hodologie de développ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elier logiciel, réunions de développement, spécifications formelles avant le cod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voir tout f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veloppements en général facile grâce à la modula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ques idées puissantes: le format unique de fichier, la granularité des opérations, le champs par élément, l’utilisation des multiplicateurs de Lag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 opérations difficiles: le ménage, les sauvegardes-restau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s et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bjets immu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ctions : création et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présentation cano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éconditi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rme factorisée d’une m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our, enveloppe de mail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aleurs des fonction de 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 CEA après 198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édération des nouveaux développements en Méca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ivée des fluides et autres (électromagnétisme, optique, hydrogéolog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écessité d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autom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toyage automatique de la mém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ation au matér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des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inter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8Mo à 8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32 à 64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1 à 2 process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 NB à la coul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 traceur à l’écran graphique 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rquoi fai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de calcul par éléments finis en méca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e-forme de développement d’outils mét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e-forme d’accueil de développements vari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il de pré et post trai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bliothèque de fo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ant logiciel  spécia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italisation de la connaiss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utilisation de développements spéc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emple du béton (IRS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emier modèle adoucissant dans PAS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gorithme non-linéaire adap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èle multi-crit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présentation des variables int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ément enrichi avec saut de dé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mulation d’élé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ultiphysique - thermoméca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èles et algorith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élioration incrémentale (Bét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llage et projection de ch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– changement de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hode numérique, taille du probl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élisation du ferrail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lage indépendants des armatures et du bé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élisation des câ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e en précontrai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ttement dans les g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élisation des lev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éamb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t : Les mathématiques représentent étonnamment bien l’un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llaire : On utilise les mathématiques pour décrire le monde (états reliés des lo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babyloniens ont introduit le modèle algébrique (tablettes de Nippur 2200 avant J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èbre : ensemble muni de lois de composition interne. Deux concepts : Abstraction et relation entre abstractions (ex : 2 + 2 =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éminaire Elan 20/01/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bjets de nature mathématique: champs, m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bjets de nature physique ou mathématique: modè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blème du niveau d’abstraction des obj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llage - géomé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volution de certains objets vers la physique: par exemple pour les conditions aux limites, remplacement des rigidité-champoint par des modèles-chame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odèle ma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ucoup plus primi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 incantation engendre une ré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èle descriptif (non explicat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écialisation des acteurs. Pluie, fertilité, moisson,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mple: Modèle objet en informa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ant 8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ème CEASE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sieurs codes spécialisé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llage : CO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s : PASTEL, TRICO, BILBO, TEDEL, TETHYS, IN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traitements : VISU, TEMPS, E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ée de données orientée 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soudre systè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er contrai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cement GIB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llage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écessité de réutiliser des données (positions des points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écessité d’identifier des parties du maillage (contour, lignes, surfaces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veau code de maillage: GI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on d’objet nommé. Point, Mail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on d’opération entre objets: DROI, TRANSLATION, ET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ibi en 19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énéralisation concept d’objet: Entiers, Réels, Mots, Opér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t : Nom, Type, Va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ésentation inform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écification fonctionnelle des opér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sultat(s) = Opérateur Opérande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riture de jeux de données avant la programmation du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78168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58920" y="-171360"/>
            <a:ext cx="678168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tem2000 en 19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ncement du projet Castem200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tension de Gibi aux calculs en Méca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st-traitement intég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alyse modale (Osc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seul code (modulai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5:56:53Z</dcterms:created>
  <dc:creator>Achille Talon</dc:creator>
  <dc:description/>
  <dc:language>en-US</dc:language>
  <cp:lastModifiedBy> Achille Talon</cp:lastModifiedBy>
  <dcterms:modified xsi:type="dcterms:W3CDTF">2005-11-25T08:09:05Z</dcterms:modified>
  <cp:revision>11</cp:revision>
  <dc:subject/>
  <dc:title>Préambule1</dc:title>
</cp:coreProperties>
</file>