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80513" cy="684053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9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788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9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788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9000" y="272880"/>
            <a:ext cx="8261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e5e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e5e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562360" y="6384600"/>
            <a:ext cx="1912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5e5e5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e5e5e"/>
                </a:solidFill>
                <a:latin typeface="Times New Roman"/>
              </a:rPr>
              <a:t>Novembr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9640" y="6384600"/>
            <a:ext cx="50641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5e5e5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e5e5e"/>
                </a:solidFill>
                <a:latin typeface="Times New Roman"/>
              </a:rPr>
              <a:t>Laboratoire d’Intégrité des Structures et Norm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26360" y="6386400"/>
            <a:ext cx="1496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F599-1B48-4A9A-B9C1-103E3702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0000" y="6404040"/>
            <a:ext cx="856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09480"/>
            <a:ext cx="7467480" cy="0"/>
          </a:xfrm>
          <a:prstGeom prst="line">
            <a:avLst/>
          </a:prstGeom>
          <a:ln w="28440">
            <a:solidFill>
              <a:srgbClr val="ffb3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98360" y="324000"/>
            <a:ext cx="762120" cy="753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9000" y="272880"/>
            <a:ext cx="8261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lick to edit the title text format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960" y="2103480"/>
            <a:ext cx="846000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Times New Roman"/>
              </a:rPr>
              <a:t>Objectifs de la présentation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Présentation, discussion des particularités liées à la mécanique de la rupture, ses besoins et ses difficultés spécif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Présentation d’exemples concr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Times New Roman"/>
              </a:rPr>
              <a:t>Quels objectifs généraux pour ces calculs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L’objectif principal est en général de déterminer les conditions d’amorçage ou de propagation des fissure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prévoir les chargements, les conditions pouvant conduire à un amorçage de fissure (règles et critères de dimensionn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comprendre les conditions d’amorçage (interprétations d’essai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- Pour estimer les vitesses de propagation, analyser leur stabi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63720" y="1116000"/>
            <a:ext cx="5709960" cy="52056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st3M et la mécanique de la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42080" y="75564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280" y="1260360"/>
            <a:ext cx="83710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ut-on obtenir une fissuration profonde sous sollicitation thermique cycliqu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ut-on l’estimer à l’aide de la loi de Paris du matériau da/dN = C.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veloppement d’un nouvel essai démonstr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terprétation par le calcul – Validation ou non du cri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fficulté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e cas d’essais thermiques, le chargement mécaniqu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mposé n’est pas directement mesuré : il faut avoir recours à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a modélisation thermique pour le déterm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 calcul passe par une étape préalable de calage numériqu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i peut s’avérer fastidi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00280" y="4788000"/>
          <a:ext cx="169848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4788000"/>
                    <a:ext cx="16984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00280" y="4788000"/>
          <a:ext cx="1810080" cy="15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788000"/>
                    <a:ext cx="18100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31080" y="2268360"/>
            <a:ext cx="2889000" cy="403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18360" y="2124000"/>
            <a:ext cx="936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(P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42080" y="75564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280" y="1260360"/>
            <a:ext cx="8371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éveloppements de modèl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reproduire au mieux les évolutions de températures observées au cours des ess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modéliser la propagation d’une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429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94000" y="2340000"/>
          <a:ext cx="549576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2340000"/>
                    <a:ext cx="54957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2080" y="900000"/>
            <a:ext cx="721872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propagation des fissures en fatigue ther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280" y="176364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alidation du critère de propag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429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9548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00" y="2925720"/>
          <a:ext cx="48355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925720"/>
                    <a:ext cx="48355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215748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81640" y="3357720"/>
          <a:ext cx="3328920" cy="21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3357720"/>
                    <a:ext cx="33289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096960" y="306072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mparaison Essais / Calcu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55600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bservation des faciès de ru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87840" y="722160"/>
            <a:ext cx="562284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Développement de form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280" y="1233360"/>
            <a:ext cx="8371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finition de formulaires pour le calcul de K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défauts dans les structures épaisses revêtues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(outils pour l’analyse de nocivité des défau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mulation compatible avec le cas du choc thermique pressurisé calculé par un modèle 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fficulté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Problème 3D important, à généraliser pour le rendre adimensi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éveloppement d’un outil de maillage automatique – Réalisation d’une grille de calc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9920" y="3679920"/>
          <a:ext cx="3635280" cy="25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9920" y="3679920"/>
                    <a:ext cx="3635280" cy="259848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63640" y="3679920"/>
          <a:ext cx="3635280" cy="25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3679920"/>
                    <a:ext cx="3635280" cy="259704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663200" y="336240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éfaut sous revê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6280" y="33447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éfaut travers revê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39960" y="790560"/>
            <a:ext cx="562284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Développement de form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280" y="133200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position d’une formul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37636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39544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2000" y="1851120"/>
          <a:ext cx="741060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851120"/>
                    <a:ext cx="74106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57440" y="2052720"/>
            <a:ext cx="2004480" cy="861480"/>
            <a:chOff x="1657440" y="2052720"/>
            <a:chExt cx="2004480" cy="861480"/>
          </a:xfrm>
        </p:grpSpPr>
        <p:sp>
          <p:nvSpPr>
            <p:cNvPr id="141" name=""/>
            <p:cNvSpPr/>
            <p:nvPr/>
          </p:nvSpPr>
          <p:spPr>
            <a:xfrm>
              <a:off x="2571480" y="266220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5744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060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7640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09920" y="205272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0080" y="2662200"/>
              <a:ext cx="252000" cy="25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79640" y="2313000"/>
            <a:ext cx="6400800" cy="3247560"/>
            <a:chOff x="1079640" y="2313000"/>
            <a:chExt cx="6400800" cy="3247560"/>
          </a:xfrm>
        </p:grpSpPr>
        <p:sp>
          <p:nvSpPr>
            <p:cNvPr id="148" name=""/>
            <p:cNvSpPr/>
            <p:nvPr/>
          </p:nvSpPr>
          <p:spPr>
            <a:xfrm>
              <a:off x="1765440" y="2313000"/>
              <a:ext cx="144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43120" y="2922480"/>
              <a:ext cx="6480" cy="2038320"/>
            </a:xfrm>
            <a:custGeom>
              <a:avLst/>
              <a:gdLst/>
              <a:ahLst/>
              <a:rect l="l" t="t" r="r" b="b"/>
              <a:pathLst>
                <a:path w="4" h="1284">
                  <a:moveTo>
                    <a:pt x="4" y="0"/>
                  </a:moveTo>
                  <a:lnTo>
                    <a:pt x="0" y="1284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4979880"/>
              <a:ext cx="6400800" cy="5806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Contraintes nominales, déterminée sur le structure sans défaut (modèle 2D axisymétriqu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17920" y="2313000"/>
              <a:ext cx="144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8600" y="2313000"/>
              <a:ext cx="180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2313000"/>
              <a:ext cx="1800" cy="2658960"/>
            </a:xfrm>
            <a:custGeom>
              <a:avLst/>
              <a:gdLst/>
              <a:ahLst/>
              <a:rect l="l" t="t" r="r" b="b"/>
              <a:pathLst>
                <a:path w="1" h="1675">
                  <a:moveTo>
                    <a:pt x="0" y="0"/>
                  </a:moveTo>
                  <a:lnTo>
                    <a:pt x="0" y="1675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7040" y="2922480"/>
              <a:ext cx="1440" cy="2057400"/>
            </a:xfrm>
            <a:custGeom>
              <a:avLst/>
              <a:gdLst/>
              <a:ahLst/>
              <a:rect l="l" t="t" r="r" b="b"/>
              <a:pathLst>
                <a:path w="1" h="1296">
                  <a:moveTo>
                    <a:pt x="1" y="0"/>
                  </a:moveTo>
                  <a:lnTo>
                    <a:pt x="0" y="1296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54360" y="2052720"/>
            <a:ext cx="2043000" cy="861480"/>
            <a:chOff x="1854360" y="2052720"/>
            <a:chExt cx="2043000" cy="861480"/>
          </a:xfrm>
        </p:grpSpPr>
        <p:sp>
          <p:nvSpPr>
            <p:cNvPr id="156" name=""/>
            <p:cNvSpPr/>
            <p:nvPr/>
          </p:nvSpPr>
          <p:spPr>
            <a:xfrm>
              <a:off x="185436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30600" y="266220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800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516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3760" y="266220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5000" y="2052720"/>
              <a:ext cx="252360" cy="252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102280" y="3476520"/>
            <a:ext cx="3581280" cy="106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onctions d’influence déterminées par le calcul et tabulées dans le code, fonctions de la taille relative et la géométrie du déf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78200" y="2325600"/>
            <a:ext cx="3136680" cy="2197080"/>
          </a:xfrm>
          <a:custGeom>
            <a:avLst/>
            <a:gdLst/>
            <a:ahLst/>
            <a:rect l="l" t="t" r="r" b="b"/>
            <a:pathLst>
              <a:path w="1976" h="1384">
                <a:moveTo>
                  <a:pt x="0" y="0"/>
                </a:moveTo>
                <a:lnTo>
                  <a:pt x="0" y="1384"/>
                </a:lnTo>
                <a:lnTo>
                  <a:pt x="1976" y="138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87680" y="2325600"/>
            <a:ext cx="2529000" cy="2017800"/>
          </a:xfrm>
          <a:custGeom>
            <a:avLst/>
            <a:gdLst/>
            <a:ahLst/>
            <a:rect l="l" t="t" r="r" b="b"/>
            <a:pathLst>
              <a:path w="1593" h="1271">
                <a:moveTo>
                  <a:pt x="0" y="0"/>
                </a:moveTo>
                <a:lnTo>
                  <a:pt x="3" y="1271"/>
                </a:lnTo>
                <a:lnTo>
                  <a:pt x="1593" y="1271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89360" y="2935440"/>
            <a:ext cx="2227320" cy="1234800"/>
          </a:xfrm>
          <a:custGeom>
            <a:avLst/>
            <a:gdLst/>
            <a:ahLst/>
            <a:rect l="l" t="t" r="r" b="b"/>
            <a:pathLst>
              <a:path w="1403" h="778">
                <a:moveTo>
                  <a:pt x="2" y="0"/>
                </a:moveTo>
                <a:lnTo>
                  <a:pt x="0" y="778"/>
                </a:lnTo>
                <a:lnTo>
                  <a:pt x="1403" y="77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62240" y="2301840"/>
            <a:ext cx="1954440" cy="1657440"/>
          </a:xfrm>
          <a:custGeom>
            <a:avLst/>
            <a:gdLst/>
            <a:ahLst/>
            <a:rect l="l" t="t" r="r" b="b"/>
            <a:pathLst>
              <a:path w="1231" h="1044">
                <a:moveTo>
                  <a:pt x="0" y="0"/>
                </a:moveTo>
                <a:lnTo>
                  <a:pt x="0" y="1044"/>
                </a:lnTo>
                <a:lnTo>
                  <a:pt x="1231" y="104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5760" y="2935440"/>
            <a:ext cx="1689120" cy="799920"/>
          </a:xfrm>
          <a:custGeom>
            <a:avLst/>
            <a:gdLst/>
            <a:ahLst/>
            <a:rect l="l" t="t" r="r" b="b"/>
            <a:pathLst>
              <a:path w="1064" h="504">
                <a:moveTo>
                  <a:pt x="2" y="0"/>
                </a:moveTo>
                <a:lnTo>
                  <a:pt x="0" y="504"/>
                </a:lnTo>
                <a:lnTo>
                  <a:pt x="1064" y="504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7000" y="2325600"/>
            <a:ext cx="1307880" cy="1193760"/>
          </a:xfrm>
          <a:custGeom>
            <a:avLst/>
            <a:gdLst/>
            <a:ahLst/>
            <a:rect l="l" t="t" r="r" b="b"/>
            <a:pathLst>
              <a:path w="824" h="752">
                <a:moveTo>
                  <a:pt x="0" y="0"/>
                </a:moveTo>
                <a:lnTo>
                  <a:pt x="0" y="752"/>
                </a:lnTo>
                <a:lnTo>
                  <a:pt x="824" y="75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9440" y="1984320"/>
            <a:ext cx="845964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a modélisation en mécanique de la rupture reste diffici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 la présence d’une singularité, de la finesse de maillage requise ou des modèles de comportement matériau poussés à leurs lim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s fortes non-linéarités induites par la propagation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lle est pourtant indispensable pour avancer dans la compréhension des mécanismes de rupture, le développement d’outils et critèr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our la détermination des paramètres critiques à l’amorçage ou en cours de propa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r le développements des outils et critères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 laboratoire SEMT/LISN a développé une approche couplée Essais / Calcul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our progresser dans le comportement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our nous, Les développements à court terme c’es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éléments de type XFEM pour le modélisation non explicite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outils pour la modélisation de la propagation dynamique des fi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4800" y="1138320"/>
            <a:ext cx="2000520" cy="52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27720" y="684360"/>
            <a:ext cx="38656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ux approches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0360" y="1260360"/>
            <a:ext cx="8208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’approche glob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’approche globale s ’appuie sur des paramètres énergétiques globaux pour définir ses critères 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J, C*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s paramètres sont des scalaires représentant à eux seuls le chargement imposé à la pointe de la fissure (intensité des contraintes ou taux de dissipation de l ’énerg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 principal avantage est sa relative simplicité d ’application au travers de calculs aux éléments finis ou de méthodes analytiques – Bien entendu, qui dit simplicité, dit aussi approximation et quelques fois manque de pertin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7280" y="3780000"/>
            <a:ext cx="828036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’approche loc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 contraire de l ’approche globale, l ’approche locale cherche à modéliser le comportement du matériau en pointe de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 ’objectif est de déterminer l ’endommagement en pointe de fissure pour déterminer les conditions d ’amorçage et de propagation de la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u fait de la présence de la fissure et de la singularité de contraintes qui en découle, l ’exercice est difficile – Par contre, l ’approche modélise le comportement réel du matériau et est à priori plus prêt de la « réalité physique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33920" y="755640"/>
            <a:ext cx="586836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soins particuliers pour ces deux appro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360" y="1533600"/>
            <a:ext cx="8209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illages fins en pointe de fissure décrivant le front de fissure et permettant de calculer convenablement la concentration de contraintes et défor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odèles de comportement adaptés (éventuellement couplés à un calcul de l ’endommagement du matéri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 particuliers pour l’approche glob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illage rayon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aces perpendiculaires au front de fiss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 particulier pour l’approche loca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Éléments de petite taille pour décrire de faç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Suffisamment fine les contra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Éléments à taille imposée (50 µm par exemp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d ’éléments impo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 recommandations de calcul pas toujours simples à suivre pour des fissures réelles et conduisant à des modèles très volum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10360" y="2629080"/>
          <a:ext cx="3454200" cy="21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0360" y="2629080"/>
                    <a:ext cx="345420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5560" y="755640"/>
            <a:ext cx="44614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équences sur la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360" y="1403280"/>
            <a:ext cx="84186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description du domain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fissures sont souvent trop complexes pour être parfaitement reproduites (il faut avoir recours à des approxim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 choix du type d ’éléments et de leur taille est fondamental (linéaires, quadratique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modélisation du comportement des matériau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sollicitations en pointes de fissures sont très importantes (en dehors du calage des lois de comport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fissures apparaissent toujours dans des zones où les sollicitations sont complexes (fatigue, fluage, plasticité élevée, endommagement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modélisation de la propaga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'avancée de fissure conduit à de très fortes non linéarités (problèmes de convergence dans les algorith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 fait de la discrétisation, la modélisation de l'avancée de fissure est nécessairement discrète et plus ou moins liée à la taille des élé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 propagation des fissures reste encore un domaine trè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fficile à aborder par la simulation numériq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5560" y="755640"/>
            <a:ext cx="44614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équences sur la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280" y="1620720"/>
            <a:ext cx="8371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a réalisation des maillag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outils automatiques sont bien souvent incapables de réaliser les maill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ce qu'il y a incompatibilité entre les dimensions de la structure et la finesse nécessaire au maillage de la fi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ce que l’approche locale ou l’approche globale demandent des spécificités de maillage difficiles à prendre en comp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 calculateur doit donc avoir recours au développement de ses propres outils. Ce développement peut s'avérer difficile, d'autant plus si l'on cherche à construire une procédure para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es difficultés de maillage ont été et sont encore un frein à l'analyse numériqu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n mécanique de le ru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eaucoup de critères mis au point à l’aide de modèles 2D sont aujourd’hui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iscutés dans le cadre de modélisation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58320" y="1763640"/>
            <a:ext cx="5744880" cy="459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tilisation de l’outil numérique dans le l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360" y="2700360"/>
            <a:ext cx="8370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e laboratoire a développé une approche couplée Essais / Calcul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veloppement de paramètres pertinents en mécanique de la ru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veloppement d’outils analytiques et critères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éveloppement / Validation de crit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st3M constitue un outil de recherche privilégié pour le laboratoire : souplesse d’utilisation, développement d’outils spécifiques, intégrations de critères et lo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1280" y="1476360"/>
            <a:ext cx="837108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blématiqu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eut-on utiliser le critère J &lt; J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ur prédire l’amorçage ductile d’une fissure dans un piquag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pproch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alisation d’essais sur éprouvettes et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numérique – Évaluation de la validité du cri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6200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46000" y="3780000"/>
          <a:ext cx="358164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780000"/>
                    <a:ext cx="358164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1905120"/>
            <a:ext cx="918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950000" y="3203640"/>
          <a:ext cx="3638520" cy="30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03640"/>
                    <a:ext cx="3638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84320" y="3166920"/>
            <a:ext cx="47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ux types de modèles : l’éprouvette CT et la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8000" y="2411280"/>
            <a:ext cx="32954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1280" y="183672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emière étap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lidation des modèles par comparaison Essais / Calc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78360" y="2411280"/>
            <a:ext cx="3295800" cy="2791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32240" y="828720"/>
            <a:ext cx="6625800" cy="3988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lques exemples : amorçage des fissures dans les piq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280" y="1512720"/>
            <a:ext cx="83710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onde étape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lidation du critère – recomma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11760" y="2521080"/>
            <a:ext cx="3954240" cy="334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Times New Roman"/>
              </a:rPr>
              <a:t>Cast3M et la mécanique de la rupture</a:t>
            </a:r>
            <a:endParaRPr b="1" i="1" lang="en-US" sz="1800" spc="-1" strike="noStrike">
              <a:solidFill>
                <a:srgbClr val="5e5e5e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160" y="2179800"/>
            <a:ext cx="36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éfinition précise du critère sur éprouvette 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08960" y="217980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plication au piq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08120" y="2521080"/>
            <a:ext cx="3954240" cy="3348000"/>
            <a:chOff x="708120" y="2521080"/>
            <a:chExt cx="3954240" cy="334800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08120" y="2521080"/>
              <a:ext cx="395424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41400" y="3780000"/>
              <a:ext cx="2293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4:00:07Z</dcterms:created>
  <dc:creator>Pascal ANZIEU</dc:creator>
  <dc:description/>
  <dc:language>en-US</dc:language>
  <cp:lastModifiedBy> </cp:lastModifiedBy>
  <cp:lastPrinted>2002-06-06T09:16:39Z</cp:lastPrinted>
  <dcterms:modified xsi:type="dcterms:W3CDTF">2005-11-22T21:39:36Z</dcterms:modified>
  <cp:revision>24</cp:revision>
  <dc:subject/>
  <dc:title>Présentation PowerPoint</dc:title>
</cp:coreProperties>
</file>