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10475913" cy="7239000"/>
  <p:notesSz cx="6792913" cy="10083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3200" cy="1008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480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663120" y="755640"/>
            <a:ext cx="5473800" cy="378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7560" y="4789440"/>
            <a:ext cx="4978440" cy="453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0" y="9578520"/>
            <a:ext cx="2944800" cy="5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49840" y="9578520"/>
            <a:ext cx="2944800" cy="5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2E4B-F42E-4C4A-B4F7-F73D3E9532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663480" y="755640"/>
            <a:ext cx="5473800" cy="37814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7560" y="4789440"/>
            <a:ext cx="4978440" cy="453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ary container of nucelar reactor/ 67 m high    explosion of the core and propagation in the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663480" y="755640"/>
            <a:ext cx="5473800" cy="37814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07560" y="4789440"/>
            <a:ext cx="4978440" cy="453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pture of the tube at t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be bends and depressuriz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ct with a deformable support in turn held by sp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ube crashes and re-pressurizes a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ube and bar elastoplastic, two phase flow in the pipe (hot pressurized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663480" y="755640"/>
            <a:ext cx="5473800" cy="37814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7560" y="4789440"/>
            <a:ext cx="4978440" cy="453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act with Smooth Partcule Hydrodynamic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B529F-1E64-462F-A3D1-398B1C22D7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16765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2666520"/>
            <a:ext cx="8915400" cy="189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360" y="4736520"/>
            <a:ext cx="8915400" cy="189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752D0-0FB2-4CD8-B61B-B789E6BF93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360" y="16765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360" y="2666520"/>
            <a:ext cx="4350600" cy="189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558760" y="2666520"/>
            <a:ext cx="4350600" cy="189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360" y="4736520"/>
            <a:ext cx="4350600" cy="189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558760" y="4736520"/>
            <a:ext cx="4350600" cy="189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BA7D8-E2FC-4137-BFA7-66F180C70D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16765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360" y="2666520"/>
            <a:ext cx="2870640" cy="189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05000" y="2666520"/>
            <a:ext cx="2870640" cy="189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019640" y="2666520"/>
            <a:ext cx="2870640" cy="189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360" y="4736520"/>
            <a:ext cx="2870640" cy="189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05000" y="4736520"/>
            <a:ext cx="2870640" cy="189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019640" y="4736520"/>
            <a:ext cx="2870640" cy="189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C7373-09DC-4B11-8463-29C084EC23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16765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360" y="2666520"/>
            <a:ext cx="8915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5AC34-2970-4C4A-8272-EA6973EDFD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16765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2666520"/>
            <a:ext cx="8915400" cy="3962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16570-0862-416E-942C-C6BAC720EC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16765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360" y="2666520"/>
            <a:ext cx="4350600" cy="3962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58760" y="2666520"/>
            <a:ext cx="4350600" cy="3962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9C0CA-912E-48AB-9EF9-7C898F3508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16765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28976-6D7C-4186-8583-F721DE86F3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360" y="16765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1F7DA-FD11-4552-98CA-248B51D1D2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16765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2666520"/>
            <a:ext cx="4350600" cy="189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58760" y="2666520"/>
            <a:ext cx="4350600" cy="3962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360" y="4736520"/>
            <a:ext cx="4350600" cy="189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A3E87-C6B6-4A26-8633-9B5471D843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16765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2666520"/>
            <a:ext cx="4350600" cy="3962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58760" y="2666520"/>
            <a:ext cx="4350600" cy="189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58760" y="4736520"/>
            <a:ext cx="4350600" cy="189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69C53-AEC6-4962-B4AD-A0F84E97C5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16765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2666520"/>
            <a:ext cx="4350600" cy="189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58760" y="2666520"/>
            <a:ext cx="4350600" cy="189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360" y="4736520"/>
            <a:ext cx="8915400" cy="189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BA275-9D01-4AAC-A8CC-3B4B6A9D08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934320"/>
            <a:ext cx="2209680" cy="228600"/>
          </a:xfrm>
          <a:prstGeom prst="rect">
            <a:avLst/>
          </a:prstGeom>
          <a:solidFill>
            <a:srgbClr val="8593c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990360" y="2666520"/>
            <a:ext cx="8915400" cy="3962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 fontScale="96000"/>
          </a:bodyPr>
          <a:p>
            <a:pPr marL="347040" indent="-34704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54200" indent="-2908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59560" indent="-2314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22880" indent="-2314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87640" indent="-23292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87640" indent="-23292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87640" indent="-23292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990360" y="16765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854000" y="6933960"/>
            <a:ext cx="371160" cy="228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9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E4AD0-840D-45AB-811A-DE52BDD81CB1}" type="slidenum">
              <a:rPr b="0" lang="en-US" sz="9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95280" y="-76320"/>
            <a:ext cx="90298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533520" y="533520"/>
            <a:ext cx="0" cy="62481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 rot="16800">
            <a:off x="-9720" y="6914520"/>
            <a:ext cx="2438280" cy="214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Joint%20Research%20Centre" descr=""/>
          <p:cNvPicPr/>
          <p:nvPr/>
        </p:nvPicPr>
        <p:blipFill>
          <a:blip r:embed="rId2"/>
          <a:stretch/>
        </p:blipFill>
        <p:spPr>
          <a:xfrm>
            <a:off x="152280" y="1981080"/>
            <a:ext cx="331920" cy="3568680"/>
          </a:xfrm>
          <a:prstGeom prst="rect">
            <a:avLst/>
          </a:prstGeom>
          <a:ln w="0">
            <a:noFill/>
          </a:ln>
        </p:spPr>
      </p:pic>
      <p:pic>
        <p:nvPicPr>
          <p:cNvPr id="8" name="03.07.03-5" descr=""/>
          <p:cNvPicPr/>
          <p:nvPr/>
        </p:nvPicPr>
        <p:blipFill>
          <a:blip r:embed="rId3"/>
          <a:stretch/>
        </p:blipFill>
        <p:spPr>
          <a:xfrm>
            <a:off x="0" y="0"/>
            <a:ext cx="2590920" cy="652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hoosh.wav" TargetMode="External"/><Relationship Id="rId2" Type="http://schemas.microsoft.com/office/2007/relationships/media" Target="file:///tmp/home/.config/libreoffice/4/user/gallery/whoosh.wav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19320" y="2717640"/>
            <a:ext cx="85341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. Buchet, F. Casadei and P. Peg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contribution from A. Anthoi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220320" y="6477120"/>
            <a:ext cx="990360" cy="615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161920" y="152280"/>
            <a:ext cx="228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Institute for the Prot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and Security of the Citi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elsalogo" descr=""/>
          <p:cNvPicPr/>
          <p:nvPr/>
        </p:nvPicPr>
        <p:blipFill>
          <a:blip r:embed="rId2"/>
          <a:stretch/>
        </p:blipFill>
        <p:spPr>
          <a:xfrm>
            <a:off x="52560" y="6550200"/>
            <a:ext cx="457200" cy="276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63840" y="952560"/>
            <a:ext cx="7532640" cy="19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An integrated developer-oriented</a:t>
            </a:r>
            <a:br>
              <a:rPr sz="3000"/>
            </a:b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OpenGL post-processor in Cast3m</a:t>
            </a:r>
            <a:br>
              <a:rPr sz="3000"/>
            </a:b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and VisualCast3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1475F-9ECE-4850-B67C-41E5206C515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19320" y="1838160"/>
            <a:ext cx="853416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 parent/child/adoption scheme (in the on-line case)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cc99"/>
              </a:buClr>
              <a:buFont typeface="Arial"/>
              <a:buChar char="•"/>
              <a:tabLst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Cast3m creates a new child rendering process,</a:t>
            </a:r>
            <a:br>
              <a:rPr sz="2800"/>
            </a:b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   which creates in turn the Glut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cc99"/>
              </a:buClr>
              <a:buFont typeface="Arial"/>
              <a:buChar char="•"/>
              <a:tabLst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The Glut window is adopted by Visual Cast3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cc99"/>
              </a:buClr>
              <a:buFont typeface="Arial"/>
              <a:buChar char="•"/>
              <a:tabLst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The parent/child link is broken between Cast3m</a:t>
            </a:r>
            <a:br>
              <a:rPr sz="2800"/>
            </a:b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   and the rendering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38160"/>
            <a:ext cx="6172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The rendering mod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Integration in Visual Cast3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161920" y="152280"/>
            <a:ext cx="228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Institute for the Prot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and Security of the Citi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2560" y="6550200"/>
            <a:ext cx="457200" cy="276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9220320" y="6477120"/>
            <a:ext cx="990360" cy="61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0A8AE-319A-4F08-9A5C-45629B2DC3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19320" y="127944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e parent/child 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33720" y="38160"/>
            <a:ext cx="6172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The rendering mod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Integration in Visual Cast3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161920" y="152280"/>
            <a:ext cx="228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Institute for the Prot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and Security of the Citi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elsalogo" descr=""/>
          <p:cNvPicPr/>
          <p:nvPr/>
        </p:nvPicPr>
        <p:blipFill>
          <a:blip r:embed="rId1"/>
          <a:stretch/>
        </p:blipFill>
        <p:spPr>
          <a:xfrm>
            <a:off x="52560" y="6550200"/>
            <a:ext cx="457200" cy="276120"/>
          </a:xfrm>
          <a:prstGeom prst="rect">
            <a:avLst/>
          </a:prstGeom>
          <a:ln w="0">
            <a:noFill/>
          </a:ln>
        </p:spPr>
      </p:pic>
      <p:pic>
        <p:nvPicPr>
          <p:cNvPr id="110" name="in2" descr=""/>
          <p:cNvPicPr/>
          <p:nvPr/>
        </p:nvPicPr>
        <p:blipFill>
          <a:blip r:embed="rId2"/>
          <a:stretch/>
        </p:blipFill>
        <p:spPr>
          <a:xfrm>
            <a:off x="701640" y="1803240"/>
            <a:ext cx="9509040" cy="5023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9220320" y="6477120"/>
            <a:ext cx="990360" cy="61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09922-83BB-480E-B08B-9535D20485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219320" y="127944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The orphanization and adoption 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38160"/>
            <a:ext cx="6172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The rendering mod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Integration in Visual Cast3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161920" y="152280"/>
            <a:ext cx="228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Institute for the Prot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and Security of the Citi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elsalogo" descr=""/>
          <p:cNvPicPr/>
          <p:nvPr/>
        </p:nvPicPr>
        <p:blipFill>
          <a:blip r:embed="rId1"/>
          <a:stretch/>
        </p:blipFill>
        <p:spPr>
          <a:xfrm>
            <a:off x="52560" y="6550200"/>
            <a:ext cx="457200" cy="276120"/>
          </a:xfrm>
          <a:prstGeom prst="rect">
            <a:avLst/>
          </a:prstGeom>
          <a:ln w="0">
            <a:noFill/>
          </a:ln>
        </p:spPr>
      </p:pic>
      <p:pic>
        <p:nvPicPr>
          <p:cNvPr id="116" name="in3" descr=""/>
          <p:cNvPicPr/>
          <p:nvPr/>
        </p:nvPicPr>
        <p:blipFill>
          <a:blip r:embed="rId2"/>
          <a:stretch/>
        </p:blipFill>
        <p:spPr>
          <a:xfrm>
            <a:off x="816120" y="1798560"/>
            <a:ext cx="9489960" cy="4994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9220320" y="6477120"/>
            <a:ext cx="990360" cy="61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1D932-F728-4A41-97CD-9E8DA5641C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219320" y="990720"/>
            <a:ext cx="853416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isplay fields-by-elements </a:t>
            </a: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(almost re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dvanced navigation for on-screen m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Use of SLERP and SCENE for on-screen dra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mooth scene transition for ani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…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nd user feedback/requests!!!!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33720" y="38160"/>
            <a:ext cx="6172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The rendering mod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What will be done in the fut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220320" y="6477120"/>
            <a:ext cx="990360" cy="6159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8161920" y="152280"/>
            <a:ext cx="228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Institute for the Prot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and Security of the Citi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elsalogo" descr=""/>
          <p:cNvPicPr/>
          <p:nvPr/>
        </p:nvPicPr>
        <p:blipFill>
          <a:blip r:embed="rId2"/>
          <a:stretch/>
        </p:blipFill>
        <p:spPr>
          <a:xfrm>
            <a:off x="52560" y="6550200"/>
            <a:ext cx="457200" cy="276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A57ED-B569-41CD-9FE1-4C10AC7154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63720" y="990720"/>
            <a:ext cx="9246960" cy="50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This development is working on </a:t>
            </a:r>
            <a:br>
              <a:rPr sz="2800"/>
            </a:b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   Windows NT4, 2000 and X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OpenGL is not installed by default on all Linux plat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BU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OpenGL is available freely </a:t>
            </a:r>
            <a:r>
              <a:rPr b="0" lang="en-GB" sz="2000" spc="-1" strike="noStrike">
                <a:solidFill>
                  <a:srgbClr val="00cc99"/>
                </a:solidFill>
                <a:latin typeface="Arial"/>
              </a:rPr>
              <a:t>(dependance on the graphic ca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Glut part works under Linux </a:t>
            </a:r>
            <a:r>
              <a:rPr b="0" lang="en-GB" sz="2800" spc="-1" strike="noStrike">
                <a:solidFill>
                  <a:srgbClr val="00cc99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cc99"/>
                </a:solidFill>
                <a:latin typeface="Arial"/>
              </a:rPr>
              <a:t>all features available except direct production of AVI animation fi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The direct interface for on-line drawing still exist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33720" y="38160"/>
            <a:ext cx="6172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The rendering mod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Portability on Linux and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220320" y="6477120"/>
            <a:ext cx="990360" cy="6159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161920" y="152280"/>
            <a:ext cx="228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Institute for the Prot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and Security of the Citi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elsalogo" descr=""/>
          <p:cNvPicPr/>
          <p:nvPr/>
        </p:nvPicPr>
        <p:blipFill>
          <a:blip r:embed="rId2"/>
          <a:stretch/>
        </p:blipFill>
        <p:spPr>
          <a:xfrm>
            <a:off x="52560" y="6550200"/>
            <a:ext cx="457200" cy="276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AAC32-EEE4-4D93-A39E-C611764249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219320" y="990720"/>
            <a:ext cx="8534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n-screen cap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ff-screen cap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33720" y="38160"/>
            <a:ext cx="6172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Demonstra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220320" y="6477120"/>
            <a:ext cx="990360" cy="6159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8161920" y="152280"/>
            <a:ext cx="228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Institute for the Prot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and Security of the Citi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elsalogo" descr=""/>
          <p:cNvPicPr/>
          <p:nvPr/>
        </p:nvPicPr>
        <p:blipFill>
          <a:blip r:embed="rId2"/>
          <a:stretch/>
        </p:blipFill>
        <p:spPr>
          <a:xfrm>
            <a:off x="52560" y="6550200"/>
            <a:ext cx="457200" cy="276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A4DBB-6A1D-416A-9E94-78B27C3950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429000" y="159228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133720" y="38160"/>
            <a:ext cx="6172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Demonstra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9220320" y="6477120"/>
            <a:ext cx="990360" cy="6159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161920" y="152280"/>
            <a:ext cx="228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Institute for the Prot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and Security of the Citi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52560" y="6550200"/>
            <a:ext cx="457200" cy="276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692280" y="609480"/>
            <a:ext cx="4667040" cy="65725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5810400" y="635040"/>
            <a:ext cx="4495680" cy="64580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344680" y="4179960"/>
            <a:ext cx="3421080" cy="650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268360" y="4100400"/>
            <a:ext cx="3608280" cy="799560"/>
            <a:chOff x="2268360" y="4100400"/>
            <a:chExt cx="3608280" cy="799560"/>
          </a:xfrm>
        </p:grpSpPr>
        <p:sp>
          <p:nvSpPr>
            <p:cNvPr id="142" name=""/>
            <p:cNvSpPr/>
            <p:nvPr/>
          </p:nvSpPr>
          <p:spPr>
            <a:xfrm>
              <a:off x="2268360" y="4440240"/>
              <a:ext cx="360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“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Ma cabane a El Salvador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87440" y="4100400"/>
              <a:ext cx="34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Construction 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4FC21-4566-41B3-B268-9795DD6071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133720" y="38160"/>
            <a:ext cx="6172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Demonstra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220320" y="6477120"/>
            <a:ext cx="990360" cy="6159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8161920" y="152280"/>
            <a:ext cx="228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Institute for the Prot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and Security of the Citi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elsalogo" descr=""/>
          <p:cNvPicPr/>
          <p:nvPr/>
        </p:nvPicPr>
        <p:blipFill>
          <a:blip r:embed="rId2"/>
          <a:stretch/>
        </p:blipFill>
        <p:spPr>
          <a:xfrm>
            <a:off x="52560" y="6550200"/>
            <a:ext cx="457200" cy="276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3343320" y="762120"/>
            <a:ext cx="4060800" cy="4060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636480" y="609480"/>
            <a:ext cx="2922840" cy="29228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636480" y="3044880"/>
            <a:ext cx="2916360" cy="2916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3962520" y="41911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7372440" y="3057480"/>
            <a:ext cx="2943000" cy="2943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8"/>
          <a:stretch/>
        </p:blipFill>
        <p:spPr>
          <a:xfrm>
            <a:off x="7421400" y="636480"/>
            <a:ext cx="2874960" cy="28749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36480" y="550404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nd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36480" y="307512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rst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6705720"/>
            <a:ext cx="29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rd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94680" y="5543640"/>
            <a:ext cx="29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th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294680" y="3075120"/>
            <a:ext cx="29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th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25680" y="636480"/>
            <a:ext cx="360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hape modes of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“Ma cabane a El Salvado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780A7-EFD1-42D4-A61B-585CAC9124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133720" y="38160"/>
            <a:ext cx="6172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Demonstra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220320" y="6477120"/>
            <a:ext cx="990360" cy="6159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8161920" y="152280"/>
            <a:ext cx="228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Institute for the Prot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and Security of the Citi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2560" y="6550200"/>
            <a:ext cx="457200" cy="2761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725400" y="2278080"/>
            <a:ext cx="3049560" cy="30495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7143840" y="2251080"/>
            <a:ext cx="3066840" cy="30672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3913200" y="2251080"/>
            <a:ext cx="3098880" cy="30988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25400" y="5591160"/>
            <a:ext cx="30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ure (iso-fi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13200" y="5591160"/>
            <a:ext cx="30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ure (iso-surfa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12160" y="5591160"/>
            <a:ext cx="30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id veloc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1047600"/>
            <a:ext cx="649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re explosion in the secondary container of a nuclear re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3274D-2B3C-462A-A914-DDC174DD38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133720" y="38160"/>
            <a:ext cx="6172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Demonstra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9220320" y="6477120"/>
            <a:ext cx="990360" cy="6159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8161920" y="152280"/>
            <a:ext cx="228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Institute for the Prot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and Security of the Citi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2560" y="6550200"/>
            <a:ext cx="457200" cy="276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585880" y="7621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upture of a pressurized t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2857680" y="148608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672000" y="6477120"/>
            <a:ext cx="30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ure (iso-surfa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9089E-EB8F-49AB-944E-4262CC6DB5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19320" y="990720"/>
            <a:ext cx="8534160" cy="58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bsolescence of the graphical model of Cast3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ade for multiple devices including plo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ndering (such as hidden line removal) by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ow level of inter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vailable standard for 3D rend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C’s available with powerful graphic cards (interactive games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idden-surface removal, lighting, shading, etc… performed at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ardwar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pen source software: OpenGL + GLUT(GL Utility Toolk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ew developments for EUROPLEXUS…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                                          … but also for CAST3M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uilt-in graphic mo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rtran 90 layer (modules and data structu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ossibility to interact with the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38160"/>
            <a:ext cx="40006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Motiva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220320" y="6477120"/>
            <a:ext cx="990360" cy="615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161920" y="152280"/>
            <a:ext cx="228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Institute for the Prot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and Security of the Citi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2560" y="6550200"/>
            <a:ext cx="457200" cy="276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4E012-096E-4E94-821C-F90807B2B0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19320" y="990720"/>
            <a:ext cx="8534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n-screen cap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ff-screen cap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38160"/>
            <a:ext cx="6172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Demonstra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9220320" y="6477120"/>
            <a:ext cx="990360" cy="6159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8161920" y="152280"/>
            <a:ext cx="228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Institute for the Prot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and Security of the Citi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elsalogo" descr=""/>
          <p:cNvPicPr/>
          <p:nvPr/>
        </p:nvPicPr>
        <p:blipFill>
          <a:blip r:embed="rId2"/>
          <a:stretch/>
        </p:blipFill>
        <p:spPr>
          <a:xfrm>
            <a:off x="52560" y="6550200"/>
            <a:ext cx="457200" cy="276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BBA49-D27A-4EB1-91ED-CB87F1EB2E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133720" y="38160"/>
            <a:ext cx="6172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Demonstra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9220320" y="6477120"/>
            <a:ext cx="990360" cy="6159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8161920" y="152280"/>
            <a:ext cx="228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Institute for the Prot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and Security of the Citi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elsalogo" descr=""/>
          <p:cNvPicPr/>
          <p:nvPr/>
        </p:nvPicPr>
        <p:blipFill>
          <a:blip r:embed="rId2"/>
          <a:stretch/>
        </p:blipFill>
        <p:spPr>
          <a:xfrm>
            <a:off x="52560" y="6550200"/>
            <a:ext cx="457200" cy="2761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25400" y="4867200"/>
            <a:ext cx="30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yield 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112160" y="4867200"/>
            <a:ext cx="30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725400" y="1173240"/>
            <a:ext cx="3500640" cy="35002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7026120" y="1173240"/>
            <a:ext cx="3451320" cy="3451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3618000" y="1173240"/>
            <a:ext cx="3494160" cy="3494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618000" y="4867200"/>
            <a:ext cx="304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is of the membrane stress in the sh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3082D-17D8-4D44-A00E-A61F732823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219320" y="990720"/>
            <a:ext cx="8534160" cy="41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Graphical cap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Display geome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Display fields-by-point as v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Display fields-by-point as iso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Graphical m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On-screen intera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Off-screen for producing standard format bitmaps and ani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38160"/>
            <a:ext cx="6172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The rendering mod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What is done at the mo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220320" y="6477120"/>
            <a:ext cx="990360" cy="615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161920" y="152280"/>
            <a:ext cx="228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Institute for the Prot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and Security of the Citi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elsalogo" descr=""/>
          <p:cNvPicPr/>
          <p:nvPr/>
        </p:nvPicPr>
        <p:blipFill>
          <a:blip r:embed="rId2"/>
          <a:stretch/>
        </p:blipFill>
        <p:spPr>
          <a:xfrm>
            <a:off x="52560" y="6550200"/>
            <a:ext cx="457200" cy="276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79AD2-A191-4451-BDD5-8CCA6BE1F5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324560" y="3397320"/>
            <a:ext cx="3152880" cy="3152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06400" y="1914480"/>
            <a:ext cx="8534520" cy="40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Complete camer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ye location, camera orientation, field of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Basic navigation (On-scre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Translation and zoom of the camera by keystroke comm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Rotation by keystrokes or using the mouse (quatern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Parametrized navigation (Off-scre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pecification of the camera (still im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ircular or linear motion of the camera (anim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SLERP objec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27360" y="38160"/>
            <a:ext cx="51688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The rendering mod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viewing of the obje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9220320" y="6477120"/>
            <a:ext cx="990360" cy="6159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61920" y="152280"/>
            <a:ext cx="228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Institute for the Prot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and Security of the Citi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elsalogo" descr=""/>
          <p:cNvPicPr/>
          <p:nvPr/>
        </p:nvPicPr>
        <p:blipFill>
          <a:blip r:embed="rId5"/>
          <a:stretch/>
        </p:blipFill>
        <p:spPr>
          <a:xfrm>
            <a:off x="52560" y="6550200"/>
            <a:ext cx="457200" cy="276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37FAA-930E-4906-84A5-D09A18B5E6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19320" y="990720"/>
            <a:ext cx="8534160" cy="58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Hierarchical pop-up me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Only Graphical User Interface feature offered by GL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Fully por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Basic menu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V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Iso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ol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Lights/M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Win/Co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27360" y="38160"/>
            <a:ext cx="51688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The rendering mod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On-line menu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220320" y="6477120"/>
            <a:ext cx="990360" cy="615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161920" y="152280"/>
            <a:ext cx="228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Institute for the Prot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and Security of the Citi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elsalogo" descr=""/>
          <p:cNvPicPr/>
          <p:nvPr/>
        </p:nvPicPr>
        <p:blipFill>
          <a:blip r:embed="rId2"/>
          <a:stretch/>
        </p:blipFill>
        <p:spPr>
          <a:xfrm>
            <a:off x="52560" y="6550200"/>
            <a:ext cx="457200" cy="276120"/>
          </a:xfrm>
          <a:prstGeom prst="rect">
            <a:avLst/>
          </a:prstGeom>
          <a:ln w="0">
            <a:noFill/>
          </a:ln>
        </p:spPr>
      </p:pic>
      <p:pic>
        <p:nvPicPr>
          <p:cNvPr id="78" name="menu" descr=""/>
          <p:cNvPicPr/>
          <p:nvPr/>
        </p:nvPicPr>
        <p:blipFill>
          <a:blip r:embed="rId3"/>
          <a:stretch/>
        </p:blipFill>
        <p:spPr>
          <a:xfrm>
            <a:off x="4991040" y="4151160"/>
            <a:ext cx="3314880" cy="177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EC083-06AF-4552-8CDF-6D133524BA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219320" y="990720"/>
            <a:ext cx="853416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ll the entries of the menu are modifying a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SCENE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is object can be completely specified by a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TABLE in Cast3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27360" y="38160"/>
            <a:ext cx="51688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The rendering mod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Off-line menu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220320" y="6477120"/>
            <a:ext cx="990360" cy="6159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161920" y="152280"/>
            <a:ext cx="228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Institute for the Prot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and Security of the Citi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elsalogo" descr=""/>
          <p:cNvPicPr/>
          <p:nvPr/>
        </p:nvPicPr>
        <p:blipFill>
          <a:blip r:embed="rId2"/>
          <a:stretch/>
        </p:blipFill>
        <p:spPr>
          <a:xfrm>
            <a:off x="52560" y="6550200"/>
            <a:ext cx="457200" cy="276120"/>
          </a:xfrm>
          <a:prstGeom prst="rect">
            <a:avLst/>
          </a:prstGeom>
          <a:ln w="0">
            <a:noFill/>
          </a:ln>
        </p:spPr>
      </p:pic>
      <p:pic>
        <p:nvPicPr>
          <p:cNvPr id="84" name="scene1" descr=""/>
          <p:cNvPicPr/>
          <p:nvPr/>
        </p:nvPicPr>
        <p:blipFill>
          <a:blip r:embed="rId3"/>
          <a:stretch/>
        </p:blipFill>
        <p:spPr>
          <a:xfrm>
            <a:off x="1873080" y="3840120"/>
            <a:ext cx="3210120" cy="2857680"/>
          </a:xfrm>
          <a:prstGeom prst="rect">
            <a:avLst/>
          </a:prstGeom>
          <a:ln w="0">
            <a:noFill/>
          </a:ln>
        </p:spPr>
      </p:pic>
      <p:pic>
        <p:nvPicPr>
          <p:cNvPr id="85" name="scene2" descr=""/>
          <p:cNvPicPr/>
          <p:nvPr/>
        </p:nvPicPr>
        <p:blipFill>
          <a:blip r:embed="rId4"/>
          <a:stretch/>
        </p:blipFill>
        <p:spPr>
          <a:xfrm>
            <a:off x="5200560" y="3840120"/>
            <a:ext cx="2352600" cy="200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286B7-8D8D-4C40-A1FC-B95A80F272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220320" y="6477120"/>
            <a:ext cx="990360" cy="615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161920" y="152280"/>
            <a:ext cx="228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Institute for the Prot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and Security of the Citi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33720" y="38160"/>
            <a:ext cx="6172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The rendering mod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Integration in Cast3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elsalogo" descr=""/>
          <p:cNvPicPr/>
          <p:nvPr/>
        </p:nvPicPr>
        <p:blipFill>
          <a:blip r:embed="rId2"/>
          <a:stretch/>
        </p:blipFill>
        <p:spPr>
          <a:xfrm>
            <a:off x="52560" y="6550200"/>
            <a:ext cx="457200" cy="276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219320" y="1109520"/>
            <a:ext cx="8534160" cy="60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New directive TR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Syntax (provisional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k mail1 lchpo1 (mot1) (tab1) (tab2) (tab3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l1: type ‘MAILLAGE’ (mesh to be plot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chpo1: type ‘LISTCHPO’ (fields-by-points to be represen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t1: ‘NOSM’ (NO Sub-Mesh option)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‘OFFS’ (OFF-Screen option)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‘TEST’ (TEST op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b1: options for off-screen dra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b2: SLERP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b3: SCENE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AD97E-8FE0-499D-B41E-E414B085DC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220320" y="6477120"/>
            <a:ext cx="990360" cy="615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161920" y="152280"/>
            <a:ext cx="228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Institute for the Prot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and Security of the Citi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990720"/>
            <a:ext cx="85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it work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38160"/>
            <a:ext cx="6172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The rendering mod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Direct integration in Cast3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in1" descr=""/>
          <p:cNvPicPr/>
          <p:nvPr/>
        </p:nvPicPr>
        <p:blipFill>
          <a:blip r:embed="rId2"/>
          <a:stretch/>
        </p:blipFill>
        <p:spPr>
          <a:xfrm>
            <a:off x="1770120" y="2508120"/>
            <a:ext cx="6792840" cy="3659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987C5-389F-4E2C-9E0B-0844627281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19320" y="1460520"/>
            <a:ext cx="925812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nd limitations in Visual Cast3m (in the on-line c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cc99"/>
              </a:buClr>
              <a:buFont typeface="Arial"/>
              <a:buChar char="•"/>
              <a:tabLst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The Glut window is not part of the Visual Cast3m </a:t>
            </a:r>
            <a:br>
              <a:rPr sz="2800"/>
            </a:b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   work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cc99"/>
              </a:buClr>
              <a:buFont typeface="Arial"/>
              <a:buChar char="•"/>
              <a:tabLst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There is only one (inter)active graphical window with no</a:t>
            </a:r>
            <a:br>
              <a:rPr sz="2800"/>
            </a:b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   persistent behaviou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                      …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but convenient for other platform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                 …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r for the off-screen draw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33720" y="38160"/>
            <a:ext cx="6172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The rendering mod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Direct integration in Cast3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220320" y="6477120"/>
            <a:ext cx="990360" cy="615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161920" y="152280"/>
            <a:ext cx="228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Institute for the Prot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and Security of the Citi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elsalogo" descr=""/>
          <p:cNvPicPr/>
          <p:nvPr/>
        </p:nvPicPr>
        <p:blipFill>
          <a:blip r:embed="rId2"/>
          <a:stretch/>
        </p:blipFill>
        <p:spPr>
          <a:xfrm>
            <a:off x="52560" y="6550200"/>
            <a:ext cx="457200" cy="276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AA553-45ED-45AA-B340-0916473C1B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14:20:29Z</dcterms:created>
  <dc:creator>bannila</dc:creator>
  <dc:description/>
  <dc:language>en-US</dc:language>
  <cp:lastModifiedBy>Philippe Buchet</cp:lastModifiedBy>
  <cp:lastPrinted>2003-04-25T09:46:40Z</cp:lastPrinted>
  <dcterms:modified xsi:type="dcterms:W3CDTF">2004-11-26T06:10:12Z</dcterms:modified>
  <cp:revision>54</cp:revision>
  <dc:subject/>
  <dc:title>PowerPoint Presentation</dc:title>
</cp:coreProperties>
</file>