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7.jpeg" ContentType="image/jpeg"/>
  <Override PartName="/ppt/media/image12.png" ContentType="image/png"/>
  <Override PartName="/ppt/media/image20.jpeg" ContentType="image/jpeg"/>
  <Override PartName="/ppt/media/image6.wmf" ContentType="image/x-wmf"/>
  <Override PartName="/ppt/media/image19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8.jpeg" ContentType="image/jpeg"/>
  <Override PartName="/ppt/media/image21.wmf" ContentType="image/x-wmf"/>
  <Override PartName="/ppt/media/image1.jpeg" ContentType="image/jpeg"/>
  <Override PartName="/ppt/media/image17.png" ContentType="image/png"/>
  <Override PartName="/ppt/media/image15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80513" cy="6840538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762120"/>
            <a:ext cx="7543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628080"/>
            <a:ext cx="7543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762120"/>
            <a:ext cx="3681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32000" y="762120"/>
            <a:ext cx="3681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628080"/>
            <a:ext cx="3681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32000" y="3628080"/>
            <a:ext cx="3681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762120"/>
            <a:ext cx="242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6920" y="762120"/>
            <a:ext cx="242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67880" y="762120"/>
            <a:ext cx="242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628080"/>
            <a:ext cx="242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6920" y="3628080"/>
            <a:ext cx="242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67880" y="3628080"/>
            <a:ext cx="242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76212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762120"/>
            <a:ext cx="3681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32000" y="762120"/>
            <a:ext cx="3681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152280"/>
            <a:ext cx="7543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762120"/>
            <a:ext cx="3681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2000" y="762120"/>
            <a:ext cx="3681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628080"/>
            <a:ext cx="3681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762120"/>
            <a:ext cx="3681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762120"/>
            <a:ext cx="3681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0" y="3628080"/>
            <a:ext cx="3681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762120"/>
            <a:ext cx="3681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0" y="762120"/>
            <a:ext cx="3681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628080"/>
            <a:ext cx="7543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e5e5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76212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77c4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e5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e5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e5e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e5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e5e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e5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e5e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e5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e5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e5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562720" y="6384600"/>
            <a:ext cx="14652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e5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e5e5e"/>
                </a:solidFill>
                <a:latin typeface="Arial"/>
              </a:rPr>
              <a:t>Club Castem    26 nov.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66680" y="6384600"/>
            <a:ext cx="42674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e5e5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e5e5e"/>
                </a:solidFill>
                <a:latin typeface="Arial"/>
              </a:rPr>
              <a:t>Direction de l’Energie Nuclé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113600" y="6386400"/>
            <a:ext cx="1496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CCF0-DDB9-49E3-BB5C-A4ECC461C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404040"/>
            <a:ext cx="74674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143000" y="609480"/>
            <a:ext cx="7467480" cy="0"/>
          </a:xfrm>
          <a:prstGeom prst="line">
            <a:avLst/>
          </a:prstGeom>
          <a:ln w="28440">
            <a:solidFill>
              <a:srgbClr val="ffb3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7621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972480" y="6383160"/>
            <a:ext cx="126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5e5e5e"/>
                </a:solidFill>
                <a:latin typeface="Arial"/>
              </a:rPr>
              <a:t>Wilfrid Faraboli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3cc"/>
                </a:solidFill>
                <a:latin typeface="Arial"/>
              </a:rPr>
              <a:t>Finite Elements Modelling  of Tritium Permeation</a:t>
            </a:r>
            <a:endParaRPr b="1" lang="en-US" sz="44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Arial"/>
              </a:rPr>
              <a:t>Tritium diffusion and convection in LiPb</a:t>
            </a:r>
            <a:endParaRPr b="0" lang="en-US" sz="2400" spc="-1" strike="noStrike">
              <a:solidFill>
                <a:srgbClr val="5e5e5e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lfrid Farabolini – Frédéric Dabbene</a:t>
            </a:r>
            <a:endParaRPr b="0" lang="en-US" sz="2400" spc="-1" strike="noStrike">
              <a:solidFill>
                <a:srgbClr val="5e5e5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CAST3M Model of the BU used for the study</a:t>
            </a:r>
            <a:endParaRPr b="1" lang="en-US" sz="24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25840" y="3178080"/>
            <a:ext cx="583884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978280" y="1673280"/>
            <a:ext cx="0" cy="150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7693200" y="1673280"/>
            <a:ext cx="0" cy="150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978280" y="10634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83480" y="317808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02880" y="880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55560" y="2862360"/>
            <a:ext cx="24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644560" y="1663560"/>
            <a:ext cx="28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654280" y="1797120"/>
            <a:ext cx="28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20880" y="1663560"/>
            <a:ext cx="0" cy="133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78280" y="1663560"/>
            <a:ext cx="4714920" cy="152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68680" y="1806480"/>
            <a:ext cx="0" cy="233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93200" y="3178080"/>
            <a:ext cx="0" cy="4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68680" y="35496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sm"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09200" y="3328920"/>
            <a:ext cx="70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600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968560" y="3187800"/>
            <a:ext cx="0" cy="51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68560" y="354960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sm"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23200" y="3281400"/>
            <a:ext cx="70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100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32480" y="158580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1.08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78840" y="1816200"/>
            <a:ext cx="398880" cy="272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4040" y="2243160"/>
            <a:ext cx="121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imposed inp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T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844640" y="2320560"/>
            <a:ext cx="1123920" cy="276120"/>
          </a:xfrm>
          <a:prstGeom prst="line">
            <a:avLst/>
          </a:prstGeom>
          <a:ln w="9360">
            <a:solidFill>
              <a:srgbClr val="3366ff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75000" y="114768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null T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330360" y="1330200"/>
            <a:ext cx="75960" cy="324000"/>
          </a:xfrm>
          <a:prstGeom prst="line">
            <a:avLst/>
          </a:prstGeom>
          <a:ln w="9360">
            <a:solidFill>
              <a:srgbClr val="3366ff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95680" y="3967200"/>
            <a:ext cx="91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FW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7040" y="2814480"/>
            <a:ext cx="2000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LiPb velocity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various possible profi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(Poiseuille, Flat, Hartman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330280" y="2472840"/>
            <a:ext cx="790920" cy="676440"/>
          </a:xfrm>
          <a:prstGeom prst="line">
            <a:avLst/>
          </a:prstGeom>
          <a:ln w="9360">
            <a:solidFill>
              <a:srgbClr val="3366ff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568840" y="1434600"/>
            <a:ext cx="0" cy="419400"/>
          </a:xfrm>
          <a:prstGeom prst="line">
            <a:avLst/>
          </a:prstGeom>
          <a:ln w="93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797440" y="1444680"/>
            <a:ext cx="0" cy="419040"/>
          </a:xfrm>
          <a:prstGeom prst="line">
            <a:avLst/>
          </a:prstGeom>
          <a:ln w="93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035760" y="1444680"/>
            <a:ext cx="0" cy="419040"/>
          </a:xfrm>
          <a:prstGeom prst="line">
            <a:avLst/>
          </a:prstGeom>
          <a:ln w="93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6283440" y="1454040"/>
            <a:ext cx="0" cy="419040"/>
          </a:xfrm>
          <a:prstGeom prst="line">
            <a:avLst/>
          </a:prstGeom>
          <a:ln w="93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88840" y="1166760"/>
            <a:ext cx="20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computed T permeation fl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884360" y="2214720"/>
            <a:ext cx="116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computed 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convection fl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52200" y="3986280"/>
            <a:ext cx="886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margin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numer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2635200" y="3530520"/>
            <a:ext cx="609480" cy="542880"/>
          </a:xfrm>
          <a:prstGeom prst="line">
            <a:avLst/>
          </a:prstGeom>
          <a:ln w="9360">
            <a:solidFill>
              <a:srgbClr val="3366ff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59640" y="2168640"/>
            <a:ext cx="41904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559640" y="2397240"/>
            <a:ext cx="41904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559640" y="2635200"/>
            <a:ext cx="41904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59640" y="2863800"/>
            <a:ext cx="41904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38520" y="852480"/>
            <a:ext cx="1499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equivalent thic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conside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He channels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06600" y="1035000"/>
            <a:ext cx="190440" cy="676440"/>
          </a:xfrm>
          <a:prstGeom prst="line">
            <a:avLst/>
          </a:prstGeom>
          <a:ln w="9360">
            <a:solidFill>
              <a:srgbClr val="3366ff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264640" y="5815080"/>
            <a:ext cx="24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3511440" y="4711680"/>
            <a:ext cx="1857240" cy="1218960"/>
            <a:chOff x="3511440" y="4711680"/>
            <a:chExt cx="1857240" cy="1218960"/>
          </a:xfrm>
        </p:grpSpPr>
        <p:sp>
          <p:nvSpPr>
            <p:cNvPr id="294" name=""/>
            <p:cNvSpPr/>
            <p:nvPr/>
          </p:nvSpPr>
          <p:spPr>
            <a:xfrm flipV="1">
              <a:off x="3564360" y="471168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11440" y="5813280"/>
              <a:ext cx="1857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62200" y="4996800"/>
              <a:ext cx="1736280" cy="738360"/>
            </a:xfrm>
            <a:custGeom>
              <a:avLst/>
              <a:gdLst/>
              <a:ahLst/>
              <a:rect l="l" t="t" r="r" b="b"/>
              <a:pathLst>
                <a:path w="987" h="378">
                  <a:moveTo>
                    <a:pt x="0" y="0"/>
                  </a:moveTo>
                  <a:cubicBezTo>
                    <a:pt x="8" y="34"/>
                    <a:pt x="16" y="69"/>
                    <a:pt x="27" y="96"/>
                  </a:cubicBezTo>
                  <a:cubicBezTo>
                    <a:pt x="38" y="123"/>
                    <a:pt x="46" y="142"/>
                    <a:pt x="66" y="165"/>
                  </a:cubicBezTo>
                  <a:cubicBezTo>
                    <a:pt x="86" y="188"/>
                    <a:pt x="123" y="220"/>
                    <a:pt x="147" y="237"/>
                  </a:cubicBezTo>
                  <a:cubicBezTo>
                    <a:pt x="171" y="254"/>
                    <a:pt x="186" y="259"/>
                    <a:pt x="213" y="270"/>
                  </a:cubicBezTo>
                  <a:cubicBezTo>
                    <a:pt x="240" y="281"/>
                    <a:pt x="270" y="293"/>
                    <a:pt x="309" y="303"/>
                  </a:cubicBezTo>
                  <a:cubicBezTo>
                    <a:pt x="348" y="313"/>
                    <a:pt x="393" y="322"/>
                    <a:pt x="447" y="330"/>
                  </a:cubicBezTo>
                  <a:cubicBezTo>
                    <a:pt x="501" y="338"/>
                    <a:pt x="565" y="344"/>
                    <a:pt x="633" y="351"/>
                  </a:cubicBezTo>
                  <a:cubicBezTo>
                    <a:pt x="701" y="358"/>
                    <a:pt x="796" y="368"/>
                    <a:pt x="855" y="372"/>
                  </a:cubicBezTo>
                  <a:cubicBezTo>
                    <a:pt x="914" y="376"/>
                    <a:pt x="950" y="377"/>
                    <a:pt x="987" y="378"/>
                  </a:cubicBezTo>
                </a:path>
              </a:pathLst>
            </a:custGeom>
            <a:noFill/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534840" y="4560840"/>
            <a:ext cx="110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T-source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613320" y="4832280"/>
            <a:ext cx="1726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Q(r) = Q</a:t>
            </a:r>
            <a:r>
              <a:rPr b="1" lang="en-GB" sz="1200" spc="-1" strike="noStrike" baseline="-25000">
                <a:solidFill>
                  <a:srgbClr val="993366"/>
                </a:solidFill>
                <a:latin typeface="Times New Roman"/>
              </a:rPr>
              <a:t>max</a:t>
            </a: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 exp (– 4.5 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5029200" y="1814400"/>
            <a:ext cx="457200" cy="1366920"/>
            <a:chOff x="5029200" y="1814400"/>
            <a:chExt cx="457200" cy="1366920"/>
          </a:xfrm>
        </p:grpSpPr>
        <p:sp>
          <p:nvSpPr>
            <p:cNvPr id="300" name=""/>
            <p:cNvSpPr/>
            <p:nvPr/>
          </p:nvSpPr>
          <p:spPr>
            <a:xfrm>
              <a:off x="5143680" y="1814400"/>
              <a:ext cx="114120" cy="13669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57800" y="1814400"/>
              <a:ext cx="114480" cy="13669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72280" y="1814400"/>
              <a:ext cx="114120" cy="13669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29200" y="1814400"/>
              <a:ext cx="114480" cy="13669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6462720" y="1814400"/>
            <a:ext cx="461880" cy="1366920"/>
            <a:chOff x="6462720" y="1814400"/>
            <a:chExt cx="461880" cy="1366920"/>
          </a:xfrm>
        </p:grpSpPr>
        <p:grpSp>
          <p:nvGrpSpPr>
            <p:cNvPr id="305" name=""/>
            <p:cNvGrpSpPr/>
            <p:nvPr/>
          </p:nvGrpSpPr>
          <p:grpSpPr>
            <a:xfrm>
              <a:off x="6467400" y="1814400"/>
              <a:ext cx="457200" cy="1366920"/>
              <a:chOff x="6467400" y="1814400"/>
              <a:chExt cx="457200" cy="1366920"/>
            </a:xfrm>
          </p:grpSpPr>
          <p:sp>
            <p:nvSpPr>
              <p:cNvPr id="306" name=""/>
              <p:cNvSpPr/>
              <p:nvPr/>
            </p:nvSpPr>
            <p:spPr>
              <a:xfrm>
                <a:off x="6581880" y="1814400"/>
                <a:ext cx="114120" cy="1366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696000" y="1814400"/>
                <a:ext cx="114480" cy="1366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810480" y="1814400"/>
                <a:ext cx="114120" cy="1366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467400" y="1814400"/>
                <a:ext cx="114480" cy="1366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6462720" y="1819440"/>
              <a:ext cx="461880" cy="1356840"/>
              <a:chOff x="6462720" y="1819440"/>
              <a:chExt cx="461880" cy="1356840"/>
            </a:xfrm>
          </p:grpSpPr>
          <p:sp>
            <p:nvSpPr>
              <p:cNvPr id="311" name=""/>
              <p:cNvSpPr/>
              <p:nvPr/>
            </p:nvSpPr>
            <p:spPr>
              <a:xfrm>
                <a:off x="6462720" y="1819440"/>
                <a:ext cx="4572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462720" y="1869480"/>
                <a:ext cx="4572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462720" y="1919520"/>
                <a:ext cx="4572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462720" y="1969920"/>
                <a:ext cx="4572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462720" y="2020320"/>
                <a:ext cx="4572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462720" y="2070360"/>
                <a:ext cx="4572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462720" y="2120760"/>
                <a:ext cx="4572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467400" y="2171160"/>
                <a:ext cx="4572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467400" y="2221200"/>
                <a:ext cx="4572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467400" y="2271600"/>
                <a:ext cx="4572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467400" y="2322000"/>
                <a:ext cx="4572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467400" y="2372400"/>
                <a:ext cx="4572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467400" y="2422440"/>
                <a:ext cx="4572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67400" y="2472840"/>
                <a:ext cx="4572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462720" y="2522880"/>
                <a:ext cx="4572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462720" y="2572920"/>
                <a:ext cx="4572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462720" y="2623320"/>
                <a:ext cx="4572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462720" y="2673720"/>
                <a:ext cx="4572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462720" y="2723760"/>
                <a:ext cx="4572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462720" y="2774160"/>
                <a:ext cx="4572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462720" y="2824560"/>
                <a:ext cx="4572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467400" y="2874960"/>
                <a:ext cx="4572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467400" y="2925000"/>
                <a:ext cx="4572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467400" y="2975400"/>
                <a:ext cx="4572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467400" y="3025800"/>
                <a:ext cx="4572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467400" y="3075840"/>
                <a:ext cx="4572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467400" y="3126240"/>
                <a:ext cx="4572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467400" y="3176280"/>
                <a:ext cx="4572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9" name=""/>
          <p:cNvSpPr/>
          <p:nvPr/>
        </p:nvSpPr>
        <p:spPr>
          <a:xfrm>
            <a:off x="4753800" y="3836880"/>
            <a:ext cx="231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type of mesh used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analytical-like comp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(homogeneous T concentration 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4797360" y="3083040"/>
            <a:ext cx="219240" cy="914400"/>
          </a:xfrm>
          <a:prstGeom prst="line">
            <a:avLst/>
          </a:prstGeom>
          <a:ln w="9360">
            <a:solidFill>
              <a:srgbClr val="3366ff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 flipV="1">
            <a:off x="6721200" y="3083040"/>
            <a:ext cx="600120" cy="2076480"/>
          </a:xfrm>
          <a:prstGeom prst="line">
            <a:avLst/>
          </a:prstGeom>
          <a:ln w="9360">
            <a:solidFill>
              <a:srgbClr val="3366ff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79560" y="4818240"/>
            <a:ext cx="202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type of mesh used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T diffusion comp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(stratified T concentration 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20880" y="1816200"/>
            <a:ext cx="0" cy="1342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13560" y="214776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20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690480" y="5113440"/>
                <a:ext cx="260208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⋅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Cast3M results – homogeneous T concentration</a:t>
            </a:r>
            <a:endParaRPr b="1" lang="en-US" sz="2400" spc="-1" strike="noStrike">
              <a:solidFill>
                <a:srgbClr val="5e5e5e"/>
              </a:solidFill>
              <a:latin typeface="Arial"/>
            </a:endParaRPr>
          </a:p>
        </p:txBody>
      </p:sp>
      <p:pic>
        <p:nvPicPr>
          <p:cNvPr id="347" name="cashomo_2" descr=""/>
          <p:cNvPicPr/>
          <p:nvPr/>
        </p:nvPicPr>
        <p:blipFill>
          <a:blip r:embed="rId1"/>
          <a:srcRect l="10000" t="71965" r="15555" b="15084"/>
          <a:stretch/>
        </p:blipFill>
        <p:spPr>
          <a:xfrm>
            <a:off x="966960" y="847800"/>
            <a:ext cx="7727760" cy="10382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1149120" y="709560"/>
            <a:ext cx="124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v = 0.25 m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18 recycling/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956280" y="8524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83.2 % of perm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667560" y="1600200"/>
            <a:ext cx="752400" cy="409680"/>
          </a:xfrm>
          <a:prstGeom prst="line">
            <a:avLst/>
          </a:prstGeom>
          <a:ln w="9360">
            <a:solidFill>
              <a:srgbClr val="3366ff"/>
            </a:solidFill>
            <a:miter/>
            <a:headEnd len="sm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cashomo2_2" descr=""/>
          <p:cNvPicPr/>
          <p:nvPr/>
        </p:nvPicPr>
        <p:blipFill>
          <a:blip r:embed="rId2"/>
          <a:srcRect l="10527" t="70892" r="15791" b="14117"/>
          <a:stretch/>
        </p:blipFill>
        <p:spPr>
          <a:xfrm>
            <a:off x="1000080" y="2048040"/>
            <a:ext cx="7699320" cy="12096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063440" y="1944720"/>
            <a:ext cx="124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v = 1.0 m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72 recycling/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66000" y="21826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39.9 % of perm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5002200" y="3003480"/>
            <a:ext cx="3800520" cy="31942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979560" y="2986200"/>
            <a:ext cx="4059000" cy="32796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2121480" y="6013440"/>
            <a:ext cx="10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v = 0.25 m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223680" y="603900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v = 1.0 m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40480" y="1709640"/>
            <a:ext cx="196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Maximum T concent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does not reached the out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Diffusion with Poiseuille velocity profile</a:t>
            </a:r>
            <a:endParaRPr b="1" lang="en-US" sz="2400" spc="-1" strike="noStrike">
              <a:solidFill>
                <a:srgbClr val="5e5e5e"/>
              </a:solidFill>
              <a:latin typeface="Arial"/>
            </a:endParaRPr>
          </a:p>
        </p:txBody>
      </p:sp>
      <p:pic>
        <p:nvPicPr>
          <p:cNvPr id="360" name="cashomo_pois1_4" descr=""/>
          <p:cNvPicPr/>
          <p:nvPr/>
        </p:nvPicPr>
        <p:blipFill>
          <a:blip r:embed="rId1"/>
          <a:stretch/>
        </p:blipFill>
        <p:spPr>
          <a:xfrm>
            <a:off x="1119240" y="1131840"/>
            <a:ext cx="7721640" cy="6177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1015920" y="741240"/>
            <a:ext cx="124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v = 0.25 m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18 recycling/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956280" y="87480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15.4 % of perm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44360" y="1874880"/>
            <a:ext cx="124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v = 1.0 m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72 recycling/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cashomo_pois2_3" descr=""/>
          <p:cNvPicPr/>
          <p:nvPr/>
        </p:nvPicPr>
        <p:blipFill>
          <a:blip r:embed="rId2"/>
          <a:stretch/>
        </p:blipFill>
        <p:spPr>
          <a:xfrm>
            <a:off x="1052640" y="2287440"/>
            <a:ext cx="7794360" cy="7034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7023240" y="2075040"/>
            <a:ext cx="150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9.4 % of perm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266840" y="3024360"/>
          <a:ext cx="6014880" cy="3282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66840" y="3024360"/>
                    <a:ext cx="6014880" cy="32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Some velocity profiles induced by MHD</a:t>
            </a:r>
            <a:endParaRPr b="1" lang="en-US" sz="2400" spc="-1" strike="noStrike">
              <a:solidFill>
                <a:srgbClr val="5e5e5e"/>
              </a:solidFill>
              <a:latin typeface="Arial"/>
            </a:endParaRPr>
          </a:p>
        </p:txBody>
      </p:sp>
      <p:pic>
        <p:nvPicPr>
          <p:cNvPr id="369" name="livreMHD1" descr=""/>
          <p:cNvPicPr/>
          <p:nvPr/>
        </p:nvPicPr>
        <p:blipFill>
          <a:blip r:embed="rId1"/>
          <a:stretch/>
        </p:blipFill>
        <p:spPr>
          <a:xfrm>
            <a:off x="1262160" y="773280"/>
            <a:ext cx="7404120" cy="3008160"/>
          </a:xfrm>
          <a:prstGeom prst="rect">
            <a:avLst/>
          </a:prstGeom>
          <a:ln w="0">
            <a:noFill/>
          </a:ln>
        </p:spPr>
      </p:pic>
      <p:pic>
        <p:nvPicPr>
          <p:cNvPr id="370" name="mhd2001" descr=""/>
          <p:cNvPicPr/>
          <p:nvPr/>
        </p:nvPicPr>
        <p:blipFill>
          <a:blip r:embed="rId2"/>
          <a:stretch/>
        </p:blipFill>
        <p:spPr>
          <a:xfrm>
            <a:off x="1928880" y="3254400"/>
            <a:ext cx="5600520" cy="27162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2948040" y="572616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Hartmann 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844960" y="580248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Side 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096920" y="6132600"/>
            <a:ext cx="596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rom Magnetofluiddynamics in Channels and Containers, U. Müller, L. Bühler, Spr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Diffusion with flat velocity profile</a:t>
            </a:r>
            <a:endParaRPr b="1" lang="en-US" sz="24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110960" y="760320"/>
            <a:ext cx="124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v = 0.25 m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18 recycling/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956280" y="96984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10.3 % of perm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063440" y="1932120"/>
            <a:ext cx="124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v = 1.0 m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72 recycling/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023240" y="2131920"/>
            <a:ext cx="150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3366"/>
                </a:solidFill>
                <a:latin typeface="Times New Roman"/>
              </a:rPr>
              <a:t>5.0 % of perm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cashomo_plat1_2" descr=""/>
          <p:cNvPicPr/>
          <p:nvPr/>
        </p:nvPicPr>
        <p:blipFill>
          <a:blip r:embed="rId1"/>
          <a:stretch/>
        </p:blipFill>
        <p:spPr>
          <a:xfrm>
            <a:off x="1108080" y="1193760"/>
            <a:ext cx="7721640" cy="601560"/>
          </a:xfrm>
          <a:prstGeom prst="rect">
            <a:avLst/>
          </a:prstGeom>
          <a:ln w="0">
            <a:noFill/>
          </a:ln>
        </p:spPr>
      </p:pic>
      <p:pic>
        <p:nvPicPr>
          <p:cNvPr id="380" name="cashomo_plat2_2" descr=""/>
          <p:cNvPicPr/>
          <p:nvPr/>
        </p:nvPicPr>
        <p:blipFill>
          <a:blip r:embed="rId2"/>
          <a:stretch/>
        </p:blipFill>
        <p:spPr>
          <a:xfrm>
            <a:off x="1090440" y="2336760"/>
            <a:ext cx="7758360" cy="662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1" name=""/>
          <p:cNvGraphicFramePr/>
          <p:nvPr/>
        </p:nvGraphicFramePr>
        <p:xfrm>
          <a:off x="1177920" y="2960640"/>
          <a:ext cx="6127920" cy="3295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7920" y="2960640"/>
                    <a:ext cx="6127920" cy="32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anal_vs_fem" descr=""/>
          <p:cNvPicPr/>
          <p:nvPr/>
        </p:nvPicPr>
        <p:blipFill>
          <a:blip r:embed="rId1"/>
          <a:stretch/>
        </p:blipFill>
        <p:spPr>
          <a:xfrm>
            <a:off x="1020600" y="706320"/>
            <a:ext cx="7074000" cy="510552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Permeation vs. LiPb Velocity for various cases</a:t>
            </a:r>
            <a:endParaRPr b="1" lang="en-US" sz="2400" spc="-1" strike="noStrike">
              <a:solidFill>
                <a:srgbClr val="5e5e5e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1540080" y="1383840"/>
            <a:ext cx="1430280" cy="4938840"/>
            <a:chOff x="1540080" y="1383840"/>
            <a:chExt cx="1430280" cy="4938840"/>
          </a:xfrm>
        </p:grpSpPr>
        <p:sp>
          <p:nvSpPr>
            <p:cNvPr id="386" name=""/>
            <p:cNvSpPr/>
            <p:nvPr/>
          </p:nvSpPr>
          <p:spPr>
            <a:xfrm flipV="1">
              <a:off x="2260440" y="1383840"/>
              <a:ext cx="0" cy="449604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540080" y="5802480"/>
              <a:ext cx="1430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993366"/>
                  </a:solidFill>
                  <a:latin typeface="Times New Roman"/>
                </a:rPr>
                <a:t>10 recycling/d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993366"/>
                  </a:solidFill>
                  <a:latin typeface="Times New Roman"/>
                </a:rPr>
                <a:t>0.063 m</a:t>
              </a:r>
              <a:r>
                <a:rPr b="1" lang="en-GB" sz="1400" spc="-1" strike="noStrike" baseline="30000">
                  <a:solidFill>
                    <a:srgbClr val="993366"/>
                  </a:solidFill>
                  <a:latin typeface="Times New Roman"/>
                </a:rPr>
                <a:t>3</a:t>
              </a:r>
              <a:r>
                <a:rPr b="1" lang="en-GB" sz="1400" spc="-1" strike="noStrike">
                  <a:solidFill>
                    <a:srgbClr val="993366"/>
                  </a:solidFill>
                  <a:latin typeface="Times New Roman"/>
                </a:rPr>
                <a:t> s</a:t>
              </a:r>
              <a:r>
                <a:rPr b="1" lang="en-GB" sz="1400" spc="-1" strike="noStrike" baseline="30000">
                  <a:solidFill>
                    <a:srgbClr val="993366"/>
                  </a:solidFill>
                  <a:latin typeface="Times New Roman"/>
                </a:rPr>
                <a:t>-1</a:t>
              </a:r>
              <a:r>
                <a:rPr b="1" lang="en-GB" sz="1400" spc="-1" strike="noStrike">
                  <a:solidFill>
                    <a:srgbClr val="993366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826080" y="2006280"/>
            <a:ext cx="1430280" cy="4341600"/>
            <a:chOff x="3826080" y="2006280"/>
            <a:chExt cx="1430280" cy="4341600"/>
          </a:xfrm>
        </p:grpSpPr>
        <p:sp>
          <p:nvSpPr>
            <p:cNvPr id="389" name=""/>
            <p:cNvSpPr/>
            <p:nvPr/>
          </p:nvSpPr>
          <p:spPr>
            <a:xfrm flipV="1">
              <a:off x="4546440" y="2006280"/>
              <a:ext cx="0" cy="388620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26080" y="5827680"/>
              <a:ext cx="1430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993366"/>
                  </a:solidFill>
                  <a:latin typeface="Times New Roman"/>
                </a:rPr>
                <a:t>72 recycling/d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993366"/>
                  </a:solidFill>
                  <a:latin typeface="Times New Roman"/>
                </a:rPr>
                <a:t>0.454 m</a:t>
              </a:r>
              <a:r>
                <a:rPr b="1" lang="en-GB" sz="1400" spc="-1" strike="noStrike" baseline="30000">
                  <a:solidFill>
                    <a:srgbClr val="993366"/>
                  </a:solidFill>
                  <a:latin typeface="Times New Roman"/>
                </a:rPr>
                <a:t>3</a:t>
              </a:r>
              <a:r>
                <a:rPr b="1" lang="en-GB" sz="1400" spc="-1" strike="noStrike">
                  <a:solidFill>
                    <a:srgbClr val="993366"/>
                  </a:solidFill>
                  <a:latin typeface="Times New Roman"/>
                </a:rPr>
                <a:t> s</a:t>
              </a:r>
              <a:r>
                <a:rPr b="1" lang="en-GB" sz="1400" spc="-1" strike="noStrike" baseline="30000">
                  <a:solidFill>
                    <a:srgbClr val="993366"/>
                  </a:solidFill>
                  <a:latin typeface="Times New Roman"/>
                </a:rPr>
                <a:t>-1</a:t>
              </a:r>
              <a:r>
                <a:rPr b="1" lang="en-GB" sz="1400" spc="-1" strike="noStrike">
                  <a:solidFill>
                    <a:srgbClr val="993366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7756560" y="471024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66ff"/>
                </a:solidFill>
                <a:latin typeface="Times New Roman"/>
              </a:rPr>
              <a:t>(mm s</a:t>
            </a:r>
            <a:r>
              <a:rPr b="1" lang="en-GB" sz="1200" spc="-1" strike="noStrike" baseline="30000">
                <a:solidFill>
                  <a:srgbClr val="0066ff"/>
                </a:solidFill>
                <a:latin typeface="Times New Roman"/>
              </a:rPr>
              <a:t>-1</a:t>
            </a:r>
            <a:r>
              <a:rPr b="1" lang="en-GB" sz="1200" spc="-1" strike="noStrike">
                <a:solidFill>
                  <a:srgbClr val="0066ff"/>
                </a:solidFill>
                <a:latin typeface="Times New Roman"/>
              </a:rPr>
              <a:t>)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392880" y="681120"/>
            <a:ext cx="2587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66ff"/>
              </a:buClr>
              <a:buFont typeface="Symbol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66ff"/>
                </a:solidFill>
                <a:latin typeface="Symbol"/>
                <a:ea typeface="Symbol"/>
              </a:rPr>
              <a:t>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66ff"/>
                </a:solidFill>
                <a:latin typeface="Times New Roman"/>
              </a:rPr>
              <a:t>forward and backward circ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Application of ITER duty factor (400 s / 1800 s)</a:t>
            </a:r>
            <a:endParaRPr b="1" lang="en-US" sz="24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35560" y="562608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66"/>
                </a:solidFill>
                <a:latin typeface="Times New Roman"/>
              </a:rPr>
              <a:t>v = 0.2 mm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63000" y="562608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66"/>
                </a:solidFill>
                <a:latin typeface="Times New Roman"/>
              </a:rPr>
              <a:t>v = 0.04 mm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987480" y="1219320"/>
            <a:ext cx="4098960" cy="42289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4008600" y="1098720"/>
            <a:ext cx="522288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33480" y="942480"/>
            <a:ext cx="7781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77c4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Taking into account T diffusion in the LiPb bulk drastically reduces the permeation rate as previously analytically computed.</a:t>
            </a: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7c4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Further works are to be completed to assess the LiPb flow (thermal convection with MHD, duct expansion/contraction, possible stagnation areas)</a:t>
            </a: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7c4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Further refinement can be introduced in the model (temperature chart for diffusivity, input T concentration, Stiffening Plates, 3D)</a:t>
            </a: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7c4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However, higher confidence in these results can only come from experimentation</a:t>
            </a: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7c4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ast3M allows to fit TBM experiments in ITER in order to find Power Reactor equivalent working points</a:t>
            </a:r>
            <a:endParaRPr b="0" lang="en-US" sz="2000" spc="-1" strike="noStrike">
              <a:solidFill>
                <a:srgbClr val="5e5e5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A Fusion Power Reactor</a:t>
            </a:r>
            <a:endParaRPr b="1" lang="en-US" sz="2400" spc="-1" strike="noStrike">
              <a:solidFill>
                <a:srgbClr val="5e5e5e"/>
              </a:solidFill>
              <a:latin typeface="Arial"/>
            </a:endParaRPr>
          </a:p>
        </p:txBody>
      </p:sp>
      <p:pic>
        <p:nvPicPr>
          <p:cNvPr id="48" name="reacteur_fusion" descr=""/>
          <p:cNvPicPr/>
          <p:nvPr/>
        </p:nvPicPr>
        <p:blipFill>
          <a:blip r:embed="rId1"/>
          <a:stretch/>
        </p:blipFill>
        <p:spPr>
          <a:xfrm>
            <a:off x="993600" y="868320"/>
            <a:ext cx="776304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Schematic Fluids Circulation in the PPCS Reactor</a:t>
            </a:r>
            <a:endParaRPr b="1" lang="en-US" sz="24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1094400" y="1004040"/>
            <a:ext cx="1592280" cy="1495440"/>
          </a:xfrm>
          <a:prstGeom prst="blockArc">
            <a:avLst>
              <a:gd name="adj1" fmla="val 12615063"/>
              <a:gd name="adj2" fmla="val 19784937"/>
              <a:gd name="adj3" fmla="val 1444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16360" y="1069920"/>
            <a:ext cx="145800" cy="13842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41520" y="1081080"/>
            <a:ext cx="144720" cy="13860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52720" y="1081080"/>
            <a:ext cx="144720" cy="13860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79520" y="2454120"/>
            <a:ext cx="1919520" cy="16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68360" y="932040"/>
            <a:ext cx="1919520" cy="14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1208160"/>
            <a:ext cx="1060200" cy="10872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46320" y="1011240"/>
            <a:ext cx="3106800" cy="3911760"/>
          </a:xfrm>
          <a:custGeom>
            <a:avLst/>
            <a:gdLst/>
            <a:ahLst/>
            <a:rect l="l" t="t" r="r" b="b"/>
            <a:pathLst>
              <a:path w="1957" h="2607">
                <a:moveTo>
                  <a:pt x="1466" y="2607"/>
                </a:moveTo>
                <a:lnTo>
                  <a:pt x="1465" y="1011"/>
                </a:lnTo>
                <a:lnTo>
                  <a:pt x="43" y="1011"/>
                </a:lnTo>
                <a:cubicBezTo>
                  <a:pt x="56" y="988"/>
                  <a:pt x="0" y="993"/>
                  <a:pt x="9" y="946"/>
                </a:cubicBezTo>
                <a:cubicBezTo>
                  <a:pt x="9" y="931"/>
                  <a:pt x="31" y="919"/>
                  <a:pt x="43" y="899"/>
                </a:cubicBezTo>
                <a:lnTo>
                  <a:pt x="85" y="848"/>
                </a:lnTo>
                <a:lnTo>
                  <a:pt x="168" y="734"/>
                </a:lnTo>
                <a:lnTo>
                  <a:pt x="239" y="596"/>
                </a:lnTo>
                <a:lnTo>
                  <a:pt x="245" y="444"/>
                </a:lnTo>
                <a:lnTo>
                  <a:pt x="218" y="329"/>
                </a:lnTo>
                <a:lnTo>
                  <a:pt x="147" y="223"/>
                </a:lnTo>
                <a:lnTo>
                  <a:pt x="63" y="139"/>
                </a:lnTo>
                <a:lnTo>
                  <a:pt x="6" y="78"/>
                </a:lnTo>
                <a:lnTo>
                  <a:pt x="0" y="24"/>
                </a:lnTo>
                <a:lnTo>
                  <a:pt x="34" y="0"/>
                </a:lnTo>
                <a:lnTo>
                  <a:pt x="1955" y="0"/>
                </a:lnTo>
                <a:lnTo>
                  <a:pt x="1957" y="1794"/>
                </a:lnTo>
              </a:path>
            </a:pathLst>
          </a:custGeom>
          <a:noFill/>
          <a:ln w="4140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984400" y="988920"/>
            <a:ext cx="1800" cy="1511280"/>
          </a:xfrm>
          <a:prstGeom prst="line">
            <a:avLst/>
          </a:prstGeom>
          <a:ln w="414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406680" y="988920"/>
            <a:ext cx="1800" cy="1511280"/>
          </a:xfrm>
          <a:prstGeom prst="line">
            <a:avLst/>
          </a:prstGeom>
          <a:ln w="414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930480" y="988920"/>
            <a:ext cx="1800" cy="1511280"/>
          </a:xfrm>
          <a:prstGeom prst="line">
            <a:avLst/>
          </a:prstGeom>
          <a:ln w="414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26040" y="3673440"/>
            <a:ext cx="322200" cy="882720"/>
          </a:xfrm>
          <a:custGeom>
            <a:avLst/>
            <a:gdLst/>
            <a:ahLst/>
            <a:rect l="l" t="t" r="r" b="b"/>
            <a:pathLst>
              <a:path w="435" h="1155">
                <a:moveTo>
                  <a:pt x="165" y="0"/>
                </a:moveTo>
                <a:lnTo>
                  <a:pt x="435" y="135"/>
                </a:lnTo>
                <a:lnTo>
                  <a:pt x="0" y="195"/>
                </a:lnTo>
                <a:lnTo>
                  <a:pt x="420" y="270"/>
                </a:lnTo>
                <a:lnTo>
                  <a:pt x="45" y="375"/>
                </a:lnTo>
                <a:lnTo>
                  <a:pt x="405" y="465"/>
                </a:lnTo>
                <a:lnTo>
                  <a:pt x="45" y="555"/>
                </a:lnTo>
                <a:lnTo>
                  <a:pt x="405" y="660"/>
                </a:lnTo>
                <a:lnTo>
                  <a:pt x="225" y="720"/>
                </a:lnTo>
                <a:lnTo>
                  <a:pt x="225" y="1155"/>
                </a:lnTo>
              </a:path>
            </a:pathLst>
          </a:custGeom>
          <a:noFill/>
          <a:ln w="4140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60840" y="1278000"/>
            <a:ext cx="3813120" cy="993600"/>
          </a:xfrm>
          <a:custGeom>
            <a:avLst/>
            <a:gdLst/>
            <a:ahLst/>
            <a:rect l="l" t="t" r="r" b="b"/>
            <a:pathLst>
              <a:path w="4905" h="1305">
                <a:moveTo>
                  <a:pt x="4905" y="1305"/>
                </a:moveTo>
                <a:lnTo>
                  <a:pt x="0" y="1305"/>
                </a:lnTo>
                <a:lnTo>
                  <a:pt x="0" y="0"/>
                </a:lnTo>
                <a:lnTo>
                  <a:pt x="4860" y="0"/>
                </a:lnTo>
                <a:lnTo>
                  <a:pt x="4860" y="180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4040" y="1424160"/>
            <a:ext cx="357120" cy="68724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70720" y="2089080"/>
            <a:ext cx="1440" cy="1699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19640" y="3119400"/>
            <a:ext cx="1036440" cy="422280"/>
          </a:xfrm>
          <a:custGeom>
            <a:avLst/>
            <a:gdLst/>
            <a:ahLst/>
            <a:rect l="l" t="t" r="r" b="b"/>
            <a:pathLst>
              <a:path w="1395" h="555">
                <a:moveTo>
                  <a:pt x="1395" y="0"/>
                </a:moveTo>
                <a:lnTo>
                  <a:pt x="0" y="0"/>
                </a:lnTo>
                <a:lnTo>
                  <a:pt x="0" y="555"/>
                </a:lnTo>
              </a:path>
            </a:pathLst>
          </a:custGeom>
          <a:noFill/>
          <a:ln w="381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451320" y="4081320"/>
            <a:ext cx="1038240" cy="424080"/>
          </a:xfrm>
          <a:custGeom>
            <a:avLst/>
            <a:gdLst/>
            <a:ahLst/>
            <a:rect l="l" t="t" r="r" b="b"/>
            <a:pathLst>
              <a:path w="1395" h="555">
                <a:moveTo>
                  <a:pt x="1395" y="0"/>
                </a:moveTo>
                <a:lnTo>
                  <a:pt x="0" y="0"/>
                </a:lnTo>
                <a:lnTo>
                  <a:pt x="0" y="555"/>
                </a:lnTo>
              </a:path>
            </a:pathLst>
          </a:custGeom>
          <a:noFill/>
          <a:ln w="381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16240" y="3519360"/>
            <a:ext cx="414360" cy="573120"/>
          </a:xfrm>
          <a:prstGeom prst="rect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2840" y="4699080"/>
            <a:ext cx="390600" cy="401400"/>
          </a:xfrm>
          <a:prstGeom prst="ellipse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70480" y="4905360"/>
            <a:ext cx="253800" cy="7920"/>
          </a:xfrm>
          <a:custGeom>
            <a:avLst/>
            <a:gdLst/>
            <a:ahLst/>
            <a:rect l="l" t="t" r="r" b="b"/>
            <a:pathLst>
              <a:path w="160" h="6">
                <a:moveTo>
                  <a:pt x="14" y="6"/>
                </a:moveTo>
                <a:lnTo>
                  <a:pt x="0" y="0"/>
                </a:lnTo>
                <a:lnTo>
                  <a:pt x="160" y="0"/>
                </a:lnTo>
              </a:path>
            </a:pathLst>
          </a:custGeom>
          <a:noFill/>
          <a:ln w="4140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13440" y="4446720"/>
            <a:ext cx="179280" cy="447480"/>
          </a:xfrm>
          <a:custGeom>
            <a:avLst/>
            <a:gdLst/>
            <a:ahLst/>
            <a:rect l="l" t="t" r="r" b="b"/>
            <a:pathLst>
              <a:path w="240" h="585">
                <a:moveTo>
                  <a:pt x="240" y="0"/>
                </a:moveTo>
                <a:lnTo>
                  <a:pt x="240" y="585"/>
                </a:lnTo>
                <a:lnTo>
                  <a:pt x="0" y="585"/>
                </a:lnTo>
              </a:path>
            </a:pathLst>
          </a:custGeom>
          <a:noFill/>
          <a:ln w="381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233600" y="2523960"/>
            <a:ext cx="190440" cy="1800"/>
          </a:xfrm>
          <a:prstGeom prst="line">
            <a:avLst/>
          </a:prstGeom>
          <a:ln w="38160">
            <a:solidFill>
              <a:srgbClr val="00ccff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24240" y="1001880"/>
            <a:ext cx="190440" cy="1440"/>
          </a:xfrm>
          <a:prstGeom prst="line">
            <a:avLst/>
          </a:prstGeom>
          <a:ln w="38160">
            <a:solidFill>
              <a:srgbClr val="00ccff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94400" y="2065320"/>
            <a:ext cx="390600" cy="40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02080" y="1278000"/>
            <a:ext cx="189000" cy="1440"/>
          </a:xfrm>
          <a:prstGeom prst="line">
            <a:avLst/>
          </a:prstGeom>
          <a:ln w="38160">
            <a:solidFill>
              <a:srgbClr val="ff99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306760" y="2271600"/>
            <a:ext cx="191880" cy="1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11840" y="1515960"/>
            <a:ext cx="555840" cy="1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35240" y="1755720"/>
            <a:ext cx="268200" cy="1731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52840" y="1278000"/>
            <a:ext cx="344520" cy="226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638440" y="3772080"/>
            <a:ext cx="558720" cy="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470560" y="3622320"/>
            <a:ext cx="257040" cy="219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6560" y="1441440"/>
            <a:ext cx="4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Times New Roman"/>
              </a:rPr>
              <a:t>J</a:t>
            </a:r>
            <a:r>
              <a:rPr b="1" lang="en-US" sz="1600" spc="-1" strike="noStrike" baseline="-25000">
                <a:solidFill>
                  <a:srgbClr val="339966"/>
                </a:solidFill>
                <a:latin typeface="Times New Roman"/>
              </a:rPr>
              <a:t>F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44920" y="1386000"/>
            <a:ext cx="465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J</a:t>
            </a:r>
            <a:r>
              <a:rPr b="1" lang="en-US" sz="1800" spc="-1" strike="noStrike" baseline="-25000">
                <a:solidFill>
                  <a:srgbClr val="993366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13320" y="3478320"/>
            <a:ext cx="2667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J</a:t>
            </a:r>
            <a:r>
              <a:rPr b="1" lang="en-US" sz="1800" spc="-1" strike="noStrike" baseline="-25000">
                <a:solidFill>
                  <a:srgbClr val="993366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94360" y="1679400"/>
            <a:ext cx="184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Tritium ex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rom LiP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03240" y="3962520"/>
            <a:ext cx="15987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He pur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78120" y="4255920"/>
            <a:ext cx="6415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400" spc="-1" strike="noStrike">
                <a:solidFill>
                  <a:srgbClr val="008000"/>
                </a:solidFill>
                <a:latin typeface="Times New Roman"/>
              </a:rPr>
              <a:t>Q</a:t>
            </a:r>
            <a:r>
              <a:rPr b="1" lang="en-US" sz="1400" spc="-1" strike="noStrike" baseline="-20000">
                <a:solidFill>
                  <a:srgbClr val="008000"/>
                </a:solidFill>
                <a:latin typeface="Times New Roman"/>
              </a:rPr>
              <a:t>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11960" y="1652760"/>
            <a:ext cx="7747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</a:t>
            </a:r>
            <a:r>
              <a:rPr b="1" lang="en-US" sz="1400" spc="-1" strike="noStrike" baseline="-20000">
                <a:solidFill>
                  <a:srgbClr val="008000"/>
                </a:solidFill>
                <a:latin typeface="Times New Roman"/>
              </a:rPr>
              <a:t>LiPb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44680" y="3659040"/>
            <a:ext cx="341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8000"/>
                </a:solidFill>
                <a:latin typeface="Symbol"/>
                <a:ea typeface="Symbol"/>
              </a:rPr>
              <a:t></a:t>
            </a:r>
            <a:r>
              <a:rPr b="1" lang="fr-FR" sz="1400" spc="-1" strike="noStrike" baseline="-25000">
                <a:solidFill>
                  <a:srgbClr val="008000"/>
                </a:solidFill>
                <a:latin typeface="Times New Roman"/>
              </a:rPr>
              <a:t>He</a:t>
            </a:r>
            <a:r>
              <a:rPr b="1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00720" y="4535640"/>
            <a:ext cx="372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imes New Roman"/>
              </a:rPr>
              <a:t>M</a:t>
            </a:r>
            <a:r>
              <a:rPr b="1" lang="en-US" sz="1400" spc="-1" strike="noStrike" baseline="-25000">
                <a:solidFill>
                  <a:srgbClr val="008000"/>
                </a:solidFill>
                <a:latin typeface="Times New Roman"/>
              </a:rPr>
              <a:t>He</a:t>
            </a:r>
            <a:r>
              <a:rPr b="1" lang="en-US" sz="12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10240" y="2152800"/>
            <a:ext cx="5875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Times New Roman"/>
              </a:rPr>
              <a:t>Q</a:t>
            </a:r>
            <a:r>
              <a:rPr b="1" lang="en-US" sz="1200" spc="-1" strike="noStrike" baseline="-25000">
                <a:solidFill>
                  <a:srgbClr val="008000"/>
                </a:solidFill>
                <a:latin typeface="Times New Roman"/>
              </a:rPr>
              <a:t>PbLi</a:t>
            </a:r>
            <a:r>
              <a:rPr b="1" lang="en-US" sz="12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3176640" y="1306080"/>
            <a:ext cx="1440" cy="466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94200" y="1738440"/>
            <a:ext cx="4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J</a:t>
            </a:r>
            <a:r>
              <a:rPr b="1" lang="en-US" sz="1800" spc="-1" strike="noStrike" baseline="-20000">
                <a:solidFill>
                  <a:srgbClr val="993366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68960" y="1165320"/>
            <a:ext cx="306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J</a:t>
            </a:r>
            <a:r>
              <a:rPr b="1" lang="en-US" sz="1800" spc="-1" strike="noStrike" baseline="-25000">
                <a:solidFill>
                  <a:srgbClr val="993366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90840" y="3438360"/>
            <a:ext cx="30780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J</a:t>
            </a:r>
            <a:r>
              <a:rPr b="1" lang="en-US" sz="1800" spc="-1" strike="noStrike" baseline="-25000">
                <a:solidFill>
                  <a:srgbClr val="993366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45120" y="4948200"/>
            <a:ext cx="325440" cy="1573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46560" y="5027760"/>
            <a:ext cx="730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Bl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2320" y="2954160"/>
            <a:ext cx="11178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Ste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90960" y="3483000"/>
            <a:ext cx="836640" cy="91440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716080" y="4229280"/>
            <a:ext cx="2457720" cy="1440"/>
          </a:xfrm>
          <a:prstGeom prst="line">
            <a:avLst/>
          </a:prstGeom>
          <a:ln w="25560">
            <a:solidFill>
              <a:srgbClr val="0000ff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6440" y="3676680"/>
            <a:ext cx="803520" cy="1440"/>
          </a:xfrm>
          <a:prstGeom prst="line">
            <a:avLst/>
          </a:prstGeom>
          <a:ln w="25560">
            <a:solidFill>
              <a:srgbClr val="0000ff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80080" y="4299120"/>
            <a:ext cx="16830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econdary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62240" y="692280"/>
            <a:ext cx="225900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HCLL Blanket mod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46560" y="1878120"/>
            <a:ext cx="735120" cy="25704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145120" y="2034720"/>
            <a:ext cx="1440" cy="2494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164120" y="2034720"/>
            <a:ext cx="1440" cy="2494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000760" y="2034720"/>
            <a:ext cx="144360" cy="18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143240" y="2028960"/>
            <a:ext cx="10332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68800" y="1459080"/>
            <a:ext cx="111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iP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r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53000" y="1797120"/>
            <a:ext cx="4888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Times New Roman"/>
              </a:rPr>
              <a:t>Pum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6927840" y="3398400"/>
            <a:ext cx="257040" cy="21924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186960" y="2552760"/>
            <a:ext cx="1189440" cy="1024200"/>
            <a:chOff x="6186960" y="2552760"/>
            <a:chExt cx="1189440" cy="1024200"/>
          </a:xfrm>
        </p:grpSpPr>
        <p:sp>
          <p:nvSpPr>
            <p:cNvPr id="112" name=""/>
            <p:cNvSpPr/>
            <p:nvPr/>
          </p:nvSpPr>
          <p:spPr>
            <a:xfrm>
              <a:off x="6186960" y="2552760"/>
              <a:ext cx="1189440" cy="102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240600" y="2552760"/>
              <a:ext cx="1081440" cy="102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 rot="16200000">
            <a:off x="6581880" y="3482640"/>
            <a:ext cx="392040" cy="490680"/>
          </a:xfrm>
          <a:custGeom>
            <a:avLst/>
            <a:gdLst>
              <a:gd name="textAreaLeft" fmla="*/ 86040 w 392040"/>
              <a:gd name="textAreaRight" fmla="*/ 306000 w 392040"/>
              <a:gd name="textAreaTop" fmla="*/ 107640 h 490680"/>
              <a:gd name="textAreaBottom" fmla="*/ 383040 h 49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rot="16200000">
            <a:off x="8006760" y="3669480"/>
            <a:ext cx="331920" cy="183960"/>
          </a:xfrm>
          <a:custGeom>
            <a:avLst/>
            <a:gdLst/>
            <a:ahLst/>
            <a:rect l="l" t="t" r="r" b="b"/>
            <a:pathLst>
              <a:path w="258" h="148">
                <a:moveTo>
                  <a:pt x="0" y="56"/>
                </a:moveTo>
                <a:lnTo>
                  <a:pt x="39" y="148"/>
                </a:lnTo>
                <a:lnTo>
                  <a:pt x="57" y="0"/>
                </a:lnTo>
                <a:lnTo>
                  <a:pt x="79" y="143"/>
                </a:lnTo>
                <a:lnTo>
                  <a:pt x="109" y="15"/>
                </a:lnTo>
                <a:lnTo>
                  <a:pt x="135" y="138"/>
                </a:lnTo>
                <a:lnTo>
                  <a:pt x="161" y="15"/>
                </a:lnTo>
                <a:lnTo>
                  <a:pt x="192" y="138"/>
                </a:lnTo>
                <a:lnTo>
                  <a:pt x="209" y="77"/>
                </a:lnTo>
                <a:lnTo>
                  <a:pt x="258" y="68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78520" y="3849840"/>
            <a:ext cx="1800" cy="90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0600" y="3040200"/>
            <a:ext cx="1136520" cy="1062000"/>
          </a:xfrm>
          <a:custGeom>
            <a:avLst/>
            <a:gdLst/>
            <a:ahLst/>
            <a:rect l="l" t="t" r="r" b="b"/>
            <a:pathLst>
              <a:path w="1004" h="1108">
                <a:moveTo>
                  <a:pt x="0" y="0"/>
                </a:moveTo>
                <a:lnTo>
                  <a:pt x="0" y="1108"/>
                </a:lnTo>
                <a:lnTo>
                  <a:pt x="1004" y="1108"/>
                </a:lnTo>
                <a:lnTo>
                  <a:pt x="1004" y="4"/>
                </a:lnTo>
              </a:path>
            </a:pathLst>
          </a:custGeom>
          <a:noFill/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7584840" y="2564640"/>
            <a:ext cx="1176120" cy="1413360"/>
            <a:chOff x="7584840" y="2564640"/>
            <a:chExt cx="1176120" cy="1413360"/>
          </a:xfrm>
        </p:grpSpPr>
        <p:sp>
          <p:nvSpPr>
            <p:cNvPr id="119" name=""/>
            <p:cNvSpPr/>
            <p:nvPr/>
          </p:nvSpPr>
          <p:spPr>
            <a:xfrm flipV="1">
              <a:off x="7584840" y="2577240"/>
              <a:ext cx="388080" cy="139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8372880" y="2564280"/>
              <a:ext cx="388080" cy="140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973280" y="3290400"/>
              <a:ext cx="39924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19200" y="3978000"/>
              <a:ext cx="73728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 flipV="1">
            <a:off x="6864480" y="3922200"/>
            <a:ext cx="11682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42400" y="3579840"/>
            <a:ext cx="1440" cy="345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8028000" y="3594240"/>
            <a:ext cx="1350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170920" y="3908520"/>
            <a:ext cx="1440" cy="333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8335800" y="3017880"/>
            <a:ext cx="155880" cy="3427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67320" y="2838600"/>
            <a:ext cx="884520" cy="404640"/>
          </a:xfrm>
          <a:prstGeom prst="rect">
            <a:avLst/>
          </a:prstGeom>
          <a:noFill/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4040" y="2841480"/>
            <a:ext cx="9126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r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3240" y="1893960"/>
            <a:ext cx="6415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400" spc="-1" strike="noStrike">
                <a:solidFill>
                  <a:srgbClr val="008000"/>
                </a:solidFill>
                <a:latin typeface="Times New Roman"/>
              </a:rPr>
              <a:t>Q</a:t>
            </a:r>
            <a:r>
              <a:rPr b="1" lang="en-US" sz="1400" spc="-1" strike="noStrike" baseline="-20000">
                <a:solidFill>
                  <a:srgbClr val="008000"/>
                </a:solidFill>
                <a:latin typeface="Times New Roman"/>
              </a:rPr>
              <a:t>Pb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08440" y="4705200"/>
            <a:ext cx="445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8000"/>
                </a:solidFill>
                <a:latin typeface="Times New Roman"/>
              </a:rPr>
              <a:t>Q</a:t>
            </a:r>
            <a:r>
              <a:rPr b="1" lang="fr-FR" sz="1400" spc="-1" strike="noStrike" baseline="-25000">
                <a:solidFill>
                  <a:srgbClr val="008000"/>
                </a:solidFill>
                <a:latin typeface="Times New Roman"/>
              </a:rPr>
              <a:t>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76760" y="933480"/>
            <a:ext cx="5680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8000"/>
                </a:solidFill>
                <a:latin typeface="Times New Roman"/>
              </a:rPr>
              <a:t>M</a:t>
            </a:r>
            <a:r>
              <a:rPr b="1" lang="fr-FR" sz="1400" spc="-1" strike="noStrike" baseline="-20000">
                <a:solidFill>
                  <a:srgbClr val="008000"/>
                </a:solidFill>
                <a:latin typeface="Times New Roman"/>
              </a:rPr>
              <a:t>LiP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95480" y="5433840"/>
            <a:ext cx="7467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66"/>
                </a:solidFill>
                <a:latin typeface="Times New Roman"/>
              </a:rPr>
              <a:t>J</a:t>
            </a:r>
            <a:r>
              <a:rPr b="1" lang="en-GB" sz="2400" spc="-1" strike="noStrike" baseline="-25000">
                <a:solidFill>
                  <a:srgbClr val="993366"/>
                </a:solidFill>
                <a:latin typeface="Times New Roman"/>
              </a:rPr>
              <a:t>1</a:t>
            </a:r>
            <a:r>
              <a:rPr b="1" lang="en-GB" sz="2400" spc="-1" strike="noStrike">
                <a:solidFill>
                  <a:srgbClr val="993366"/>
                </a:solidFill>
                <a:latin typeface="Times New Roman"/>
              </a:rPr>
              <a:t> = 610 g/day (4000 MW fusion pow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66"/>
                </a:solidFill>
                <a:latin typeface="Times New Roman"/>
              </a:rPr>
              <a:t>Q</a:t>
            </a:r>
            <a:r>
              <a:rPr b="1" lang="en-GB" sz="2400" spc="-1" strike="noStrike" baseline="-25000">
                <a:solidFill>
                  <a:srgbClr val="993366"/>
                </a:solidFill>
                <a:latin typeface="Times New Roman"/>
              </a:rPr>
              <a:t>He</a:t>
            </a:r>
            <a:r>
              <a:rPr b="1" lang="en-GB" sz="2400" spc="-1" strike="noStrike">
                <a:solidFill>
                  <a:srgbClr val="993366"/>
                </a:solidFill>
                <a:latin typeface="Times New Roman"/>
              </a:rPr>
              <a:t> = 4000 kg/s (T</a:t>
            </a:r>
            <a:r>
              <a:rPr b="1" lang="en-GB" sz="2400" spc="-1" strike="noStrike" baseline="-25000">
                <a:solidFill>
                  <a:srgbClr val="993366"/>
                </a:solidFill>
                <a:latin typeface="Times New Roman"/>
              </a:rPr>
              <a:t>in</a:t>
            </a:r>
            <a:r>
              <a:rPr b="1" lang="en-GB" sz="2400" spc="-1" strike="noStrike">
                <a:solidFill>
                  <a:srgbClr val="993366"/>
                </a:solidFill>
                <a:latin typeface="Times New Roman"/>
              </a:rPr>
              <a:t> = 300°C, T</a:t>
            </a:r>
            <a:r>
              <a:rPr b="1" lang="en-GB" sz="2400" spc="-1" strike="noStrike" baseline="-25000">
                <a:solidFill>
                  <a:srgbClr val="993366"/>
                </a:solidFill>
                <a:latin typeface="Times New Roman"/>
              </a:rPr>
              <a:t>out</a:t>
            </a:r>
            <a:r>
              <a:rPr b="1" lang="en-GB" sz="2400" spc="-1" strike="noStrike">
                <a:solidFill>
                  <a:srgbClr val="993366"/>
                </a:solidFill>
                <a:latin typeface="Times New Roman"/>
              </a:rPr>
              <a:t> = 500°C, P= 8.0 M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Concept of the HCLL Blanket Modules</a:t>
            </a:r>
            <a:endParaRPr b="1" lang="en-US" sz="2400" spc="-1" strike="noStrike">
              <a:solidFill>
                <a:srgbClr val="5e5e5e"/>
              </a:solidFill>
              <a:latin typeface="Arial"/>
            </a:endParaRPr>
          </a:p>
        </p:txBody>
      </p:sp>
      <p:pic>
        <p:nvPicPr>
          <p:cNvPr id="135" name="éclaté_2004-09-02_01" descr=""/>
          <p:cNvPicPr/>
          <p:nvPr/>
        </p:nvPicPr>
        <p:blipFill>
          <a:blip r:embed="rId1"/>
          <a:stretch/>
        </p:blipFill>
        <p:spPr>
          <a:xfrm>
            <a:off x="339840" y="1689120"/>
            <a:ext cx="5418000" cy="3784680"/>
          </a:xfrm>
          <a:prstGeom prst="rect">
            <a:avLst/>
          </a:prstGeom>
          <a:ln w="0">
            <a:noFill/>
          </a:ln>
        </p:spPr>
      </p:pic>
      <p:pic>
        <p:nvPicPr>
          <p:cNvPr id="136" name="INSERT14" descr=""/>
          <p:cNvPicPr/>
          <p:nvPr/>
        </p:nvPicPr>
        <p:blipFill>
          <a:blip r:embed="rId2"/>
          <a:stretch/>
        </p:blipFill>
        <p:spPr>
          <a:xfrm>
            <a:off x="5632560" y="3862440"/>
            <a:ext cx="2971800" cy="2055600"/>
          </a:xfrm>
          <a:prstGeom prst="rect">
            <a:avLst/>
          </a:prstGeom>
          <a:ln w="0">
            <a:noFill/>
          </a:ln>
        </p:spPr>
      </p:pic>
      <p:pic>
        <p:nvPicPr>
          <p:cNvPr id="137" name="demo_6" descr=""/>
          <p:cNvPicPr/>
          <p:nvPr/>
        </p:nvPicPr>
        <p:blipFill>
          <a:blip r:embed="rId3"/>
          <a:stretch/>
        </p:blipFill>
        <p:spPr>
          <a:xfrm>
            <a:off x="5659560" y="1073160"/>
            <a:ext cx="3238200" cy="2790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488960" y="5637240"/>
            <a:ext cx="20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66"/>
                </a:solidFill>
                <a:latin typeface="Times New Roman"/>
              </a:rPr>
              <a:t>Demo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00640" y="5891040"/>
            <a:ext cx="20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66"/>
                </a:solidFill>
                <a:latin typeface="Times New Roman"/>
              </a:rPr>
              <a:t>Breeding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0240" y="152280"/>
            <a:ext cx="768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33cc"/>
                </a:solidFill>
                <a:latin typeface="Arial"/>
              </a:rPr>
              <a:t>Analytical Model – Tritium Mass Balance Equations 1/2</a:t>
            </a:r>
            <a:endParaRPr b="1" lang="en-US" sz="2200" spc="-1" strike="noStrike">
              <a:solidFill>
                <a:srgbClr val="5e5e5e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465200" y="765000"/>
            <a:ext cx="6149880" cy="1370880"/>
            <a:chOff x="1465200" y="765000"/>
            <a:chExt cx="6149880" cy="1370880"/>
          </a:xfrm>
        </p:grpSpPr>
        <p:sp>
          <p:nvSpPr>
            <p:cNvPr id="142" name=""/>
            <p:cNvSpPr/>
            <p:nvPr/>
          </p:nvSpPr>
          <p:spPr>
            <a:xfrm>
              <a:off x="2543040" y="1066680"/>
              <a:ext cx="990720" cy="45720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3366"/>
                  </a:solidFill>
                  <a:latin typeface="Times New Roman"/>
                </a:rPr>
                <a:t>LiP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78520" y="1077840"/>
              <a:ext cx="990360" cy="457200"/>
            </a:xfrm>
            <a:prstGeom prst="rect">
              <a:avLst/>
            </a:prstGeom>
            <a:solidFill>
              <a:srgbClr val="00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3366"/>
                  </a:solidFill>
                  <a:latin typeface="Times New Roman"/>
                </a:rPr>
                <a:t>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49560" y="1535040"/>
              <a:ext cx="684360" cy="430200"/>
            </a:xfrm>
            <a:custGeom>
              <a:avLst/>
              <a:gdLst/>
              <a:ahLst/>
              <a:rect l="l" t="t" r="r" b="b"/>
              <a:pathLst>
                <a:path w="431" h="271">
                  <a:moveTo>
                    <a:pt x="0" y="0"/>
                  </a:moveTo>
                  <a:lnTo>
                    <a:pt x="0" y="271"/>
                  </a:lnTo>
                  <a:lnTo>
                    <a:pt x="431" y="271"/>
                  </a:lnTo>
                </a:path>
              </a:pathLst>
            </a:custGeom>
            <a:noFill/>
            <a:ln w="63360">
              <a:solidFill>
                <a:srgbClr val="008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56240" y="1547640"/>
              <a:ext cx="684360" cy="430560"/>
            </a:xfrm>
            <a:custGeom>
              <a:avLst/>
              <a:gdLst/>
              <a:ahLst/>
              <a:rect l="l" t="t" r="r" b="b"/>
              <a:pathLst>
                <a:path w="431" h="271">
                  <a:moveTo>
                    <a:pt x="0" y="0"/>
                  </a:moveTo>
                  <a:lnTo>
                    <a:pt x="0" y="271"/>
                  </a:lnTo>
                  <a:lnTo>
                    <a:pt x="431" y="271"/>
                  </a:lnTo>
                </a:path>
              </a:pathLst>
            </a:custGeom>
            <a:noFill/>
            <a:ln w="63360">
              <a:solidFill>
                <a:srgbClr val="3399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33760" y="1270080"/>
              <a:ext cx="1550880" cy="42840"/>
            </a:xfrm>
            <a:custGeom>
              <a:avLst/>
              <a:gdLst/>
              <a:ahLst/>
              <a:rect l="l" t="t" r="r" b="b"/>
              <a:pathLst>
                <a:path w="772" h="4">
                  <a:moveTo>
                    <a:pt x="0" y="0"/>
                  </a:moveTo>
                  <a:lnTo>
                    <a:pt x="10" y="4"/>
                  </a:lnTo>
                  <a:lnTo>
                    <a:pt x="772" y="4"/>
                  </a:lnTo>
                </a:path>
              </a:pathLst>
            </a:custGeom>
            <a:noFill/>
            <a:ln w="63360">
              <a:solidFill>
                <a:srgbClr val="ff66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93000" y="1285920"/>
              <a:ext cx="1066680" cy="42840"/>
            </a:xfrm>
            <a:custGeom>
              <a:avLst/>
              <a:gdLst/>
              <a:ahLst/>
              <a:rect l="l" t="t" r="r" b="b"/>
              <a:pathLst>
                <a:path w="772" h="4">
                  <a:moveTo>
                    <a:pt x="0" y="0"/>
                  </a:moveTo>
                  <a:lnTo>
                    <a:pt x="10" y="4"/>
                  </a:lnTo>
                  <a:lnTo>
                    <a:pt x="772" y="4"/>
                  </a:ln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65200" y="1230480"/>
              <a:ext cx="1067040" cy="42840"/>
            </a:xfrm>
            <a:custGeom>
              <a:avLst/>
              <a:gdLst/>
              <a:ahLst/>
              <a:rect l="l" t="t" r="r" b="b"/>
              <a:pathLst>
                <a:path w="772" h="4">
                  <a:moveTo>
                    <a:pt x="0" y="0"/>
                  </a:moveTo>
                  <a:lnTo>
                    <a:pt x="10" y="4"/>
                  </a:lnTo>
                  <a:lnTo>
                    <a:pt x="772" y="4"/>
                  </a:lnTo>
                </a:path>
              </a:pathLst>
            </a:custGeom>
            <a:noFill/>
            <a:ln w="63360">
              <a:solidFill>
                <a:srgbClr val="0033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73120" y="7650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3366"/>
                  </a:solidFill>
                  <a:latin typeface="Times New Roman"/>
                </a:rPr>
                <a:t>J</a:t>
              </a:r>
              <a:r>
                <a:rPr b="1" lang="en-GB" sz="2400" spc="-1" strike="noStrike" baseline="-25000">
                  <a:solidFill>
                    <a:srgbClr val="9933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16280" y="1571760"/>
              <a:ext cx="469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3366"/>
                  </a:solidFill>
                  <a:latin typeface="Times New Roman"/>
                </a:rPr>
                <a:t>J</a:t>
              </a:r>
              <a:r>
                <a:rPr b="1" lang="en-GB" sz="2400" spc="-1" strike="noStrike" baseline="-25000">
                  <a:solidFill>
                    <a:srgbClr val="9933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94600" y="1625760"/>
              <a:ext cx="469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3366"/>
                  </a:solidFill>
                  <a:latin typeface="Times New Roman"/>
                </a:rPr>
                <a:t>J</a:t>
              </a:r>
              <a:r>
                <a:rPr b="1" lang="en-GB" sz="2400" spc="-1" strike="noStrike" baseline="-25000">
                  <a:solidFill>
                    <a:srgbClr val="9933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32360" y="809640"/>
              <a:ext cx="469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3366"/>
                  </a:solidFill>
                  <a:latin typeface="Times New Roman"/>
                </a:rPr>
                <a:t>J</a:t>
              </a:r>
              <a:r>
                <a:rPr b="1" lang="en-GB" sz="2400" spc="-1" strike="noStrike" baseline="-25000">
                  <a:solidFill>
                    <a:srgbClr val="9933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45280" y="830160"/>
              <a:ext cx="469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3366"/>
                  </a:solidFill>
                  <a:latin typeface="Times New Roman"/>
                </a:rPr>
                <a:t>J</a:t>
              </a:r>
              <a:r>
                <a:rPr b="1" lang="en-GB" sz="2400" spc="-1" strike="noStrike" baseline="-25000">
                  <a:solidFill>
                    <a:srgbClr val="9933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 rot="20622000">
            <a:off x="6076800" y="5700240"/>
            <a:ext cx="752760" cy="515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20804400">
            <a:off x="6410160" y="2020680"/>
            <a:ext cx="1589400" cy="86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791400" y="771480"/>
            <a:ext cx="2209320" cy="5124600"/>
            <a:chOff x="6791400" y="771480"/>
            <a:chExt cx="2209320" cy="5124600"/>
          </a:xfrm>
        </p:grpSpPr>
        <p:grpSp>
          <p:nvGrpSpPr>
            <p:cNvPr id="157" name=""/>
            <p:cNvGrpSpPr/>
            <p:nvPr/>
          </p:nvGrpSpPr>
          <p:grpSpPr>
            <a:xfrm>
              <a:off x="7534440" y="771480"/>
              <a:ext cx="1466280" cy="1428480"/>
              <a:chOff x="7534440" y="771480"/>
              <a:chExt cx="1466280" cy="1428480"/>
            </a:xfrm>
          </p:grpSpPr>
          <p:sp>
            <p:nvSpPr>
              <p:cNvPr id="158" name=""/>
              <p:cNvSpPr/>
              <p:nvPr/>
            </p:nvSpPr>
            <p:spPr>
              <a:xfrm>
                <a:off x="7534440" y="771480"/>
                <a:ext cx="1466280" cy="1428480"/>
              </a:xfrm>
              <a:prstGeom prst="irregularSeal1">
                <a:avLst/>
              </a:prstGeom>
              <a:solidFill>
                <a:srgbClr val="ffff99">
                  <a:alpha val="50000"/>
                </a:srgbClr>
              </a:solidFill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733880" y="1137240"/>
                <a:ext cx="1001880" cy="66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0000"/>
                    </a:solidFill>
                    <a:latin typeface="Arial Unicode MS"/>
                  </a:rPr>
                  <a:t>   </a:t>
                </a:r>
                <a:r>
                  <a:rPr b="1" lang="en-GB" sz="1800" spc="-1" strike="noStrike">
                    <a:solidFill>
                      <a:srgbClr val="ff0000"/>
                    </a:solidFill>
                    <a:latin typeface="Times New Roman"/>
                  </a:rPr>
                  <a:t>J</a:t>
                </a:r>
                <a:r>
                  <a:rPr b="1" lang="en-GB" sz="1800" spc="-1" strike="noStrike" baseline="-20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GB" sz="1800" spc="-1" strike="noStrike">
                    <a:solidFill>
                      <a:srgbClr val="ff0000"/>
                    </a:solidFill>
                    <a:latin typeface="Times New Roman"/>
                  </a:rPr>
                  <a:t> / J</a:t>
                </a:r>
                <a:r>
                  <a:rPr b="1" lang="en-GB" sz="1800" spc="-1" strike="noStrike" baseline="-20000">
                    <a:solidFill>
                      <a:srgbClr val="ff0000"/>
                    </a:solidFill>
                    <a:latin typeface="Times New Roman"/>
                  </a:rPr>
                  <a:t>5</a:t>
                </a:r>
                <a:r>
                  <a:rPr b="1" lang="en-GB" sz="1800" spc="-1" strike="noStrike">
                    <a:solidFill>
                      <a:srgbClr val="ff0000"/>
                    </a:solidFill>
                    <a:latin typeface="Times New Roman"/>
                  </a:rPr>
                  <a:t> =222650</a:t>
                </a:r>
                <a:r>
                  <a:rPr b="1" lang="en-GB" sz="1200" spc="-1" strike="noStrike">
                    <a:solidFill>
                      <a:srgbClr val="9933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6791400" y="1971720"/>
              <a:ext cx="1763640" cy="3924360"/>
            </a:xfrm>
            <a:custGeom>
              <a:avLst/>
              <a:gdLst/>
              <a:ahLst/>
              <a:rect l="l" t="t" r="r" b="b"/>
              <a:pathLst>
                <a:path w="1111" h="2472">
                  <a:moveTo>
                    <a:pt x="0" y="2472"/>
                  </a:moveTo>
                  <a:cubicBezTo>
                    <a:pt x="122" y="2417"/>
                    <a:pt x="245" y="2362"/>
                    <a:pt x="414" y="2136"/>
                  </a:cubicBezTo>
                  <a:cubicBezTo>
                    <a:pt x="583" y="1910"/>
                    <a:pt x="917" y="1472"/>
                    <a:pt x="1014" y="1116"/>
                  </a:cubicBezTo>
                  <a:cubicBezTo>
                    <a:pt x="1111" y="760"/>
                    <a:pt x="1053" y="380"/>
                    <a:pt x="996" y="0"/>
                  </a:cubicBezTo>
                </a:path>
              </a:pathLst>
            </a:custGeom>
            <a:noFill/>
            <a:ln w="25560">
              <a:solidFill>
                <a:srgbClr val="ff33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62840" y="1962000"/>
              <a:ext cx="324000" cy="466920"/>
            </a:xfrm>
            <a:custGeom>
              <a:avLst/>
              <a:gdLst/>
              <a:ahLst/>
              <a:rect l="l" t="t" r="r" b="b"/>
              <a:pathLst>
                <a:path w="108" h="240">
                  <a:moveTo>
                    <a:pt x="0" y="240"/>
                  </a:moveTo>
                  <a:cubicBezTo>
                    <a:pt x="24" y="227"/>
                    <a:pt x="48" y="214"/>
                    <a:pt x="66" y="174"/>
                  </a:cubicBezTo>
                  <a:cubicBezTo>
                    <a:pt x="84" y="134"/>
                    <a:pt x="96" y="67"/>
                    <a:pt x="108" y="0"/>
                  </a:cubicBezTo>
                </a:path>
              </a:pathLst>
            </a:custGeom>
            <a:noFill/>
            <a:ln w="25560">
              <a:solidFill>
                <a:srgbClr val="ff33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7524360" y="2282760"/>
            <a:ext cx="457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76040" y="2282760"/>
            <a:ext cx="89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62560" y="2282760"/>
            <a:ext cx="159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2282760"/>
            <a:ext cx="476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61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67800" y="2282760"/>
            <a:ext cx="124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63200" y="247968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75240" y="2246400"/>
            <a:ext cx="252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4960" y="2236680"/>
            <a:ext cx="4852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7c4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66"/>
                </a:solidFill>
                <a:latin typeface="Arial"/>
              </a:rPr>
              <a:t>J</a:t>
            </a:r>
            <a:r>
              <a:rPr b="1" lang="en-GB" sz="2000" spc="-1" strike="noStrike" baseline="-20000">
                <a:solidFill>
                  <a:srgbClr val="993366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993366"/>
                </a:solidFill>
                <a:latin typeface="Arial"/>
              </a:rPr>
              <a:t> : Production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804960" y="2674800"/>
            <a:ext cx="7711920" cy="1189080"/>
            <a:chOff x="804960" y="2674800"/>
            <a:chExt cx="7711920" cy="1189080"/>
          </a:xfrm>
        </p:grpSpPr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5951520" y="2954160"/>
                  <a:ext cx="2565360" cy="48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η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LiPb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ut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LiP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2" name=""/>
            <p:cNvSpPr/>
            <p:nvPr/>
          </p:nvSpPr>
          <p:spPr>
            <a:xfrm>
              <a:off x="804960" y="2674800"/>
              <a:ext cx="48528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marL="329040" indent="-329040">
                <a:lnSpc>
                  <a:spcPct val="100000"/>
                </a:lnSpc>
                <a:spcBef>
                  <a:spcPts val="499"/>
                </a:spcBef>
                <a:buClr>
                  <a:srgbClr val="77c40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993366"/>
                  </a:solidFill>
                  <a:latin typeface="Arial"/>
                </a:rPr>
                <a:t>J</a:t>
              </a:r>
              <a:r>
                <a:rPr b="1" lang="en-GB" sz="2000" spc="-1" strike="noStrike" baseline="-20000">
                  <a:solidFill>
                    <a:srgbClr val="993366"/>
                  </a:solidFill>
                  <a:latin typeface="Arial"/>
                </a:rPr>
                <a:t>2</a:t>
              </a:r>
              <a:r>
                <a:rPr b="0" lang="en-GB" sz="2000" spc="-1" strike="noStrike">
                  <a:solidFill>
                    <a:srgbClr val="993366"/>
                  </a:solidFill>
                  <a:latin typeface="Arial"/>
                </a:rPr>
                <a:t> : Extraction from LiP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5e5e5e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</a:t>
              </a:r>
              <a:r>
                <a:rPr b="0" lang="en-GB" sz="1400" spc="-1" strike="noStrike" baseline="-24000">
                  <a:solidFill>
                    <a:srgbClr val="0033cc"/>
                  </a:solidFill>
                  <a:latin typeface="Arial"/>
                </a:rPr>
                <a:t>LiPb</a:t>
              </a: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 :</a:t>
              </a: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extractor efficiency for LiP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C</a:t>
              </a:r>
              <a:r>
                <a:rPr b="0" lang="en-GB" sz="1400" spc="-1" strike="noStrike" baseline="-20000">
                  <a:solidFill>
                    <a:srgbClr val="0033cc"/>
                  </a:solidFill>
                  <a:latin typeface="Arial"/>
                </a:rPr>
                <a:t>out</a:t>
              </a: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 :</a:t>
              </a: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Tritium output concentration in LiPb (mol m</a:t>
              </a:r>
              <a:r>
                <a:rPr b="0" lang="en-GB" sz="1400" spc="-1" strike="noStrike" baseline="30000">
                  <a:solidFill>
                    <a:srgbClr val="0033cc"/>
                  </a:solidFill>
                  <a:latin typeface="Arial"/>
                </a:rPr>
                <a:t>-3</a:t>
              </a: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)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29040" indent="-329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G</a:t>
              </a:r>
              <a:r>
                <a:rPr b="0" lang="en-GB" sz="1400" spc="-1" strike="noStrike" baseline="-20000">
                  <a:solidFill>
                    <a:srgbClr val="0033cc"/>
                  </a:solidFill>
                  <a:latin typeface="Arial"/>
                </a:rPr>
                <a:t>LiPb</a:t>
              </a: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 :</a:t>
              </a: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LiPb flow rate (m</a:t>
              </a:r>
              <a:r>
                <a:rPr b="0" lang="en-GB" sz="1400" spc="-1" strike="noStrike" baseline="30000">
                  <a:solidFill>
                    <a:srgbClr val="0033cc"/>
                  </a:solidFill>
                  <a:latin typeface="Arial"/>
                </a:rPr>
                <a:t>3</a:t>
              </a: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 s</a:t>
              </a:r>
              <a:r>
                <a:rPr b="0" lang="en-GB" sz="1400" spc="-1" strike="noStrike" baseline="30000">
                  <a:solidFill>
                    <a:srgbClr val="0033cc"/>
                  </a:solidFill>
                  <a:latin typeface="Arial"/>
                </a:rPr>
                <a:t>-1</a:t>
              </a: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804960" y="3813120"/>
            <a:ext cx="7229520" cy="1031760"/>
            <a:chOff x="804960" y="3813120"/>
            <a:chExt cx="7229520" cy="1031760"/>
          </a:xfrm>
        </p:grpSpPr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5951520" y="3813120"/>
                  <a:ext cx="208296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ve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lanke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5" name=""/>
            <p:cNvSpPr/>
            <p:nvPr/>
          </p:nvSpPr>
          <p:spPr>
            <a:xfrm>
              <a:off x="804960" y="3846600"/>
              <a:ext cx="485280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312120" indent="-312120">
                <a:lnSpc>
                  <a:spcPct val="100000"/>
                </a:lnSpc>
                <a:buClr>
                  <a:srgbClr val="77c40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993366"/>
                  </a:solidFill>
                  <a:latin typeface="Arial"/>
                </a:rPr>
                <a:t>J</a:t>
              </a:r>
              <a:r>
                <a:rPr b="1" lang="en-GB" sz="2000" spc="-1" strike="noStrike" baseline="-20000">
                  <a:solidFill>
                    <a:srgbClr val="993366"/>
                  </a:solidFill>
                  <a:latin typeface="Arial"/>
                </a:rPr>
                <a:t>3</a:t>
              </a:r>
              <a:r>
                <a:rPr b="0" lang="en-GB" sz="2000" spc="-1" strike="noStrike">
                  <a:solidFill>
                    <a:srgbClr val="993366"/>
                  </a:solidFill>
                  <a:latin typeface="Arial"/>
                </a:rPr>
                <a:t> : Permeation towards He cool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12120" indent="-312120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5e5e5e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C</a:t>
              </a:r>
              <a:r>
                <a:rPr b="0" lang="en-GB" sz="1400" spc="-1" strike="noStrike" baseline="-20000">
                  <a:solidFill>
                    <a:srgbClr val="0033cc"/>
                  </a:solidFill>
                  <a:latin typeface="Arial"/>
                </a:rPr>
                <a:t>ave</a:t>
              </a: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 :</a:t>
              </a: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Tritium average concentration in LiPb (mol m</a:t>
              </a:r>
              <a:r>
                <a:rPr b="0" lang="en-GB" sz="1400" spc="-1" strike="noStrike" baseline="30000">
                  <a:solidFill>
                    <a:srgbClr val="0033cc"/>
                  </a:solidFill>
                  <a:latin typeface="Arial"/>
                </a:rPr>
                <a:t>-3</a:t>
              </a: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12120" indent="-312120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K</a:t>
              </a:r>
              <a:r>
                <a:rPr b="0" lang="en-GB" sz="1400" spc="-1" strike="noStrike" baseline="-20000">
                  <a:solidFill>
                    <a:srgbClr val="0033cc"/>
                  </a:solidFill>
                  <a:latin typeface="Arial"/>
                </a:rPr>
                <a:t>blanket</a:t>
              </a: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:</a:t>
              </a: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Blanket permeation factor (m</a:t>
              </a:r>
              <a:r>
                <a:rPr b="0" lang="en-GB" sz="1400" spc="-1" strike="noStrike" baseline="30000">
                  <a:solidFill>
                    <a:srgbClr val="0033cc"/>
                  </a:solidFill>
                  <a:latin typeface="Arial"/>
                </a:rPr>
                <a:t>3</a:t>
              </a: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 s</a:t>
              </a:r>
              <a:r>
                <a:rPr b="0" lang="en-GB" sz="1400" spc="-1" strike="noStrike" baseline="30000">
                  <a:solidFill>
                    <a:srgbClr val="0033cc"/>
                  </a:solidFill>
                  <a:latin typeface="Arial"/>
                </a:rPr>
                <a:t>-1</a:t>
              </a: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804960" y="4753080"/>
            <a:ext cx="7391160" cy="815760"/>
            <a:chOff x="804960" y="4753080"/>
            <a:chExt cx="7391160" cy="815760"/>
          </a:xfrm>
        </p:grpSpPr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5951520" y="4753080"/>
                  <a:ext cx="224460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η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He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He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H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8" name=""/>
            <p:cNvSpPr/>
            <p:nvPr/>
          </p:nvSpPr>
          <p:spPr>
            <a:xfrm>
              <a:off x="804960" y="4780080"/>
              <a:ext cx="4852800" cy="78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buClr>
                  <a:srgbClr val="77c40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993366"/>
                  </a:solidFill>
                  <a:latin typeface="Arial"/>
                </a:rPr>
                <a:t>J</a:t>
              </a:r>
              <a:r>
                <a:rPr b="1" lang="en-GB" sz="2000" spc="-1" strike="noStrike" baseline="-20000">
                  <a:solidFill>
                    <a:srgbClr val="993366"/>
                  </a:solidFill>
                  <a:latin typeface="Arial"/>
                </a:rPr>
                <a:t>4</a:t>
              </a:r>
              <a:r>
                <a:rPr b="0" lang="en-GB" sz="2000" spc="-1" strike="noStrike">
                  <a:solidFill>
                    <a:srgbClr val="993366"/>
                  </a:solidFill>
                  <a:latin typeface="Arial"/>
                </a:rPr>
                <a:t> : Extraction from He cool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5e5e5e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G</a:t>
              </a:r>
              <a:r>
                <a:rPr b="0" lang="en-GB" sz="1400" spc="-1" strike="noStrike" baseline="-20000">
                  <a:solidFill>
                    <a:srgbClr val="0033cc"/>
                  </a:solidFill>
                  <a:latin typeface="Arial"/>
                </a:rPr>
                <a:t>He</a:t>
              </a: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 :</a:t>
              </a: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He flow rate to detritiation unit (m</a:t>
              </a:r>
              <a:r>
                <a:rPr b="0" lang="en-GB" sz="1400" spc="-1" strike="noStrike" baseline="30000">
                  <a:solidFill>
                    <a:srgbClr val="0033cc"/>
                  </a:solidFill>
                  <a:latin typeface="Arial"/>
                </a:rPr>
                <a:t>3</a:t>
              </a: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 s</a:t>
              </a:r>
              <a:r>
                <a:rPr b="0" lang="en-GB" sz="1400" spc="-1" strike="noStrike" baseline="30000">
                  <a:solidFill>
                    <a:srgbClr val="0033cc"/>
                  </a:solidFill>
                  <a:latin typeface="Arial"/>
                </a:rPr>
                <a:t>-1</a:t>
              </a: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880920" y="5342040"/>
            <a:ext cx="8311680" cy="830160"/>
            <a:chOff x="880920" y="5342040"/>
            <a:chExt cx="8311680" cy="830160"/>
          </a:xfrm>
        </p:grpSpPr>
        <p:grpSp>
          <p:nvGrpSpPr>
            <p:cNvPr id="180" name=""/>
            <p:cNvGrpSpPr/>
            <p:nvPr/>
          </p:nvGrpSpPr>
          <p:grpSpPr>
            <a:xfrm>
              <a:off x="5247360" y="5342040"/>
              <a:ext cx="3945240" cy="758880"/>
              <a:chOff x="5247360" y="5342040"/>
              <a:chExt cx="3945240" cy="758880"/>
            </a:xfrm>
          </p:grpSpPr>
          <mc:AlternateContent>
            <mc:Choice xmlns:a14="http://schemas.microsoft.com/office/drawing/2010/main" Requires="a14">
              <p:sp>
                <p:nvSpPr>
                  <p:cNvPr id="181" name=""/>
                  <p:cNvSpPr txBox="1"/>
                  <p:nvPr/>
                </p:nvSpPr>
                <p:spPr>
                  <a:xfrm>
                    <a:off x="6018120" y="5342040"/>
                    <a:ext cx="2778120" cy="480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G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G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82" name=""/>
              <p:cNvSpPr/>
              <p:nvPr/>
            </p:nvSpPr>
            <p:spPr>
              <a:xfrm>
                <a:off x="5247360" y="5773680"/>
                <a:ext cx="3945240" cy="32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993366"/>
                    </a:solidFill>
                    <a:latin typeface="Arial"/>
                  </a:rPr>
                  <a:t>( J</a:t>
                </a:r>
                <a:r>
                  <a:rPr b="0" lang="en-GB" sz="1400" spc="-1" strike="noStrike" baseline="-20000">
                    <a:solidFill>
                      <a:srgbClr val="993366"/>
                    </a:solidFill>
                    <a:latin typeface="Arial"/>
                  </a:rPr>
                  <a:t>5</a:t>
                </a:r>
                <a:r>
                  <a:rPr b="0" lang="en-GB" sz="1400" spc="-1" strike="noStrike">
                    <a:solidFill>
                      <a:srgbClr val="993366"/>
                    </a:solidFill>
                    <a:latin typeface="Arial"/>
                  </a:rPr>
                  <a:t> max = 1 g/year=27 Ci/day , ITER standard 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880920" y="5421240"/>
              <a:ext cx="411012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2000"/>
            </a:bodyPr>
            <a:p>
              <a:pPr marL="246960" indent="-246960">
                <a:lnSpc>
                  <a:spcPct val="100000"/>
                </a:lnSpc>
                <a:spcBef>
                  <a:spcPts val="499"/>
                </a:spcBef>
                <a:buClr>
                  <a:srgbClr val="77c40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993366"/>
                  </a:solidFill>
                  <a:latin typeface="Arial"/>
                </a:rPr>
                <a:t>J</a:t>
              </a:r>
              <a:r>
                <a:rPr b="1" lang="en-GB" sz="2000" spc="-1" strike="noStrike" baseline="-20000">
                  <a:solidFill>
                    <a:srgbClr val="993366"/>
                  </a:solidFill>
                  <a:latin typeface="Arial"/>
                </a:rPr>
                <a:t>5</a:t>
              </a:r>
              <a:r>
                <a:rPr b="0" lang="en-GB" sz="2000" spc="-1" strike="noStrike">
                  <a:solidFill>
                    <a:srgbClr val="993366"/>
                  </a:solidFill>
                  <a:latin typeface="Arial"/>
                </a:rPr>
                <a:t> : Release to environ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46960" indent="-24696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L</a:t>
              </a:r>
              <a:r>
                <a:rPr b="0" lang="en-GB" sz="1400" spc="-1" strike="noStrike" baseline="-25000">
                  <a:solidFill>
                    <a:srgbClr val="0033cc"/>
                  </a:solidFill>
                  <a:latin typeface="Arial"/>
                </a:rPr>
                <a:t>SG</a:t>
              </a: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:</a:t>
              </a: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Steam Generator leak flow (m</a:t>
              </a:r>
              <a:r>
                <a:rPr b="0" lang="en-GB" sz="1400" spc="-1" strike="noStrike" baseline="30000">
                  <a:solidFill>
                    <a:srgbClr val="0033cc"/>
                  </a:solidFill>
                  <a:latin typeface="Arial"/>
                </a:rPr>
                <a:t>3</a:t>
              </a: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 s</a:t>
              </a:r>
              <a:r>
                <a:rPr b="0" lang="en-GB" sz="1400" spc="-1" strike="noStrike" baseline="30000">
                  <a:solidFill>
                    <a:srgbClr val="0033cc"/>
                  </a:solidFill>
                  <a:latin typeface="Arial"/>
                </a:rPr>
                <a:t>-1</a:t>
              </a: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46960" indent="-246960"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K</a:t>
              </a:r>
              <a:r>
                <a:rPr b="0" lang="en-GB" sz="1400" spc="-1" strike="noStrike" baseline="-20000">
                  <a:solidFill>
                    <a:srgbClr val="0033cc"/>
                  </a:solidFill>
                  <a:latin typeface="Arial"/>
                </a:rPr>
                <a:t>SG</a:t>
              </a: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:</a:t>
              </a: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SG permeation factor (m</a:t>
              </a:r>
              <a:r>
                <a:rPr b="0" lang="en-GB" sz="1400" spc="-1" strike="noStrike" baseline="30000">
                  <a:solidFill>
                    <a:srgbClr val="0033cc"/>
                  </a:solidFill>
                  <a:latin typeface="Arial"/>
                </a:rPr>
                <a:t>3</a:t>
              </a: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 s</a:t>
              </a:r>
              <a:r>
                <a:rPr b="0" lang="en-GB" sz="1400" spc="-1" strike="noStrike" baseline="30000">
                  <a:solidFill>
                    <a:srgbClr val="0033cc"/>
                  </a:solidFill>
                  <a:latin typeface="Arial"/>
                </a:rPr>
                <a:t>-1</a:t>
              </a:r>
              <a:r>
                <a:rPr b="0" lang="en-GB" sz="1400" spc="-1" strike="noStrike">
                  <a:solidFill>
                    <a:srgbClr val="0033cc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46960" indent="-24696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33cc"/>
                </a:solidFill>
                <a:latin typeface="Arial"/>
              </a:rPr>
              <a:t>Analytical Model – Tritium Mass Balance Equations 2/2</a:t>
            </a:r>
            <a:endParaRPr b="1" lang="en-US" sz="2200" spc="-1" strike="noStrike">
              <a:solidFill>
                <a:srgbClr val="5e5e5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574640" y="844560"/>
                <a:ext cx="219564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Pb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251320" y="785880"/>
                <a:ext cx="19893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647720" y="1482840"/>
                <a:ext cx="15289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P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452760" y="1514520"/>
                <a:ext cx="1717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405400" y="1482840"/>
                <a:ext cx="30369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lanke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F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eel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ee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P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1057320" y="2309760"/>
            <a:ext cx="765972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77c4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Arial"/>
              </a:rPr>
              <a:t>A, s : respectively wall surface (m</a:t>
            </a:r>
            <a:r>
              <a:rPr b="1" lang="en-GB" sz="14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0033cc"/>
                </a:solidFill>
                <a:latin typeface="Arial"/>
              </a:rPr>
              <a:t>) and wall thickness (m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77c4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Arial"/>
              </a:rPr>
              <a:t>Ks</a:t>
            </a:r>
            <a:r>
              <a:rPr b="1" lang="en-GB" sz="1400" spc="-1" strike="noStrike" baseline="-20000">
                <a:solidFill>
                  <a:srgbClr val="0033cc"/>
                </a:solidFill>
                <a:latin typeface="Arial"/>
              </a:rPr>
              <a:t>steel</a:t>
            </a:r>
            <a:r>
              <a:rPr b="1" lang="en-GB" sz="1400" spc="-1" strike="noStrike">
                <a:solidFill>
                  <a:srgbClr val="0033cc"/>
                </a:solidFill>
                <a:latin typeface="Arial"/>
              </a:rPr>
              <a:t> Ks</a:t>
            </a:r>
            <a:r>
              <a:rPr b="1" lang="en-GB" sz="1400" spc="-1" strike="noStrike" baseline="-20000">
                <a:solidFill>
                  <a:srgbClr val="0033cc"/>
                </a:solidFill>
                <a:latin typeface="Arial"/>
              </a:rPr>
              <a:t>LiPb</a:t>
            </a:r>
            <a:r>
              <a:rPr b="1" lang="en-GB" sz="1400" spc="-1" strike="noStrike">
                <a:solidFill>
                  <a:srgbClr val="0033cc"/>
                </a:solidFill>
                <a:latin typeface="Arial"/>
              </a:rPr>
              <a:t> : Sievert constants (mol m</a:t>
            </a:r>
            <a:r>
              <a:rPr b="1" lang="en-GB" sz="1400" spc="-1" strike="noStrike" baseline="30000">
                <a:solidFill>
                  <a:srgbClr val="0033cc"/>
                </a:solidFill>
                <a:latin typeface="Arial"/>
              </a:rPr>
              <a:t>-3</a:t>
            </a:r>
            <a:r>
              <a:rPr b="1" lang="en-GB" sz="1400" spc="-1" strike="noStrike">
                <a:solidFill>
                  <a:srgbClr val="0033cc"/>
                </a:solidFill>
                <a:latin typeface="Arial"/>
              </a:rPr>
              <a:t> Pa</a:t>
            </a:r>
            <a:r>
              <a:rPr b="1" lang="en-GB" sz="1400" spc="-1" strike="noStrike" baseline="30000">
                <a:solidFill>
                  <a:srgbClr val="0033cc"/>
                </a:solidFill>
                <a:latin typeface="Arial"/>
              </a:rPr>
              <a:t>-1/2</a:t>
            </a:r>
            <a:r>
              <a:rPr b="1" lang="en-GB" sz="1400" spc="-1" strike="noStrike">
                <a:solidFill>
                  <a:srgbClr val="0033cc"/>
                </a:solidFill>
                <a:latin typeface="Arial"/>
              </a:rPr>
              <a:t>), respectively in Eurofer and in LiP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77c4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1" lang="en-GB" sz="1400" spc="-1" strike="noStrike" baseline="-20000">
                <a:solidFill>
                  <a:srgbClr val="0033cc"/>
                </a:solidFill>
                <a:latin typeface="Arial"/>
              </a:rPr>
              <a:t>steel</a:t>
            </a:r>
            <a:r>
              <a:rPr b="1" lang="en-GB" sz="1400" spc="-1" strike="noStrike">
                <a:solidFill>
                  <a:srgbClr val="0033cc"/>
                </a:solidFill>
                <a:latin typeface="Arial"/>
              </a:rPr>
              <a:t> Tritium diffusivity in Eurofer (m</a:t>
            </a:r>
            <a:r>
              <a:rPr b="1" lang="en-GB" sz="1400" spc="-1" strike="noStrike" baseline="30000">
                <a:solidFill>
                  <a:srgbClr val="0033cc"/>
                </a:solidFill>
                <a:latin typeface="Arial"/>
              </a:rPr>
              <a:t>2 </a:t>
            </a:r>
            <a:r>
              <a:rPr b="1" lang="en-GB" sz="1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1" lang="en-GB" sz="1400" spc="-1" strike="noStrike" baseline="30000">
                <a:solidFill>
                  <a:srgbClr val="0033cc"/>
                </a:solidFill>
                <a:latin typeface="Arial"/>
              </a:rPr>
              <a:t>-1</a:t>
            </a:r>
            <a:r>
              <a:rPr b="1" lang="en-GB" sz="1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77c4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Arial"/>
              </a:rPr>
              <a:t>PRF</a:t>
            </a:r>
            <a:r>
              <a:rPr b="1" lang="en-GB" sz="1400" spc="-1" strike="noStrike" baseline="-20000">
                <a:solidFill>
                  <a:srgbClr val="0033cc"/>
                </a:solidFill>
                <a:latin typeface="Arial"/>
              </a:rPr>
              <a:t>b</a:t>
            </a:r>
            <a:r>
              <a:rPr b="1" lang="en-GB" sz="1400" spc="-1" strike="noStrike">
                <a:solidFill>
                  <a:srgbClr val="0033cc"/>
                </a:solidFill>
                <a:latin typeface="Arial"/>
              </a:rPr>
              <a:t> is the Permeation Reduction Factor provided by permeation barrier (if an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77c4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50840" y="357336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3366"/>
                </a:solidFill>
                <a:latin typeface="Times New Roman"/>
              </a:rPr>
              <a:t>Stationary results (*)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192320" y="3833640"/>
                <a:ext cx="25527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P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Pb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P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lanket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851360" y="3835440"/>
                <a:ext cx="266220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e</m:t>
                            </m:r>
                          </m:sub>
                        </m:sSub>
                        <m:f>
                          <m:num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G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G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028960" y="5143680"/>
                <a:ext cx="4992480" cy="84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P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Pb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P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lanke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e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G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G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≥</m:t>
                    </m:r>
                    <m:f>
                      <m:nu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1241280" y="5027760"/>
            <a:ext cx="6726240" cy="1069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31760" y="6170760"/>
            <a:ext cx="530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993366"/>
                </a:solidFill>
                <a:latin typeface="Times New Roman"/>
              </a:rPr>
              <a:t>* Thanks to Italo Ricapito (ENEA consultant) who initiated these comput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56080" y="1433520"/>
            <a:ext cx="3259440" cy="8031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6336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33cc"/>
                </a:solidFill>
                <a:latin typeface="Arial"/>
              </a:rPr>
              <a:t>Computation of K</a:t>
            </a:r>
            <a:r>
              <a:rPr b="1" lang="en-GB" sz="2200" spc="-1" strike="noStrike" baseline="-25000">
                <a:solidFill>
                  <a:srgbClr val="0033cc"/>
                </a:solidFill>
                <a:latin typeface="Arial"/>
              </a:rPr>
              <a:t>blanket</a:t>
            </a:r>
            <a:r>
              <a:rPr b="1" lang="en-GB" sz="2200" spc="-1" strike="noStrike">
                <a:solidFill>
                  <a:srgbClr val="0033cc"/>
                </a:solidFill>
                <a:latin typeface="Arial"/>
              </a:rPr>
              <a:t> for PPCS</a:t>
            </a:r>
            <a:endParaRPr b="1" lang="en-US" sz="2200" spc="-1" strike="noStrike">
              <a:solidFill>
                <a:srgbClr val="5e5e5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473120" y="1120680"/>
                <a:ext cx="43927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lanke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F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Ψ</m:t>
                    </m:r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eel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ee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P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836640" y="5172120"/>
            <a:ext cx="6605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66"/>
                </a:solidFill>
                <a:latin typeface="Times New Roman"/>
              </a:rPr>
              <a:t>For T</a:t>
            </a:r>
            <a:r>
              <a:rPr b="1" lang="en-GB" sz="2400" spc="-1" strike="noStrike" baseline="-25000">
                <a:solidFill>
                  <a:srgbClr val="993366"/>
                </a:solidFill>
                <a:latin typeface="Times New Roman"/>
              </a:rPr>
              <a:t>ave</a:t>
            </a:r>
            <a:r>
              <a:rPr b="1" lang="en-GB" sz="2400" spc="-1" strike="noStrike">
                <a:solidFill>
                  <a:srgbClr val="993366"/>
                </a:solidFill>
                <a:latin typeface="Times New Roman"/>
              </a:rPr>
              <a:t>=480 °C  K</a:t>
            </a:r>
            <a:r>
              <a:rPr b="1" lang="en-GB" sz="2400" spc="-1" strike="noStrike" baseline="-25000">
                <a:solidFill>
                  <a:srgbClr val="993366"/>
                </a:solidFill>
                <a:latin typeface="Times New Roman"/>
              </a:rPr>
              <a:t>steel</a:t>
            </a:r>
            <a:r>
              <a:rPr b="1" lang="en-GB" sz="2400" spc="-1" strike="noStrike">
                <a:solidFill>
                  <a:srgbClr val="993366"/>
                </a:solidFill>
                <a:latin typeface="Times New Roman"/>
              </a:rPr>
              <a:t> D</a:t>
            </a:r>
            <a:r>
              <a:rPr b="1" lang="en-GB" sz="2400" spc="-1" strike="noStrike" baseline="-25000">
                <a:solidFill>
                  <a:srgbClr val="993366"/>
                </a:solidFill>
                <a:latin typeface="Times New Roman"/>
              </a:rPr>
              <a:t>steel</a:t>
            </a:r>
            <a:r>
              <a:rPr b="1" lang="en-GB" sz="2400" spc="-1" strike="noStrike">
                <a:solidFill>
                  <a:srgbClr val="993366"/>
                </a:solidFill>
                <a:latin typeface="Times New Roman"/>
              </a:rPr>
              <a:t>/K</a:t>
            </a:r>
            <a:r>
              <a:rPr b="1" lang="en-GB" sz="2400" spc="-1" strike="noStrike" baseline="-25000">
                <a:solidFill>
                  <a:srgbClr val="993366"/>
                </a:solidFill>
                <a:latin typeface="Times New Roman"/>
              </a:rPr>
              <a:t>Lipb</a:t>
            </a:r>
            <a:r>
              <a:rPr b="1" lang="en-GB" sz="2400" spc="-1" strike="noStrike">
                <a:solidFill>
                  <a:srgbClr val="993366"/>
                </a:solidFill>
                <a:latin typeface="Times New Roman"/>
              </a:rPr>
              <a:t> = 2.7 10</a:t>
            </a:r>
            <a:r>
              <a:rPr b="1" lang="en-GB" sz="2400" spc="-1" strike="noStrike" baseline="30000">
                <a:solidFill>
                  <a:srgbClr val="993366"/>
                </a:solidFill>
                <a:latin typeface="Times New Roman"/>
              </a:rPr>
              <a:t>-8</a:t>
            </a:r>
            <a:r>
              <a:rPr b="1" lang="en-GB" sz="2400" spc="-1" strike="noStrike">
                <a:solidFill>
                  <a:srgbClr val="993366"/>
                </a:solidFill>
                <a:latin typeface="Times New Roman"/>
              </a:rPr>
              <a:t> m</a:t>
            </a:r>
            <a:r>
              <a:rPr b="1" lang="en-GB" sz="2400" spc="-1" strike="noStrike" baseline="30000">
                <a:solidFill>
                  <a:srgbClr val="993366"/>
                </a:solidFill>
                <a:latin typeface="Times New Roman"/>
              </a:rPr>
              <a:t>2</a:t>
            </a:r>
            <a:r>
              <a:rPr b="1" lang="en-GB" sz="2400" spc="-1" strike="noStrike">
                <a:solidFill>
                  <a:srgbClr val="993366"/>
                </a:solidFill>
                <a:latin typeface="Times New Roman"/>
              </a:rPr>
              <a:t> s</a:t>
            </a:r>
            <a:r>
              <a:rPr b="1" lang="en-GB" sz="2400" spc="-1" strike="noStrike" baseline="30000">
                <a:solidFill>
                  <a:srgbClr val="993366"/>
                </a:solidFill>
                <a:latin typeface="Times New Roman"/>
              </a:rPr>
              <a:t>-1</a:t>
            </a:r>
            <a:r>
              <a:rPr b="1" lang="en-GB" sz="2400" spc="-1" strike="noStrike">
                <a:solidFill>
                  <a:srgbClr val="99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66"/>
                </a:solidFill>
                <a:latin typeface="Times New Roman"/>
              </a:rPr>
              <a:t>K</a:t>
            </a:r>
            <a:r>
              <a:rPr b="1" lang="en-GB" sz="2400" spc="-1" strike="noStrike" baseline="-25000">
                <a:solidFill>
                  <a:srgbClr val="993366"/>
                </a:solidFill>
                <a:latin typeface="Times New Roman"/>
              </a:rPr>
              <a:t>blanket</a:t>
            </a:r>
            <a:r>
              <a:rPr b="1" lang="en-GB" sz="2400" spc="-1" strike="noStrike">
                <a:solidFill>
                  <a:srgbClr val="993366"/>
                </a:solidFill>
                <a:latin typeface="Times New Roman"/>
              </a:rPr>
              <a:t> = 1.09 /PRF m</a:t>
            </a:r>
            <a:r>
              <a:rPr b="1" lang="en-GB" sz="2400" spc="-1" strike="noStrike" baseline="30000">
                <a:solidFill>
                  <a:srgbClr val="993366"/>
                </a:solidFill>
                <a:latin typeface="Times New Roman"/>
              </a:rPr>
              <a:t>3</a:t>
            </a:r>
            <a:r>
              <a:rPr b="1" lang="en-GB" sz="2400" spc="-1" strike="noStrike">
                <a:solidFill>
                  <a:srgbClr val="993366"/>
                </a:solidFill>
                <a:latin typeface="Times New Roman"/>
              </a:rPr>
              <a:t> s</a:t>
            </a:r>
            <a:r>
              <a:rPr b="1" lang="en-GB" sz="2400" spc="-1" strike="noStrike" baseline="30000">
                <a:solidFill>
                  <a:srgbClr val="993366"/>
                </a:solidFill>
                <a:latin typeface="Times New Roman"/>
              </a:rPr>
              <a:t>-1</a:t>
            </a:r>
            <a:r>
              <a:rPr b="1" lang="en-GB" sz="2400" spc="-1" strike="noStrike">
                <a:solidFill>
                  <a:srgbClr val="99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39880" y="2314440"/>
          <a:ext cx="6016680" cy="266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2314440"/>
                    <a:ext cx="601668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3" name="coupe" descr=""/>
          <p:cNvPicPr/>
          <p:nvPr/>
        </p:nvPicPr>
        <p:blipFill>
          <a:blip r:embed="rId3"/>
          <a:stretch/>
        </p:blipFill>
        <p:spPr>
          <a:xfrm>
            <a:off x="6156360" y="1033560"/>
            <a:ext cx="228924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Tritium flow towards He coolant (J</a:t>
            </a:r>
            <a:r>
              <a:rPr b="1" lang="en-GB" sz="2400" spc="-1" strike="noStrike" baseline="-20000">
                <a:solidFill>
                  <a:srgbClr val="0033cc"/>
                </a:solidFill>
                <a:latin typeface="Arial"/>
              </a:rPr>
              <a:t>3</a:t>
            </a: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56960" y="676080"/>
            <a:ext cx="7915320" cy="10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77c4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0" lang="en-GB" sz="1600" spc="-1" strike="noStrike" baseline="-20000">
                <a:solidFill>
                  <a:srgbClr val="333399"/>
                </a:solidFill>
                <a:latin typeface="Arial"/>
              </a:rPr>
              <a:t>blanket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 = 1.09 / PRF</a:t>
            </a:r>
            <a:r>
              <a:rPr b="0" lang="en-GB" sz="1600" spc="-1" strike="noStrike" baseline="-20000">
                <a:solidFill>
                  <a:srgbClr val="333399"/>
                </a:solidFill>
                <a:latin typeface="Arial"/>
              </a:rPr>
              <a:t>b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  m</a:t>
            </a:r>
            <a:r>
              <a:rPr b="0" lang="en-GB" sz="16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 s</a:t>
            </a:r>
            <a:r>
              <a:rPr b="0" lang="en-GB" sz="1600" spc="-1" strike="noStrike" baseline="30000">
                <a:solidFill>
                  <a:srgbClr val="333399"/>
                </a:solidFill>
                <a:latin typeface="Arial"/>
              </a:rPr>
              <a:t>-1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  (T</a:t>
            </a:r>
            <a:r>
              <a:rPr b="0" lang="en-GB" sz="1600" spc="-1" strike="noStrike" baseline="-20000">
                <a:solidFill>
                  <a:srgbClr val="333399"/>
                </a:solidFill>
                <a:latin typeface="Arial"/>
              </a:rPr>
              <a:t>ave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 = 480 °C, 180 modules)</a:t>
            </a:r>
            <a:endParaRPr b="0" lang="en-US" sz="1600" spc="-1" strike="noStrike">
              <a:solidFill>
                <a:srgbClr val="5e5e5e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77c4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e5e5e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333399"/>
                </a:solidFill>
                <a:latin typeface="Symbol"/>
                <a:ea typeface="Symbol"/>
              </a:rPr>
              <a:t></a:t>
            </a:r>
            <a:r>
              <a:rPr b="0" lang="en-GB" sz="1600" spc="-1" strike="noStrike" baseline="-20000">
                <a:solidFill>
                  <a:srgbClr val="333399"/>
                </a:solidFill>
                <a:latin typeface="Arial"/>
              </a:rPr>
              <a:t>LiPb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 = 0.8 (reasonable efficiency for packed column extractor) </a:t>
            </a:r>
            <a:endParaRPr b="0" lang="en-US" sz="1600" spc="-1" strike="noStrike">
              <a:solidFill>
                <a:srgbClr val="5e5e5e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77c4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G</a:t>
            </a:r>
            <a:r>
              <a:rPr b="0" lang="en-GB" sz="1600" spc="-1" strike="noStrike" baseline="-20000">
                <a:solidFill>
                  <a:srgbClr val="333399"/>
                </a:solidFill>
                <a:latin typeface="Arial"/>
              </a:rPr>
              <a:t>LiPb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 limitation due to LiPb velocity (MHD pressure drops and corrosion)</a:t>
            </a:r>
            <a:endParaRPr b="0" lang="en-US" sz="1600" spc="-1" strike="noStrike">
              <a:solidFill>
                <a:srgbClr val="5e5e5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624720" y="3170160"/>
                <a:ext cx="210492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P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Pb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P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lanket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07" name="imageperm" descr=""/>
          <p:cNvPicPr/>
          <p:nvPr/>
        </p:nvPicPr>
        <p:blipFill>
          <a:blip r:embed="rId1"/>
          <a:stretch/>
        </p:blipFill>
        <p:spPr>
          <a:xfrm>
            <a:off x="995400" y="1752480"/>
            <a:ext cx="5587920" cy="3724560"/>
          </a:xfrm>
          <a:prstGeom prst="rect">
            <a:avLst/>
          </a:prstGeom>
          <a:ln w="0">
            <a:noFill/>
          </a:ln>
        </p:spPr>
      </p:pic>
      <p:grpSp>
        <p:nvGrpSpPr>
          <p:cNvPr id="208" name=""/>
          <p:cNvGrpSpPr/>
          <p:nvPr/>
        </p:nvGrpSpPr>
        <p:grpSpPr>
          <a:xfrm>
            <a:off x="1272960" y="1917360"/>
            <a:ext cx="1430280" cy="4329000"/>
            <a:chOff x="1272960" y="1917360"/>
            <a:chExt cx="1430280" cy="4329000"/>
          </a:xfrm>
        </p:grpSpPr>
        <p:sp>
          <p:nvSpPr>
            <p:cNvPr id="209" name=""/>
            <p:cNvSpPr/>
            <p:nvPr/>
          </p:nvSpPr>
          <p:spPr>
            <a:xfrm flipV="1">
              <a:off x="1993680" y="1917360"/>
              <a:ext cx="0" cy="388620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72960" y="5726160"/>
              <a:ext cx="1430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993366"/>
                  </a:solidFill>
                  <a:latin typeface="Times New Roman"/>
                </a:rPr>
                <a:t>10 recycling/d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993366"/>
                  </a:solidFill>
                  <a:latin typeface="Times New Roman"/>
                </a:rPr>
                <a:t>0.063 m</a:t>
              </a:r>
              <a:r>
                <a:rPr b="1" lang="en-GB" sz="1400" spc="-1" strike="noStrike" baseline="30000">
                  <a:solidFill>
                    <a:srgbClr val="993366"/>
                  </a:solidFill>
                  <a:latin typeface="Times New Roman"/>
                </a:rPr>
                <a:t>3</a:t>
              </a:r>
              <a:r>
                <a:rPr b="1" lang="en-GB" sz="1400" spc="-1" strike="noStrike">
                  <a:solidFill>
                    <a:srgbClr val="993366"/>
                  </a:solidFill>
                  <a:latin typeface="Times New Roman"/>
                </a:rPr>
                <a:t> s</a:t>
              </a:r>
              <a:r>
                <a:rPr b="1" lang="en-GB" sz="1400" spc="-1" strike="noStrike" baseline="30000">
                  <a:solidFill>
                    <a:srgbClr val="993366"/>
                  </a:solidFill>
                  <a:latin typeface="Times New Roman"/>
                </a:rPr>
                <a:t>-1</a:t>
              </a:r>
              <a:r>
                <a:rPr b="1" lang="en-GB" sz="1400" spc="-1" strike="noStrike">
                  <a:solidFill>
                    <a:srgbClr val="993366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063960" y="1904760"/>
            <a:ext cx="1430280" cy="4341600"/>
            <a:chOff x="3063960" y="1904760"/>
            <a:chExt cx="1430280" cy="4341600"/>
          </a:xfrm>
        </p:grpSpPr>
        <p:sp>
          <p:nvSpPr>
            <p:cNvPr id="212" name=""/>
            <p:cNvSpPr/>
            <p:nvPr/>
          </p:nvSpPr>
          <p:spPr>
            <a:xfrm flipV="1">
              <a:off x="3784320" y="1904760"/>
              <a:ext cx="0" cy="388620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63960" y="5726160"/>
              <a:ext cx="1430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993366"/>
                  </a:solidFill>
                  <a:latin typeface="Times New Roman"/>
                </a:rPr>
                <a:t>72 recycling/d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993366"/>
                  </a:solidFill>
                  <a:latin typeface="Times New Roman"/>
                </a:rPr>
                <a:t>0.454 m</a:t>
              </a:r>
              <a:r>
                <a:rPr b="1" lang="en-GB" sz="1400" spc="-1" strike="noStrike" baseline="30000">
                  <a:solidFill>
                    <a:srgbClr val="993366"/>
                  </a:solidFill>
                  <a:latin typeface="Times New Roman"/>
                </a:rPr>
                <a:t>3</a:t>
              </a:r>
              <a:r>
                <a:rPr b="1" lang="en-GB" sz="1400" spc="-1" strike="noStrike">
                  <a:solidFill>
                    <a:srgbClr val="993366"/>
                  </a:solidFill>
                  <a:latin typeface="Times New Roman"/>
                </a:rPr>
                <a:t> s</a:t>
              </a:r>
              <a:r>
                <a:rPr b="1" lang="en-GB" sz="1400" spc="-1" strike="noStrike" baseline="30000">
                  <a:solidFill>
                    <a:srgbClr val="993366"/>
                  </a:solidFill>
                  <a:latin typeface="Times New Roman"/>
                </a:rPr>
                <a:t>-1</a:t>
              </a:r>
              <a:r>
                <a:rPr b="1" lang="en-GB" sz="1400" spc="-1" strike="noStrike">
                  <a:solidFill>
                    <a:srgbClr val="993366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33cc"/>
                </a:solidFill>
                <a:latin typeface="Arial"/>
              </a:rPr>
              <a:t>Justification of the FEM Study</a:t>
            </a:r>
            <a:endParaRPr b="1" lang="en-US" sz="2200" spc="-1" strike="noStrike">
              <a:solidFill>
                <a:srgbClr val="5e5e5e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95480" y="696960"/>
            <a:ext cx="76597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160920" indent="-160920">
              <a:lnSpc>
                <a:spcPct val="90000"/>
              </a:lnSpc>
              <a:spcBef>
                <a:spcPts val="499"/>
              </a:spcBef>
              <a:buClr>
                <a:srgbClr val="77c4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Previous analytical computations made the assumption that all the produced tritium is immediately available for permeation through the Eurofer wal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90000"/>
              </a:lnSpc>
              <a:spcBef>
                <a:spcPts val="499"/>
              </a:spcBef>
              <a:buClr>
                <a:srgbClr val="77c4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Actually, T has to travel through the LiPb bulk before reaching the wal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90000"/>
              </a:lnSpc>
              <a:spcBef>
                <a:spcPts val="499"/>
              </a:spcBef>
              <a:buClr>
                <a:srgbClr val="77c4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Considering th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342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Arial"/>
              </a:rPr>
              <a:t>T diffusivity in LiPb is about 10 times smaller than in Eurof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342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Arial"/>
              </a:rPr>
              <a:t>LiPb layer thickness is 40 times larger than Cooling Plates wall thickness in present Breeding Unit desig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90000"/>
              </a:lnSpc>
              <a:spcBef>
                <a:spcPts val="499"/>
              </a:spcBef>
              <a:buClr>
                <a:srgbClr val="77c4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Ignoring these facts might lead to very pessimistic results (nearly all the produced T escapes into the He coolant, if no permeation barriers are use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342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90000"/>
              </a:lnSpc>
              <a:spcBef>
                <a:spcPts val="499"/>
              </a:spcBef>
              <a:buClr>
                <a:srgbClr val="77c4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64640" y="4406760"/>
            <a:ext cx="6207840" cy="1727280"/>
            <a:chOff x="1664640" y="4406760"/>
            <a:chExt cx="6207840" cy="1727280"/>
          </a:xfrm>
        </p:grpSpPr>
        <p:grpSp>
          <p:nvGrpSpPr>
            <p:cNvPr id="217" name=""/>
            <p:cNvGrpSpPr/>
            <p:nvPr/>
          </p:nvGrpSpPr>
          <p:grpSpPr>
            <a:xfrm>
              <a:off x="2990880" y="4406760"/>
              <a:ext cx="2495160" cy="1727280"/>
              <a:chOff x="2990880" y="4406760"/>
              <a:chExt cx="2495160" cy="1727280"/>
            </a:xfrm>
          </p:grpSpPr>
          <p:sp>
            <p:nvSpPr>
              <p:cNvPr id="218" name=""/>
              <p:cNvSpPr/>
              <p:nvPr/>
            </p:nvSpPr>
            <p:spPr>
              <a:xfrm>
                <a:off x="2990880" y="4495680"/>
                <a:ext cx="2495160" cy="15526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990880" y="4495680"/>
                <a:ext cx="2495160" cy="1047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990880" y="5943600"/>
                <a:ext cx="2495160" cy="1047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990880" y="4406760"/>
                <a:ext cx="2491200" cy="889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990880" y="6045120"/>
                <a:ext cx="2491200" cy="889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2505240" y="5276880"/>
              <a:ext cx="32004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2766240" y="4618800"/>
              <a:ext cx="453240" cy="1314360"/>
              <a:chOff x="2766240" y="4618800"/>
              <a:chExt cx="453240" cy="131436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2766240" y="4618800"/>
                <a:ext cx="449280" cy="1314360"/>
                <a:chOff x="2766240" y="4618800"/>
                <a:chExt cx="449280" cy="13143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2766240" y="4619520"/>
                  <a:ext cx="449280" cy="131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2766240" y="4618440"/>
                  <a:ext cx="449280" cy="1314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990880" y="4737240"/>
                <a:ext cx="228600" cy="457200"/>
                <a:chOff x="2990880" y="4737240"/>
                <a:chExt cx="228600" cy="4572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990880" y="4737240"/>
                  <a:ext cx="13320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990880" y="4889520"/>
                  <a:ext cx="17784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2990880" y="5041800"/>
                  <a:ext cx="20952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990880" y="519444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3" name=""/>
            <p:cNvSpPr/>
            <p:nvPr/>
          </p:nvSpPr>
          <p:spPr>
            <a:xfrm>
              <a:off x="4019400" y="5060880"/>
              <a:ext cx="88920" cy="88920"/>
            </a:xfrm>
            <a:custGeom>
              <a:avLst/>
              <a:gdLst>
                <a:gd name="textAreaLeft" fmla="*/ 20160 w 88920"/>
                <a:gd name="textAreaRight" fmla="*/ 68760 w 88920"/>
                <a:gd name="textAreaTop" fmla="*/ 20160 h 88920"/>
                <a:gd name="textAreaBottom" fmla="*/ 68760 h 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57560" y="4616280"/>
              <a:ext cx="406440" cy="482760"/>
            </a:xfrm>
            <a:custGeom>
              <a:avLst/>
              <a:gdLst/>
              <a:ahLst/>
              <a:rect l="l" t="t" r="r" b="b"/>
              <a:pathLst>
                <a:path w="256" h="304">
                  <a:moveTo>
                    <a:pt x="0" y="304"/>
                  </a:moveTo>
                  <a:lnTo>
                    <a:pt x="56" y="248"/>
                  </a:lnTo>
                  <a:lnTo>
                    <a:pt x="32" y="228"/>
                  </a:lnTo>
                  <a:lnTo>
                    <a:pt x="52" y="204"/>
                  </a:lnTo>
                  <a:lnTo>
                    <a:pt x="80" y="244"/>
                  </a:lnTo>
                  <a:lnTo>
                    <a:pt x="108" y="156"/>
                  </a:lnTo>
                  <a:lnTo>
                    <a:pt x="84" y="152"/>
                  </a:lnTo>
                  <a:lnTo>
                    <a:pt x="148" y="108"/>
                  </a:lnTo>
                  <a:lnTo>
                    <a:pt x="152" y="136"/>
                  </a:lnTo>
                  <a:lnTo>
                    <a:pt x="212" y="104"/>
                  </a:lnTo>
                  <a:lnTo>
                    <a:pt x="200" y="36"/>
                  </a:lnTo>
                  <a:lnTo>
                    <a:pt x="25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390920" y="4609800"/>
              <a:ext cx="716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832760" y="4865760"/>
              <a:ext cx="86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3366"/>
                  </a:solidFill>
                  <a:latin typeface="Times New Roman"/>
                </a:rPr>
                <a:t>LiPb veloc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28920" y="5684760"/>
              <a:ext cx="1287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3366"/>
                  </a:solidFill>
                  <a:latin typeface="Times New Roman"/>
                </a:rPr>
                <a:t>T produced in LiP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851440" y="4875120"/>
              <a:ext cx="19040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3366"/>
                  </a:solidFill>
                  <a:latin typeface="Times New Roman"/>
                </a:rPr>
                <a:t>T transport via diffus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3366"/>
                  </a:solidFill>
                  <a:latin typeface="Times New Roman"/>
                </a:rPr>
                <a:t>and convection through LiP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86280" y="4579920"/>
              <a:ext cx="2086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3366"/>
                  </a:solidFill>
                  <a:latin typeface="Times New Roman"/>
                </a:rPr>
                <a:t>T permeation through wa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64640" y="4437000"/>
              <a:ext cx="1015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3366"/>
                  </a:solidFill>
                  <a:latin typeface="Times New Roman"/>
                </a:rPr>
                <a:t>He coolant fl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38800" y="4498920"/>
              <a:ext cx="25200" cy="101520"/>
            </a:xfrm>
            <a:custGeom>
              <a:avLst/>
              <a:gdLst/>
              <a:ahLst/>
              <a:rect l="l" t="t" r="r" b="b"/>
              <a:pathLst>
                <a:path w="16" h="64">
                  <a:moveTo>
                    <a:pt x="10" y="0"/>
                  </a:moveTo>
                  <a:cubicBezTo>
                    <a:pt x="5" y="4"/>
                    <a:pt x="0" y="9"/>
                    <a:pt x="0" y="12"/>
                  </a:cubicBezTo>
                  <a:cubicBezTo>
                    <a:pt x="0" y="15"/>
                    <a:pt x="10" y="17"/>
                    <a:pt x="12" y="20"/>
                  </a:cubicBezTo>
                  <a:cubicBezTo>
                    <a:pt x="14" y="23"/>
                    <a:pt x="16" y="29"/>
                    <a:pt x="14" y="32"/>
                  </a:cubicBezTo>
                  <a:cubicBezTo>
                    <a:pt x="12" y="35"/>
                    <a:pt x="3" y="35"/>
                    <a:pt x="2" y="38"/>
                  </a:cubicBezTo>
                  <a:cubicBezTo>
                    <a:pt x="1" y="41"/>
                    <a:pt x="4" y="46"/>
                    <a:pt x="6" y="50"/>
                  </a:cubicBezTo>
                  <a:cubicBezTo>
                    <a:pt x="8" y="54"/>
                    <a:pt x="12" y="59"/>
                    <a:pt x="16" y="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4425840" y="4502160"/>
              <a:ext cx="1296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41680" y="4495680"/>
              <a:ext cx="2232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11440" y="4457880"/>
              <a:ext cx="406440" cy="0"/>
            </a:xfrm>
            <a:prstGeom prst="line">
              <a:avLst/>
            </a:prstGeom>
            <a:ln w="15840">
              <a:solidFill>
                <a:srgbClr val="3399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2705040" y="4457880"/>
              <a:ext cx="362160" cy="8568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14760" y="4971960"/>
              <a:ext cx="390240" cy="5868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05400" y="4543560"/>
              <a:ext cx="1342800" cy="1332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71840" y="4848120"/>
              <a:ext cx="1486080" cy="1238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24160" y="5143680"/>
              <a:ext cx="1810080" cy="6188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2T08:17:44Z</dcterms:created>
  <dc:creator>anto</dc:creator>
  <dc:description/>
  <dc:language>en-US</dc:language>
  <cp:lastModifiedBy>wfara</cp:lastModifiedBy>
  <cp:lastPrinted>2002-06-06T09:16:39Z</cp:lastPrinted>
  <dcterms:modified xsi:type="dcterms:W3CDTF">2004-11-25T16:54:34Z</dcterms:modified>
  <cp:revision>287</cp:revision>
  <dc:subject/>
  <dc:title>Présentation PowerPoint</dc:title>
</cp:coreProperties>
</file>