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4.docx" ContentType="application/vnd.openxmlformats-officedocument.wordprocessingml.document"/>
  <Override PartName="/ppt/embeddings/oleObject1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5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9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3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5.wmf" ContentType="image/x-wmf"/>
  <Override PartName="/ppt/media/image22.wmf" ContentType="image/x-wmf"/>
  <Override PartName="/ppt/media/image59.wmf" ContentType="image/x-wmf"/>
  <Override PartName="/ppt/media/image24.png" ContentType="image/png"/>
  <Override PartName="/ppt/media/image64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74.png" ContentType="image/png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1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73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1.wmf" ContentType="image/x-wmf"/>
  <Override PartName="/ppt/media/image13.wmf" ContentType="image/x-wmf"/>
  <Override PartName="/ppt/media/image5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0D5-21BD-4E30-9B9C-8DC60BD5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5EC-E72D-4309-8530-DEF69D8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36B-070A-4FF5-9CAA-3BDA60AB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4F8-B3A4-4DAD-BC26-7A8800A7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530-4D50-4694-BFFD-A5C9EBE4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869-0173-403D-BC70-BD8DC73F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631-8B2A-4C56-BABF-9020472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50A-9394-43A3-8D49-156F01A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EC1-CA7D-4D32-8622-AE5FE2EF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353-6F0C-4106-9C9B-DDBA084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3D3-0026-43C9-92D1-7E718C8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950-46ED-47D1-A1F5-BD3B1B8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E82-AF43-42B1-8DC7-5B623280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6.wmf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3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.wmf"/><Relationship Id="rId11" Type="http://schemas.openxmlformats.org/officeDocument/2006/relationships/image" Target="../media/image2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0.wmf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42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" name=""/>
          <p:cNvSpPr/>
          <p:nvPr/>
        </p:nvSpPr>
        <p:spPr>
          <a:xfrm>
            <a:off x="685800" y="2286000"/>
            <a:ext cx="7772400" cy="1600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délisation du comportement mécanique de la maçonn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1680" y="320760"/>
            <a:ext cx="45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iversité de Marne-la-Vall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boratoire de Mécanique (L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92800" y="51055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Leïla ABD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501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6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8" name=""/>
          <p:cNvSpPr/>
          <p:nvPr/>
        </p:nvSpPr>
        <p:spPr>
          <a:xfrm>
            <a:off x="1512000" y="228600"/>
            <a:ext cx="61074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RTEMENT DE LA MAÇONN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41120" y="4343400"/>
          <a:ext cx="554832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120" y="4343400"/>
                    <a:ext cx="55483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6553080" y="4343400"/>
          <a:ext cx="18860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4343400"/>
                    <a:ext cx="18860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"/>
          <p:cNvGrpSpPr/>
          <p:nvPr/>
        </p:nvGrpSpPr>
        <p:grpSpPr>
          <a:xfrm>
            <a:off x="533520" y="-609480"/>
            <a:ext cx="4485600" cy="4608360"/>
            <a:chOff x="533520" y="-609480"/>
            <a:chExt cx="4485600" cy="4608360"/>
          </a:xfrm>
        </p:grpSpPr>
        <p:sp>
          <p:nvSpPr>
            <p:cNvPr id="514" name=""/>
            <p:cNvSpPr/>
            <p:nvPr/>
          </p:nvSpPr>
          <p:spPr>
            <a:xfrm>
              <a:off x="676440" y="3618000"/>
              <a:ext cx="3465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93880" y="1146240"/>
              <a:ext cx="0" cy="27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6" name=""/>
            <p:cNvGraphicFramePr/>
            <p:nvPr/>
          </p:nvGraphicFramePr>
          <p:xfrm>
            <a:off x="1042920" y="1066680"/>
            <a:ext cx="258840" cy="392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42920" y="1066680"/>
                      <a:ext cx="25884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"/>
            <p:cNvGraphicFramePr/>
            <p:nvPr/>
          </p:nvGraphicFramePr>
          <p:xfrm>
            <a:off x="3781440" y="3203640"/>
            <a:ext cx="28080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81440" y="3203640"/>
                      <a:ext cx="28080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 rot="10800000">
              <a:off x="905040" y="-609480"/>
              <a:ext cx="4114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1" name=""/>
            <p:cNvGraphicFramePr/>
            <p:nvPr/>
          </p:nvGraphicFramePr>
          <p:xfrm>
            <a:off x="533520" y="1295280"/>
            <a:ext cx="295200" cy="382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2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520" y="1295280"/>
                      <a:ext cx="29520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3" name=""/>
            <p:cNvGraphicFramePr/>
            <p:nvPr/>
          </p:nvGraphicFramePr>
          <p:xfrm>
            <a:off x="1133640" y="3048120"/>
            <a:ext cx="323640" cy="341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33640" y="3048120"/>
                      <a:ext cx="32364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5" name=""/>
            <p:cNvGraphicFramePr/>
            <p:nvPr/>
          </p:nvGraphicFramePr>
          <p:xfrm>
            <a:off x="2819520" y="3676680"/>
            <a:ext cx="323640" cy="322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19520" y="3676680"/>
                      <a:ext cx="32364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"/>
            <p:cNvGraphicFramePr/>
            <p:nvPr/>
          </p:nvGraphicFramePr>
          <p:xfrm>
            <a:off x="1676520" y="1828800"/>
            <a:ext cx="772920" cy="322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676520" y="1828800"/>
                      <a:ext cx="77292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9" name=""/>
          <p:cNvGrpSpPr/>
          <p:nvPr/>
        </p:nvGrpSpPr>
        <p:grpSpPr>
          <a:xfrm>
            <a:off x="4835520" y="914400"/>
            <a:ext cx="4156200" cy="3075120"/>
            <a:chOff x="4835520" y="914400"/>
            <a:chExt cx="4156200" cy="3075120"/>
          </a:xfrm>
        </p:grpSpPr>
        <p:graphicFrame>
          <p:nvGraphicFramePr>
            <p:cNvPr id="530" name=""/>
            <p:cNvGraphicFramePr/>
            <p:nvPr/>
          </p:nvGraphicFramePr>
          <p:xfrm>
            <a:off x="5505480" y="914400"/>
            <a:ext cx="244440" cy="374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505480" y="914400"/>
                      <a:ext cx="24444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2" name=""/>
            <p:cNvSpPr/>
            <p:nvPr/>
          </p:nvSpPr>
          <p:spPr>
            <a:xfrm>
              <a:off x="5108400" y="3581280"/>
              <a:ext cx="388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284800" y="984240"/>
              <a:ext cx="0" cy="283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4" name=""/>
            <p:cNvGraphicFramePr/>
            <p:nvPr/>
          </p:nvGraphicFramePr>
          <p:xfrm>
            <a:off x="8648640" y="3125880"/>
            <a:ext cx="289080" cy="369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648640" y="3125880"/>
                      <a:ext cx="28908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6" name=""/>
            <p:cNvSpPr/>
            <p:nvPr/>
          </p:nvSpPr>
          <p:spPr>
            <a:xfrm>
              <a:off x="5283360" y="1465200"/>
              <a:ext cx="3098520" cy="2059200"/>
            </a:xfrm>
            <a:custGeom>
              <a:avLst/>
              <a:gdLst/>
              <a:ahLst/>
              <a:rect l="l" t="t" r="r" b="b"/>
              <a:pathLst>
                <a:path w="1952" h="1297">
                  <a:moveTo>
                    <a:pt x="0" y="727"/>
                  </a:moveTo>
                  <a:cubicBezTo>
                    <a:pt x="29" y="658"/>
                    <a:pt x="117" y="426"/>
                    <a:pt x="176" y="321"/>
                  </a:cubicBezTo>
                  <a:cubicBezTo>
                    <a:pt x="235" y="216"/>
                    <a:pt x="301" y="153"/>
                    <a:pt x="355" y="100"/>
                  </a:cubicBezTo>
                  <a:cubicBezTo>
                    <a:pt x="409" y="47"/>
                    <a:pt x="458" y="0"/>
                    <a:pt x="500" y="0"/>
                  </a:cubicBezTo>
                  <a:cubicBezTo>
                    <a:pt x="542" y="0"/>
                    <a:pt x="583" y="62"/>
                    <a:pt x="609" y="100"/>
                  </a:cubicBezTo>
                  <a:cubicBezTo>
                    <a:pt x="635" y="138"/>
                    <a:pt x="632" y="164"/>
                    <a:pt x="656" y="225"/>
                  </a:cubicBezTo>
                  <a:cubicBezTo>
                    <a:pt x="680" y="286"/>
                    <a:pt x="696" y="337"/>
                    <a:pt x="752" y="465"/>
                  </a:cubicBezTo>
                  <a:cubicBezTo>
                    <a:pt x="808" y="593"/>
                    <a:pt x="896" y="873"/>
                    <a:pt x="992" y="993"/>
                  </a:cubicBezTo>
                  <a:cubicBezTo>
                    <a:pt x="1088" y="1113"/>
                    <a:pt x="1208" y="1137"/>
                    <a:pt x="1328" y="1185"/>
                  </a:cubicBezTo>
                  <a:cubicBezTo>
                    <a:pt x="1448" y="1233"/>
                    <a:pt x="1608" y="1265"/>
                    <a:pt x="1712" y="1281"/>
                  </a:cubicBezTo>
                  <a:cubicBezTo>
                    <a:pt x="1816" y="1297"/>
                    <a:pt x="1912" y="1281"/>
                    <a:pt x="1952" y="1281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7" name=""/>
            <p:cNvGraphicFramePr/>
            <p:nvPr/>
          </p:nvGraphicFramePr>
          <p:xfrm>
            <a:off x="5486400" y="2647800"/>
            <a:ext cx="341280" cy="341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486400" y="2647800"/>
                      <a:ext cx="341280" cy="34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6095880" y="14479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0" name=""/>
            <p:cNvGraphicFramePr/>
            <p:nvPr/>
          </p:nvGraphicFramePr>
          <p:xfrm>
            <a:off x="5925960" y="3648240"/>
            <a:ext cx="360720" cy="3412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925960" y="3648240"/>
                      <a:ext cx="36072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2" name=""/>
            <p:cNvGraphicFramePr/>
            <p:nvPr/>
          </p:nvGraphicFramePr>
          <p:xfrm>
            <a:off x="4876920" y="1219320"/>
            <a:ext cx="295200" cy="3823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876920" y="1219320"/>
                      <a:ext cx="29520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5257800" y="1447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5" name=""/>
            <p:cNvGraphicFramePr/>
            <p:nvPr/>
          </p:nvGraphicFramePr>
          <p:xfrm>
            <a:off x="6608880" y="1820880"/>
            <a:ext cx="1238040" cy="3888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4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608880" y="1820880"/>
                      <a:ext cx="123804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7" name=""/>
            <p:cNvGraphicFramePr/>
            <p:nvPr/>
          </p:nvGraphicFramePr>
          <p:xfrm>
            <a:off x="4835520" y="2360520"/>
            <a:ext cx="379440" cy="3826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548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835520" y="2360520"/>
                      <a:ext cx="37944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49" name=""/>
          <p:cNvGraphicFramePr/>
          <p:nvPr/>
        </p:nvGraphicFramePr>
        <p:xfrm>
          <a:off x="860400" y="5257800"/>
          <a:ext cx="3711600" cy="439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60400" y="5257800"/>
                    <a:ext cx="37116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552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9" name=""/>
          <p:cNvSpPr/>
          <p:nvPr/>
        </p:nvSpPr>
        <p:spPr>
          <a:xfrm>
            <a:off x="1359720" y="228600"/>
            <a:ext cx="65480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ÉSOLUTION DU PROBLÈME MÉ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355920" y="4100400"/>
          <a:ext cx="2511360" cy="12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5920" y="4100400"/>
                    <a:ext cx="2511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17760" y="3224160"/>
          <a:ext cx="428940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7760" y="3224160"/>
                    <a:ext cx="4289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124360" y="5576760"/>
            <a:ext cx="49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Utilisation de la méthode de Newton-Raph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3520" y="914400"/>
            <a:ext cx="967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ésolution du problème mécanique: Algorithme proposé par CAST3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553680" y="1600200"/>
            <a:ext cx="9551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odification des fichiers sources: Évaluation de l’état de contraintes admis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40680" y="2362320"/>
            <a:ext cx="55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ise en place d’un processus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’itérations in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521080" y="228600"/>
            <a:ext cx="41796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LIDATION DU MODÈ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0320" y="914400"/>
            <a:ext cx="5623560" cy="4871520"/>
            <a:chOff x="1750320" y="914400"/>
            <a:chExt cx="5623560" cy="4871520"/>
          </a:xfrm>
        </p:grpSpPr>
        <p:grpSp>
          <p:nvGrpSpPr>
            <p:cNvPr id="570" name=""/>
            <p:cNvGrpSpPr/>
            <p:nvPr/>
          </p:nvGrpSpPr>
          <p:grpSpPr>
            <a:xfrm>
              <a:off x="2050920" y="914400"/>
              <a:ext cx="5322960" cy="2944800"/>
              <a:chOff x="2050920" y="914400"/>
              <a:chExt cx="5322960" cy="2944800"/>
            </a:xfrm>
          </p:grpSpPr>
          <p:sp>
            <p:nvSpPr>
              <p:cNvPr id="571" name=""/>
              <p:cNvSpPr/>
              <p:nvPr/>
            </p:nvSpPr>
            <p:spPr>
              <a:xfrm>
                <a:off x="2743200" y="914400"/>
                <a:ext cx="3193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[Ganz H.R. &amp; Thürliman B., 198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0920" y="1447920"/>
                <a:ext cx="5322960" cy="241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3" name=""/>
            <p:cNvGrpSpPr/>
            <p:nvPr/>
          </p:nvGrpSpPr>
          <p:grpSpPr>
            <a:xfrm>
              <a:off x="1750320" y="4572000"/>
              <a:ext cx="5481720" cy="1213920"/>
              <a:chOff x="1750320" y="4572000"/>
              <a:chExt cx="5481720" cy="121392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2293200" y="4572000"/>
                <a:ext cx="3576600" cy="1200240"/>
                <a:chOff x="2293200" y="4572000"/>
                <a:chExt cx="3576600" cy="12002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293200" y="45720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293200" y="46519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293200" y="473184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293200" y="481176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293200" y="4892040"/>
                  <a:ext cx="11520" cy="4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93200" y="497196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3200" y="505188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293200" y="51318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293200" y="52117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293200" y="5292360"/>
                  <a:ext cx="11520" cy="4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293200" y="537228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93200" y="54522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293200" y="55321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93200" y="561204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293200" y="5692320"/>
                  <a:ext cx="11520" cy="4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3047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3846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4645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44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2476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7046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7846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8645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9444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02472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1046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1845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644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3444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42468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5046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5845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644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440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8246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9045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9841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640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14468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2242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3041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3840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4640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54428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242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7041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7840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8639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94424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241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040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18400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2639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344200" y="5760720"/>
                  <a:ext cx="4500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42412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50404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5839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66388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44160" y="5760720"/>
                  <a:ext cx="45720" cy="1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824080" y="5749560"/>
                  <a:ext cx="45720" cy="22680"/>
                </a:xfrm>
                <a:custGeom>
                  <a:avLst/>
                  <a:gdLst/>
                  <a:ahLst/>
                  <a:rect l="l" t="t" r="r" b="b"/>
                  <a:pathLst>
                    <a:path w="24" h="12">
                      <a:moveTo>
                        <a:pt x="0" y="6"/>
                      </a:moveTo>
                      <a:lnTo>
                        <a:pt x="0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24" y="6"/>
                      </a:lnTo>
                      <a:lnTo>
                        <a:pt x="24" y="0"/>
                      </a:lnTo>
                      <a:lnTo>
                        <a:pt x="18" y="0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58280" y="566964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858280" y="55890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858280" y="550908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58280" y="542916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858280" y="534924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858280" y="5269320"/>
                  <a:ext cx="11520" cy="4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858280" y="518904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858280" y="51091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858280" y="50292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858280" y="49489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858280" y="4869000"/>
                  <a:ext cx="11520" cy="4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858280" y="478872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858280" y="470880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858280" y="4628880"/>
                  <a:ext cx="11520" cy="4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35240" y="4572000"/>
                  <a:ext cx="34200" cy="226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2" y="12"/>
                      </a:moveTo>
                      <a:lnTo>
                        <a:pt x="18" y="12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553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6754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5954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51592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4352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3553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2758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1958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1152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0356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557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8758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79592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7156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357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558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4758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9596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156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2357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1558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0759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9600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157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8358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558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6759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59604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5157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4358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3559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2760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1957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1158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0358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9559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87604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79576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71584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63592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5560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476080" y="4572000"/>
                  <a:ext cx="450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39580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315880" y="4572000"/>
                  <a:ext cx="45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2293200" y="4800600"/>
                <a:ext cx="3565440" cy="72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"/>
              <p:cNvGrpSpPr/>
              <p:nvPr/>
            </p:nvGrpSpPr>
            <p:grpSpPr>
              <a:xfrm>
                <a:off x="2407680" y="5074920"/>
                <a:ext cx="3370680" cy="125280"/>
                <a:chOff x="2407680" y="5074920"/>
                <a:chExt cx="3370680" cy="125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407680" y="5074920"/>
                  <a:ext cx="28548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69316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96712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41440" y="5074920"/>
                  <a:ext cx="28584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52728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801600" y="5074920"/>
                  <a:ext cx="28548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087080" y="5074920"/>
                  <a:ext cx="28584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37292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65840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932720" y="5074920"/>
                  <a:ext cx="27396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207040" y="5074920"/>
                  <a:ext cx="28584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492880" y="5074920"/>
                  <a:ext cx="285480" cy="12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" name=""/>
              <p:cNvSpPr/>
              <p:nvPr/>
            </p:nvSpPr>
            <p:spPr>
              <a:xfrm>
                <a:off x="2407680" y="490320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407680" y="521208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630040" y="490320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41920" y="5212080"/>
                <a:ext cx="13680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293200" y="4800600"/>
                <a:ext cx="3565440" cy="72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407680" y="5074920"/>
                <a:ext cx="28548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69316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6748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241440" y="5074920"/>
                <a:ext cx="28584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52764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01960" y="5074920"/>
                <a:ext cx="28548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087440" y="5074920"/>
                <a:ext cx="28584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37328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64760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407680" y="5074920"/>
                <a:ext cx="28548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9316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6748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241440" y="5074920"/>
                <a:ext cx="28584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52764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01960" y="5074920"/>
                <a:ext cx="28548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87440" y="5074920"/>
                <a:ext cx="28584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37328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70200" y="5074920"/>
                <a:ext cx="28548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407680" y="490320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407680" y="520092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630040" y="490320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630040" y="5200920"/>
                <a:ext cx="1256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5904360" y="4892040"/>
                <a:ext cx="91080" cy="468000"/>
                <a:chOff x="5904360" y="4892040"/>
                <a:chExt cx="91080" cy="4680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949720" y="4892040"/>
                  <a:ext cx="1440" cy="46800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915880" y="4892040"/>
                  <a:ext cx="79560" cy="68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904360" y="5292000"/>
                  <a:ext cx="79560" cy="68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4" y="6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201720" y="4800600"/>
                <a:ext cx="91080" cy="696960"/>
                <a:chOff x="6201720" y="4800600"/>
                <a:chExt cx="91080" cy="6969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247440" y="4800600"/>
                  <a:ext cx="1440" cy="6969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212880" y="4800600"/>
                  <a:ext cx="79920" cy="68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201720" y="5429160"/>
                  <a:ext cx="79920" cy="68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4" y="6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087640" y="4596480"/>
                <a:ext cx="91080" cy="1189080"/>
                <a:chOff x="2087640" y="4596480"/>
                <a:chExt cx="91080" cy="118908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133360" y="4596480"/>
                  <a:ext cx="1440" cy="11890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98800" y="4596480"/>
                  <a:ext cx="79920" cy="68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87640" y="5716800"/>
                  <a:ext cx="79920" cy="68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4" y="6"/>
                      </a:ln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5916240" y="4983480"/>
                <a:ext cx="4680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028200" y="5040360"/>
                <a:ext cx="156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6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04320" y="4983480"/>
                <a:ext cx="4701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91000" y="5040360"/>
                <a:ext cx="156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9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763680" y="4983480"/>
                <a:ext cx="4683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750320" y="5040360"/>
                <a:ext cx="208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4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92192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95880" y="5074920"/>
                <a:ext cx="273960" cy="12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750000" y="5785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750000" y="5328000"/>
                <a:ext cx="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934320" y="54198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51080" y="514548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760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2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5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7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5765040" y="1447920"/>
            <a:ext cx="2160360" cy="747720"/>
            <a:chOff x="5765040" y="1447920"/>
            <a:chExt cx="2160360" cy="747720"/>
          </a:xfrm>
        </p:grpSpPr>
        <p:sp>
          <p:nvSpPr>
            <p:cNvPr id="768" name=""/>
            <p:cNvSpPr/>
            <p:nvPr/>
          </p:nvSpPr>
          <p:spPr>
            <a:xfrm>
              <a:off x="5765040" y="14479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Paramètres élas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9" name=""/>
            <p:cNvGraphicFramePr/>
            <p:nvPr/>
          </p:nvGraphicFramePr>
          <p:xfrm>
            <a:off x="6157800" y="1855800"/>
            <a:ext cx="1386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7800" y="1855800"/>
                      <a:ext cx="1386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1" name=""/>
          <p:cNvGrpSpPr/>
          <p:nvPr/>
        </p:nvGrpSpPr>
        <p:grpSpPr>
          <a:xfrm>
            <a:off x="5790600" y="2666880"/>
            <a:ext cx="2338560" cy="1143000"/>
            <a:chOff x="5790600" y="2666880"/>
            <a:chExt cx="2338560" cy="1143000"/>
          </a:xfrm>
        </p:grpSpPr>
        <p:sp>
          <p:nvSpPr>
            <p:cNvPr id="772" name=""/>
            <p:cNvSpPr/>
            <p:nvPr/>
          </p:nvSpPr>
          <p:spPr>
            <a:xfrm>
              <a:off x="5790600" y="2666880"/>
              <a:ext cx="233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Paramètres inélas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3" name=""/>
            <p:cNvGraphicFramePr/>
            <p:nvPr/>
          </p:nvGraphicFramePr>
          <p:xfrm>
            <a:off x="5899320" y="3093840"/>
            <a:ext cx="2025360" cy="71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99320" y="3093840"/>
                      <a:ext cx="202536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5" name=""/>
          <p:cNvGrpSpPr/>
          <p:nvPr/>
        </p:nvGrpSpPr>
        <p:grpSpPr>
          <a:xfrm>
            <a:off x="692280" y="1981080"/>
            <a:ext cx="3193560" cy="2479680"/>
            <a:chOff x="692280" y="1981080"/>
            <a:chExt cx="3193560" cy="2479680"/>
          </a:xfrm>
        </p:grpSpPr>
        <p:sp>
          <p:nvSpPr>
            <p:cNvPr id="776" name=""/>
            <p:cNvSpPr/>
            <p:nvPr/>
          </p:nvSpPr>
          <p:spPr>
            <a:xfrm>
              <a:off x="692280" y="1981080"/>
              <a:ext cx="319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Times New Roman"/>
                </a:rPr>
                <a:t>Sollicitations d ’un « VER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Times New Roman"/>
                </a:rPr>
                <a:t>[Ganz H.R. &amp; Thürliman B., 198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1447920" y="2828880"/>
              <a:ext cx="1686240" cy="1631880"/>
              <a:chOff x="1447920" y="2828880"/>
              <a:chExt cx="1686240" cy="163188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1882440" y="3247200"/>
                <a:ext cx="856080" cy="817920"/>
                <a:chOff x="1882440" y="3247200"/>
                <a:chExt cx="856080" cy="81792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1882440" y="3247200"/>
                  <a:ext cx="855720" cy="162720"/>
                  <a:chOff x="1882440" y="3247200"/>
                  <a:chExt cx="855720" cy="16272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2221920" y="3247200"/>
                    <a:ext cx="516240" cy="162360"/>
                    <a:chOff x="2221920" y="3247200"/>
                    <a:chExt cx="516240" cy="16236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2221920" y="3247200"/>
                      <a:ext cx="339840" cy="1623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2561760" y="3247200"/>
                      <a:ext cx="176400" cy="1623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3" name=""/>
                  <p:cNvSpPr/>
                  <p:nvPr/>
                </p:nvSpPr>
                <p:spPr>
                  <a:xfrm>
                    <a:off x="1882440" y="3247200"/>
                    <a:ext cx="339480" cy="162720"/>
                  </a:xfrm>
                  <a:prstGeom prst="rect">
                    <a:avLst/>
                  </a:prstGeom>
                  <a:noFill/>
                  <a:ln w="2232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1882440" y="3410280"/>
                  <a:ext cx="856080" cy="164160"/>
                  <a:chOff x="1882440" y="3410280"/>
                  <a:chExt cx="856080" cy="164160"/>
                </a:xfrm>
              </p:grpSpPr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882440" y="3410280"/>
                    <a:ext cx="515520" cy="163800"/>
                    <a:chOff x="1882440" y="3410280"/>
                    <a:chExt cx="515520" cy="16380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2058840" y="3410280"/>
                      <a:ext cx="339120" cy="16380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1882440" y="3410280"/>
                      <a:ext cx="176400" cy="16380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8" name=""/>
                  <p:cNvSpPr/>
                  <p:nvPr/>
                </p:nvSpPr>
                <p:spPr>
                  <a:xfrm>
                    <a:off x="2398680" y="3410280"/>
                    <a:ext cx="339840" cy="164160"/>
                  </a:xfrm>
                  <a:prstGeom prst="rect">
                    <a:avLst/>
                  </a:prstGeom>
                  <a:noFill/>
                  <a:ln w="2232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1882440" y="3574800"/>
                  <a:ext cx="855720" cy="162720"/>
                  <a:chOff x="1882440" y="3574800"/>
                  <a:chExt cx="855720" cy="162720"/>
                </a:xfrm>
              </p:grpSpPr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2221920" y="3574800"/>
                    <a:ext cx="516240" cy="162360"/>
                    <a:chOff x="2221920" y="3574800"/>
                    <a:chExt cx="516240" cy="16236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2221920" y="3574800"/>
                      <a:ext cx="339840" cy="1623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2561760" y="3574800"/>
                      <a:ext cx="176400" cy="1623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3" name=""/>
                  <p:cNvSpPr/>
                  <p:nvPr/>
                </p:nvSpPr>
                <p:spPr>
                  <a:xfrm>
                    <a:off x="1882440" y="3574800"/>
                    <a:ext cx="339480" cy="162720"/>
                  </a:xfrm>
                  <a:prstGeom prst="rect">
                    <a:avLst/>
                  </a:prstGeom>
                  <a:noFill/>
                  <a:ln w="2232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1882440" y="3737880"/>
                  <a:ext cx="856080" cy="162000"/>
                  <a:chOff x="1882440" y="3737880"/>
                  <a:chExt cx="856080" cy="1620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1882440" y="3737880"/>
                    <a:ext cx="515520" cy="161640"/>
                    <a:chOff x="1882440" y="3737880"/>
                    <a:chExt cx="515520" cy="16164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2058840" y="3737880"/>
                      <a:ext cx="339120" cy="16164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1882440" y="3737880"/>
                      <a:ext cx="176400" cy="16164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8" name=""/>
                  <p:cNvSpPr/>
                  <p:nvPr/>
                </p:nvSpPr>
                <p:spPr>
                  <a:xfrm>
                    <a:off x="2398680" y="3737880"/>
                    <a:ext cx="339840" cy="162000"/>
                  </a:xfrm>
                  <a:prstGeom prst="rect">
                    <a:avLst/>
                  </a:prstGeom>
                  <a:noFill/>
                  <a:ln w="2232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882440" y="3900600"/>
                  <a:ext cx="855720" cy="164520"/>
                  <a:chOff x="1882440" y="3900600"/>
                  <a:chExt cx="855720" cy="164520"/>
                </a:xfrm>
              </p:grpSpPr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2221920" y="3900600"/>
                    <a:ext cx="516240" cy="164160"/>
                    <a:chOff x="2221920" y="3900600"/>
                    <a:chExt cx="516240" cy="16416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2221920" y="3900600"/>
                      <a:ext cx="339840" cy="1641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2561760" y="3900600"/>
                      <a:ext cx="176400" cy="164160"/>
                    </a:xfrm>
                    <a:prstGeom prst="rect">
                      <a:avLst/>
                    </a:prstGeom>
                    <a:noFill/>
                    <a:ln cap="rnd" w="223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3" name=""/>
                  <p:cNvSpPr/>
                  <p:nvPr/>
                </p:nvSpPr>
                <p:spPr>
                  <a:xfrm>
                    <a:off x="1882440" y="3900600"/>
                    <a:ext cx="339480" cy="164520"/>
                  </a:xfrm>
                  <a:prstGeom prst="rect">
                    <a:avLst/>
                  </a:prstGeom>
                  <a:noFill/>
                  <a:ln w="2232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4" name=""/>
              <p:cNvGrpSpPr/>
              <p:nvPr/>
            </p:nvGrpSpPr>
            <p:grpSpPr>
              <a:xfrm>
                <a:off x="1447920" y="2828880"/>
                <a:ext cx="1686240" cy="1631880"/>
                <a:chOff x="1447920" y="2828880"/>
                <a:chExt cx="1686240" cy="163188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2292480" y="2828880"/>
                  <a:ext cx="0" cy="43452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V="1">
                  <a:off x="2288160" y="4026240"/>
                  <a:ext cx="0" cy="43452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447920" y="3669840"/>
                  <a:ext cx="43416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2700000" y="3669840"/>
                  <a:ext cx="434160" cy="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9" name=""/>
          <p:cNvSpPr/>
          <p:nvPr/>
        </p:nvSpPr>
        <p:spPr>
          <a:xfrm>
            <a:off x="1663200" y="518148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eules les valeurs d ’endommagement ont été postul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811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3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6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8" name=""/>
          <p:cNvSpPr/>
          <p:nvPr/>
        </p:nvSpPr>
        <p:spPr>
          <a:xfrm>
            <a:off x="2387880" y="228600"/>
            <a:ext cx="43304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PARAMÈTRES DU MODÈ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219120" y="228600"/>
            <a:ext cx="28598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saillement du 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457200" y="914400"/>
            <a:ext cx="2971800" cy="1371600"/>
            <a:chOff x="457200" y="914400"/>
            <a:chExt cx="2971800" cy="1371600"/>
          </a:xfrm>
        </p:grpSpPr>
        <p:sp>
          <p:nvSpPr>
            <p:cNvPr id="821" name=""/>
            <p:cNvSpPr/>
            <p:nvPr/>
          </p:nvSpPr>
          <p:spPr>
            <a:xfrm>
              <a:off x="565200" y="1067040"/>
              <a:ext cx="2286000" cy="10666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" y="914400"/>
              <a:ext cx="2501640" cy="1526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7200" y="2133720"/>
              <a:ext cx="2501640" cy="152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71800" y="927360"/>
              <a:ext cx="457200" cy="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428920" y="1981080"/>
            <a:ext cx="6410160" cy="3733920"/>
          </a:xfrm>
          <a:prstGeom prst="rect">
            <a:avLst/>
          </a:prstGeom>
          <a:ln w="0">
            <a:noFill/>
          </a:ln>
        </p:spPr>
      </p:pic>
      <p:grpSp>
        <p:nvGrpSpPr>
          <p:cNvPr id="826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827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9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2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8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835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7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0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2" name=""/>
          <p:cNvGrpSpPr/>
          <p:nvPr/>
        </p:nvGrpSpPr>
        <p:grpSpPr>
          <a:xfrm>
            <a:off x="646560" y="1371600"/>
            <a:ext cx="7449840" cy="2936880"/>
            <a:chOff x="646560" y="1371600"/>
            <a:chExt cx="7449840" cy="2936880"/>
          </a:xfrm>
        </p:grpSpPr>
        <p:pic>
          <p:nvPicPr>
            <p:cNvPr id="843" name="" descr=""/>
            <p:cNvPicPr/>
            <p:nvPr/>
          </p:nvPicPr>
          <p:blipFill>
            <a:blip r:embed="rId5"/>
            <a:stretch/>
          </p:blipFill>
          <p:spPr>
            <a:xfrm>
              <a:off x="1886040" y="1371600"/>
              <a:ext cx="4927680" cy="29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5268960" y="3747960"/>
              <a:ext cx="1371600" cy="457200"/>
            </a:xfrm>
            <a:prstGeom prst="ellipse">
              <a:avLst/>
            </a:prstGeom>
            <a:noFill/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29400" y="26668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Écra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03520" y="3565440"/>
              <a:ext cx="2101680" cy="731880"/>
            </a:xfrm>
            <a:prstGeom prst="ellipse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6560" y="251460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ss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48400" y="3033720"/>
              <a:ext cx="636480" cy="792000"/>
            </a:xfrm>
            <a:custGeom>
              <a:avLst/>
              <a:gdLst/>
              <a:ahLst/>
              <a:rect l="l" t="t" r="r" b="b"/>
              <a:pathLst>
                <a:path w="401" h="499">
                  <a:moveTo>
                    <a:pt x="0" y="499"/>
                  </a:moveTo>
                  <a:lnTo>
                    <a:pt x="401" y="0"/>
                  </a:lnTo>
                </a:path>
              </a:pathLst>
            </a:custGeom>
            <a:noFill/>
            <a:ln w="2232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78000" y="2859120"/>
              <a:ext cx="750960" cy="811080"/>
            </a:xfrm>
            <a:custGeom>
              <a:avLst/>
              <a:gdLst/>
              <a:ahLst/>
              <a:rect l="l" t="t" r="r" b="b"/>
              <a:pathLst>
                <a:path w="473" h="511">
                  <a:moveTo>
                    <a:pt x="473" y="511"/>
                  </a:move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664000" y="228600"/>
            <a:ext cx="39268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ÉFORMATION DU M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81320" y="4648320"/>
            <a:ext cx="3281400" cy="1465560"/>
            <a:chOff x="2281320" y="4648320"/>
            <a:chExt cx="3281400" cy="1465560"/>
          </a:xfrm>
        </p:grpSpPr>
        <p:sp>
          <p:nvSpPr>
            <p:cNvPr id="852" name=""/>
            <p:cNvSpPr/>
            <p:nvPr/>
          </p:nvSpPr>
          <p:spPr>
            <a:xfrm>
              <a:off x="2281320" y="4648320"/>
              <a:ext cx="245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Écrasement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ures horizontales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ures verticales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3" name=""/>
            <p:cNvGraphicFramePr/>
            <p:nvPr/>
          </p:nvGraphicFramePr>
          <p:xfrm>
            <a:off x="5145120" y="4794120"/>
            <a:ext cx="341280" cy="387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5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45120" y="4794120"/>
                      <a:ext cx="34128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5" name=""/>
            <p:cNvGraphicFramePr/>
            <p:nvPr/>
          </p:nvGraphicFramePr>
          <p:xfrm>
            <a:off x="5159520" y="5241960"/>
            <a:ext cx="387360" cy="406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59520" y="5241960"/>
                      <a:ext cx="3873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5156280" y="5708520"/>
            <a:ext cx="406440" cy="387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56280" y="5708520"/>
                      <a:ext cx="40644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698840" y="228600"/>
            <a:ext cx="5949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UTION DE L’ENDOMM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09480" y="3581280"/>
            <a:ext cx="3900600" cy="2414880"/>
            <a:chOff x="609480" y="3581280"/>
            <a:chExt cx="3900600" cy="2414880"/>
          </a:xfrm>
        </p:grpSpPr>
        <p:pic>
          <p:nvPicPr>
            <p:cNvPr id="861" name="" descr=""/>
            <p:cNvPicPr/>
            <p:nvPr/>
          </p:nvPicPr>
          <p:blipFill>
            <a:blip r:embed="rId1"/>
            <a:stretch/>
          </p:blipFill>
          <p:spPr>
            <a:xfrm>
              <a:off x="609480" y="4114800"/>
              <a:ext cx="390060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994320" y="3581280"/>
              <a:ext cx="110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=2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113440" y="3581280"/>
            <a:ext cx="3954240" cy="2401920"/>
            <a:chOff x="5113440" y="3581280"/>
            <a:chExt cx="3954240" cy="2401920"/>
          </a:xfrm>
        </p:grpSpPr>
        <p:pic>
          <p:nvPicPr>
            <p:cNvPr id="864" name="" descr=""/>
            <p:cNvPicPr/>
            <p:nvPr/>
          </p:nvPicPr>
          <p:blipFill>
            <a:blip r:embed="rId2"/>
            <a:stretch/>
          </p:blipFill>
          <p:spPr>
            <a:xfrm>
              <a:off x="5113440" y="4114800"/>
              <a:ext cx="395424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6280560" y="3581280"/>
              <a:ext cx="110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=9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2638440" y="905040"/>
            <a:ext cx="4106880" cy="244764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2714760" y="2590920"/>
            <a:ext cx="1857240" cy="7617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869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4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8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2769480" y="228600"/>
            <a:ext cx="3644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CRASEMENT DU 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4106880" cy="244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581280" y="2895480"/>
            <a:ext cx="1143000" cy="3812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469120" y="12193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lèvement du 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5600" y="26668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cra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29400" y="1766880"/>
            <a:ext cx="380880" cy="824040"/>
          </a:xfrm>
          <a:prstGeom prst="downArrow">
            <a:avLst>
              <a:gd name="adj1" fmla="val 50000"/>
              <a:gd name="adj2" fmla="val 540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3094200" y="3886200"/>
            <a:ext cx="4221000" cy="2033640"/>
          </a:xfrm>
          <a:prstGeom prst="rect">
            <a:avLst/>
          </a:prstGeom>
          <a:ln w="0">
            <a:noFill/>
          </a:ln>
        </p:spPr>
      </p:pic>
      <p:grpSp>
        <p:nvGrpSpPr>
          <p:cNvPr id="883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884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6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9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2295000" y="228600"/>
            <a:ext cx="469476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AÎNAGE SUPÉRIEUR AR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835200" y="1660680"/>
            <a:ext cx="2984400" cy="1371600"/>
            <a:chOff x="835200" y="1660680"/>
            <a:chExt cx="2984400" cy="1371600"/>
          </a:xfrm>
        </p:grpSpPr>
        <p:sp>
          <p:nvSpPr>
            <p:cNvPr id="893" name=""/>
            <p:cNvSpPr/>
            <p:nvPr/>
          </p:nvSpPr>
          <p:spPr>
            <a:xfrm>
              <a:off x="954000" y="1812960"/>
              <a:ext cx="2286000" cy="10666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6000" y="1660680"/>
              <a:ext cx="2502000" cy="152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46000" y="2879640"/>
              <a:ext cx="2502000" cy="1526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2400" y="1736640"/>
              <a:ext cx="457200" cy="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57160" y="1736640"/>
              <a:ext cx="2482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5200" y="1660680"/>
              <a:ext cx="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3272040" y="3962520"/>
            <a:ext cx="49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 ’affecte pas la phase éla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70600" y="4952880"/>
            <a:ext cx="57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gmente la capacité portante du m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4210200" y="939960"/>
            <a:ext cx="4857480" cy="28699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291960" y="45720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présence d ’arm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904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6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9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1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684800" y="228600"/>
            <a:ext cx="5949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UTION DE L’ENDOMM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1828800" y="1413000"/>
            <a:ext cx="5416560" cy="3082680"/>
          </a:xfrm>
          <a:prstGeom prst="rect">
            <a:avLst/>
          </a:prstGeom>
          <a:ln w="0">
            <a:noFill/>
          </a:ln>
        </p:spPr>
      </p:pic>
      <p:grpSp>
        <p:nvGrpSpPr>
          <p:cNvPr id="913" name=""/>
          <p:cNvGrpSpPr/>
          <p:nvPr/>
        </p:nvGrpSpPr>
        <p:grpSpPr>
          <a:xfrm>
            <a:off x="1215720" y="5089680"/>
            <a:ext cx="7401600" cy="398880"/>
            <a:chOff x="1215720" y="5089680"/>
            <a:chExt cx="7401600" cy="398880"/>
          </a:xfrm>
        </p:grpSpPr>
        <p:sp>
          <p:nvSpPr>
            <p:cNvPr id="914" name=""/>
            <p:cNvSpPr/>
            <p:nvPr/>
          </p:nvSpPr>
          <p:spPr>
            <a:xfrm>
              <a:off x="4038480" y="5105520"/>
              <a:ext cx="976320" cy="380880"/>
            </a:xfrm>
            <a:prstGeom prst="rightArrow">
              <a:avLst>
                <a:gd name="adj1" fmla="val 50000"/>
                <a:gd name="adj2" fmla="val 640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30760" y="5089680"/>
              <a:ext cx="29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s de soulèvement du m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215720" y="5089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ures  répar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918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0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23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53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3416040" y="1376280"/>
            <a:ext cx="233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hmed Mébar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mdane Ami Sa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ékri Meft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1640" y="66204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cadreur et co-encadr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" y="3386160"/>
            <a:ext cx="909612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 u="sng">
                <a:solidFill>
                  <a:srgbClr val="000000"/>
                </a:solidFill>
                <a:uFillTx/>
                <a:latin typeface="Times New Roman"/>
              </a:rPr>
              <a:t>Travaux antérieurs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(W. Nechnech, 2000) : Une approche thermo-élasto-plastique endommageable pour le bét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imes New Roman"/>
              </a:rPr>
              <a:t>(F. Benboudjema, 2002) : Déformations différées du béton sous sollicitations biaxia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152280" y="685800"/>
            <a:ext cx="4728960" cy="2922120"/>
            <a:chOff x="152280" y="685800"/>
            <a:chExt cx="4728960" cy="2922120"/>
          </a:xfrm>
        </p:grpSpPr>
        <p:pic>
          <p:nvPicPr>
            <p:cNvPr id="926" name="" descr=""/>
            <p:cNvPicPr/>
            <p:nvPr/>
          </p:nvPicPr>
          <p:blipFill>
            <a:blip r:embed="rId1"/>
            <a:stretch/>
          </p:blipFill>
          <p:spPr>
            <a:xfrm>
              <a:off x="152280" y="1344600"/>
              <a:ext cx="4728960" cy="22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1775520" y="685800"/>
              <a:ext cx="110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=2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267080" y="3048120"/>
            <a:ext cx="4764240" cy="2927880"/>
            <a:chOff x="4267080" y="3048120"/>
            <a:chExt cx="4764240" cy="2927880"/>
          </a:xfrm>
        </p:grpSpPr>
        <p:grpSp>
          <p:nvGrpSpPr>
            <p:cNvPr id="929" name=""/>
            <p:cNvGrpSpPr/>
            <p:nvPr/>
          </p:nvGrpSpPr>
          <p:grpSpPr>
            <a:xfrm>
              <a:off x="4267080" y="3688560"/>
              <a:ext cx="4764240" cy="2287440"/>
              <a:chOff x="4267080" y="3688560"/>
              <a:chExt cx="4764240" cy="2287440"/>
            </a:xfrm>
          </p:grpSpPr>
          <p:pic>
            <p:nvPicPr>
              <p:cNvPr id="9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67080" y="3688560"/>
                <a:ext cx="4106160" cy="228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1" name=""/>
              <p:cNvGrpSpPr/>
              <p:nvPr/>
            </p:nvGrpSpPr>
            <p:grpSpPr>
              <a:xfrm>
                <a:off x="8489520" y="3995280"/>
                <a:ext cx="541800" cy="1719000"/>
                <a:chOff x="8489520" y="3995280"/>
                <a:chExt cx="541800" cy="1719000"/>
              </a:xfrm>
            </p:grpSpPr>
            <p:pic>
              <p:nvPicPr>
                <p:cNvPr id="9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489520" y="4035240"/>
                  <a:ext cx="140760" cy="163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3" name=""/>
                <p:cNvSpPr/>
                <p:nvPr/>
              </p:nvSpPr>
              <p:spPr>
                <a:xfrm>
                  <a:off x="8664480" y="3995280"/>
                  <a:ext cx="36144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721720" y="4035240"/>
                  <a:ext cx="203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0.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75640" y="5487480"/>
                  <a:ext cx="35568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733240" y="5529240"/>
                  <a:ext cx="203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0.9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75640" y="4361040"/>
                  <a:ext cx="355680" cy="22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733240" y="4403160"/>
                  <a:ext cx="203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0.2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75640" y="4688640"/>
                  <a:ext cx="35568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733240" y="4728960"/>
                  <a:ext cx="203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0.4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75640" y="5020200"/>
                  <a:ext cx="35568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733240" y="5060520"/>
                  <a:ext cx="203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0.6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3" name=""/>
            <p:cNvSpPr/>
            <p:nvPr/>
          </p:nvSpPr>
          <p:spPr>
            <a:xfrm>
              <a:off x="5834160" y="3048120"/>
              <a:ext cx="1107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=9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1684800" y="228600"/>
            <a:ext cx="59490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UTION DE L’ENDOMM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946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8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1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921320" y="228600"/>
            <a:ext cx="5345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CLUSIONS ET PERSPECT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" y="92232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oposition d’un modèle de maçonner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nisotropie du matér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La fissuration et l’écrasement du matéri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Corrélation entre les résultats expérimentaux et la modé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Etude de l’influence des armatures dans le chaînage horizo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Capacité portante du m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Modes de rupture (évolution de l’endommag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5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Outil pour la proposition de modèles simplifiés pour  la maçonnerie (analyse des biel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956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8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1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3640" y="533520"/>
            <a:ext cx="455760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PLAN DE LA 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65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" name=""/>
          <p:cNvGrpSpPr/>
          <p:nvPr/>
        </p:nvGrpSpPr>
        <p:grpSpPr>
          <a:xfrm>
            <a:off x="380880" y="1523880"/>
            <a:ext cx="8767800" cy="4224240"/>
            <a:chOff x="380880" y="1523880"/>
            <a:chExt cx="8767800" cy="4224240"/>
          </a:xfrm>
        </p:grpSpPr>
        <p:sp>
          <p:nvSpPr>
            <p:cNvPr id="73" name="">
              <a:hlinkClick r:id="" action="ppaction://hlinkshowjump?jump=lastslide"/>
            </p:cNvPr>
            <p:cNvSpPr/>
            <p:nvPr/>
          </p:nvSpPr>
          <p:spPr>
            <a:xfrm>
              <a:off x="380880" y="1523880"/>
              <a:ext cx="87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>
                <a:lnSpc>
                  <a:spcPct val="15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roblématique de la modélisation de la maçonnerie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>
              <a:hlinkClick r:id="" action="ppaction://hlinkshowjump?jump=lastslide"/>
            </p:cNvPr>
            <p:cNvSpPr/>
            <p:nvPr/>
          </p:nvSpPr>
          <p:spPr>
            <a:xfrm>
              <a:off x="380880" y="4114800"/>
              <a:ext cx="876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>
                <a:lnSpc>
                  <a:spcPct val="15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Validation du modè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>
              <a:hlinkClick r:id="" action="ppaction://hlinkshowjump?jump=lastslide"/>
            </p:cNvPr>
            <p:cNvSpPr/>
            <p:nvPr/>
          </p:nvSpPr>
          <p:spPr>
            <a:xfrm>
              <a:off x="382680" y="2362320"/>
              <a:ext cx="876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>
                <a:lnSpc>
                  <a:spcPct val="15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Proposition d’un modèle élastoplastique endommage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>
              <a:hlinkClick r:id="" action="ppaction://hlinkshowjump?jump=lastslide"/>
            </p:cNvPr>
            <p:cNvSpPr/>
            <p:nvPr/>
          </p:nvSpPr>
          <p:spPr>
            <a:xfrm>
              <a:off x="382680" y="5105520"/>
              <a:ext cx="876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>
                <a:lnSpc>
                  <a:spcPct val="15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>
              <a:hlinkClick r:id="" action="ppaction://hlinkshowjump?jump=lastslide"/>
            </p:cNvPr>
            <p:cNvSpPr/>
            <p:nvPr/>
          </p:nvSpPr>
          <p:spPr>
            <a:xfrm>
              <a:off x="385920" y="3200400"/>
              <a:ext cx="876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>
                <a:lnSpc>
                  <a:spcPct val="15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ntégration des équations du modèle dans CAST3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6019920" y="1892160"/>
            <a:ext cx="1950840" cy="663840"/>
            <a:chOff x="6019920" y="1892160"/>
            <a:chExt cx="1950840" cy="663840"/>
          </a:xfrm>
        </p:grpSpPr>
        <p:sp>
          <p:nvSpPr>
            <p:cNvPr id="79" name=""/>
            <p:cNvSpPr/>
            <p:nvPr/>
          </p:nvSpPr>
          <p:spPr>
            <a:xfrm>
              <a:off x="6019920" y="2127240"/>
              <a:ext cx="1950840" cy="193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9920" y="1892160"/>
              <a:ext cx="601560" cy="27648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13560" y="1892160"/>
              <a:ext cx="90360" cy="322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91440" y="1892160"/>
              <a:ext cx="92160" cy="322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70760" y="19796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7440" y="2279520"/>
              <a:ext cx="90720" cy="276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35960" y="2279520"/>
              <a:ext cx="90360" cy="276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279520"/>
              <a:ext cx="90360" cy="276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22800" y="1989000"/>
              <a:ext cx="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15040" y="189720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6760" y="255096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50240" y="2274840"/>
              <a:ext cx="588960" cy="27612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4720" y="2276280"/>
              <a:ext cx="606600" cy="2746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26320" y="2276280"/>
              <a:ext cx="244440" cy="2746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9920" y="2274840"/>
              <a:ext cx="244440" cy="27612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1892160"/>
              <a:ext cx="601560" cy="2764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02480" y="1892160"/>
              <a:ext cx="585720" cy="2764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5040" y="1892160"/>
              <a:ext cx="585720" cy="2764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66680" y="1511280"/>
            <a:ext cx="4145040" cy="2259000"/>
            <a:chOff x="1066680" y="1511280"/>
            <a:chExt cx="4145040" cy="2259000"/>
          </a:xfrm>
        </p:grpSpPr>
        <p:sp>
          <p:nvSpPr>
            <p:cNvPr id="98" name=""/>
            <p:cNvSpPr/>
            <p:nvPr/>
          </p:nvSpPr>
          <p:spPr>
            <a:xfrm flipV="1">
              <a:off x="1374840" y="1820520"/>
              <a:ext cx="0" cy="19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066680" y="182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911840" y="1820520"/>
              <a:ext cx="0" cy="19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11480" y="1820880"/>
              <a:ext cx="29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11720" y="15224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1514520"/>
              <a:ext cx="4145040" cy="185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1511280"/>
              <a:ext cx="41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2200" y="1700280"/>
              <a:ext cx="476280" cy="120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1700280"/>
              <a:ext cx="478080" cy="120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6680" y="152244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41920" y="1820880"/>
              <a:ext cx="155520" cy="1949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00040" y="1820880"/>
              <a:ext cx="154080" cy="1949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63600" y="1692360"/>
            <a:ext cx="3772080" cy="2270160"/>
            <a:chOff x="1263600" y="1692360"/>
            <a:chExt cx="3772080" cy="2270160"/>
          </a:xfrm>
        </p:grpSpPr>
        <p:sp>
          <p:nvSpPr>
            <p:cNvPr id="111" name=""/>
            <p:cNvSpPr/>
            <p:nvPr/>
          </p:nvSpPr>
          <p:spPr>
            <a:xfrm>
              <a:off x="1263600" y="3776760"/>
              <a:ext cx="3772080" cy="1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95840" y="36039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4120" y="36039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32120" y="3603960"/>
              <a:ext cx="36648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70120" y="3603960"/>
              <a:ext cx="3780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560" y="3603960"/>
              <a:ext cx="36828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19280" y="3603960"/>
              <a:ext cx="37656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45000" y="3603960"/>
              <a:ext cx="18576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00400" y="3603960"/>
              <a:ext cx="365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72040" y="3603960"/>
              <a:ext cx="3762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112120" y="34293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353840" y="34293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987000" y="3429360"/>
              <a:ext cx="36684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245760" y="3429360"/>
              <a:ext cx="37764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88320" y="34293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54120" y="3429360"/>
              <a:ext cx="18576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619440" y="3429360"/>
              <a:ext cx="365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5840" y="325620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54120" y="325620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32120" y="3256200"/>
              <a:ext cx="3664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0120" y="3256200"/>
              <a:ext cx="3780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560" y="3256200"/>
              <a:ext cx="3682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280" y="3256200"/>
              <a:ext cx="3765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45000" y="325620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0400" y="325620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72040" y="3256200"/>
              <a:ext cx="376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112120" y="308160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353840" y="308160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987000" y="3081600"/>
              <a:ext cx="3668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245760" y="3081600"/>
              <a:ext cx="3776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488320" y="308160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554120" y="308160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619440" y="308160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95840" y="291168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54120" y="291168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32120" y="2911680"/>
              <a:ext cx="3664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0120" y="2911680"/>
              <a:ext cx="3780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560" y="2911680"/>
              <a:ext cx="3682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9280" y="2911680"/>
              <a:ext cx="3765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5000" y="291168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0400" y="291168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2040" y="2911680"/>
              <a:ext cx="376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112120" y="273708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353840" y="273708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87000" y="2737080"/>
              <a:ext cx="3668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37840" y="2737080"/>
              <a:ext cx="3776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488320" y="273708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554120" y="273708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619440" y="273708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95840" y="256392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54120" y="256392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32120" y="2563920"/>
              <a:ext cx="3664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70120" y="2563920"/>
              <a:ext cx="3780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560" y="2563920"/>
              <a:ext cx="3682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9280" y="2563920"/>
              <a:ext cx="3765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5000" y="256392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0400" y="256392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2040" y="2563920"/>
              <a:ext cx="376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112120" y="238932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353840" y="238932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87000" y="2389320"/>
              <a:ext cx="3668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237840" y="2389320"/>
              <a:ext cx="3776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488320" y="238932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554120" y="238932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19440" y="238932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95840" y="22179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54120" y="22179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2120" y="2217960"/>
              <a:ext cx="3664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70120" y="2217960"/>
              <a:ext cx="3780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560" y="2217960"/>
              <a:ext cx="3682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19280" y="2217960"/>
              <a:ext cx="3765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45000" y="221796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0400" y="221796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2040" y="2217960"/>
              <a:ext cx="376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112120" y="20433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353840" y="20433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987000" y="2043360"/>
              <a:ext cx="3668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237840" y="2043360"/>
              <a:ext cx="37764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488320" y="20433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554120" y="204336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619440" y="204336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5840" y="18687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4120" y="1868760"/>
              <a:ext cx="3762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32120" y="1868760"/>
              <a:ext cx="3664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0120" y="1868760"/>
              <a:ext cx="37800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560" y="1868760"/>
              <a:ext cx="36828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9280" y="1868760"/>
              <a:ext cx="3765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45000" y="1868760"/>
              <a:ext cx="185760" cy="17316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00400" y="1868760"/>
              <a:ext cx="3650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72040" y="1868760"/>
              <a:ext cx="376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112120" y="16941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53840" y="16941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987000" y="1694160"/>
              <a:ext cx="36684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237840" y="1694160"/>
              <a:ext cx="37764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488320" y="1694160"/>
              <a:ext cx="37620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54120" y="1694160"/>
              <a:ext cx="185760" cy="17280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619440" y="1694160"/>
              <a:ext cx="365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54120" y="16923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347840" y="228600"/>
            <a:ext cx="650700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TIQUE DE LA MO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 LA MAÇONNERI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3320" y="2392200"/>
            <a:ext cx="376200" cy="173160"/>
          </a:xfrm>
          <a:prstGeom prst="rect">
            <a:avLst/>
          </a:prstGeom>
          <a:solidFill>
            <a:srgbClr val="ffcc99"/>
          </a:solidFill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1760" y="5405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6080" y="4446720"/>
            <a:ext cx="6403680" cy="687240"/>
            <a:chOff x="1216080" y="4446720"/>
            <a:chExt cx="6403680" cy="687240"/>
          </a:xfrm>
        </p:grpSpPr>
        <p:sp>
          <p:nvSpPr>
            <p:cNvPr id="213" name=""/>
            <p:cNvSpPr/>
            <p:nvPr/>
          </p:nvSpPr>
          <p:spPr>
            <a:xfrm>
              <a:off x="6343560" y="44467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ssur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16080" y="464328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ique et mort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719600"/>
              <a:ext cx="976320" cy="304920"/>
            </a:xfrm>
            <a:custGeom>
              <a:avLst/>
              <a:gdLst>
                <a:gd name="textAreaLeft" fmla="*/ 122040 w 976320"/>
                <a:gd name="textAreaRight" fmla="*/ 854280 w 97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9120" y="4765680"/>
              <a:ext cx="12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Écras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114800" y="5257800"/>
            <a:ext cx="3581280" cy="687240"/>
            <a:chOff x="4114800" y="5257800"/>
            <a:chExt cx="3581280" cy="687240"/>
          </a:xfrm>
        </p:grpSpPr>
        <p:sp>
          <p:nvSpPr>
            <p:cNvPr id="218" name=""/>
            <p:cNvSpPr/>
            <p:nvPr/>
          </p:nvSpPr>
          <p:spPr>
            <a:xfrm>
              <a:off x="6292800" y="5576760"/>
              <a:ext cx="132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iss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405400"/>
              <a:ext cx="976320" cy="304920"/>
            </a:xfrm>
            <a:custGeom>
              <a:avLst/>
              <a:gdLst>
                <a:gd name="textAreaLeft" fmla="*/ 122040 w 976320"/>
                <a:gd name="textAreaRight" fmla="*/ 854280 w 9763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3560" y="52578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écoll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477120" y="1930320"/>
            <a:ext cx="571320" cy="523800"/>
            <a:chOff x="6477120" y="1930320"/>
            <a:chExt cx="571320" cy="523800"/>
          </a:xfrm>
        </p:grpSpPr>
        <p:sp>
          <p:nvSpPr>
            <p:cNvPr id="222" name=""/>
            <p:cNvSpPr/>
            <p:nvPr/>
          </p:nvSpPr>
          <p:spPr>
            <a:xfrm>
              <a:off x="6477120" y="2168280"/>
              <a:ext cx="295200" cy="112680"/>
            </a:xfrm>
            <a:custGeom>
              <a:avLst/>
              <a:gdLst/>
              <a:ahLst/>
              <a:rect l="l" t="t" r="r" b="b"/>
              <a:pathLst>
                <a:path w="186" h="71">
                  <a:moveTo>
                    <a:pt x="186" y="0"/>
                  </a:moveTo>
                  <a:cubicBezTo>
                    <a:pt x="148" y="26"/>
                    <a:pt x="104" y="27"/>
                    <a:pt x="63" y="48"/>
                  </a:cubicBezTo>
                  <a:cubicBezTo>
                    <a:pt x="16" y="71"/>
                    <a:pt x="12" y="64"/>
                    <a:pt x="0" y="6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5000" y="1930320"/>
              <a:ext cx="90720" cy="11880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57" y="0"/>
                  </a:moveTo>
                  <a:cubicBezTo>
                    <a:pt x="43" y="4"/>
                    <a:pt x="34" y="24"/>
                    <a:pt x="21" y="30"/>
                  </a:cubicBezTo>
                  <a:cubicBezTo>
                    <a:pt x="8" y="38"/>
                    <a:pt x="3" y="62"/>
                    <a:pt x="0" y="75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62760" y="2325600"/>
              <a:ext cx="85680" cy="12852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0" y="0"/>
                  </a:moveTo>
                  <a:cubicBezTo>
                    <a:pt x="4" y="21"/>
                    <a:pt x="14" y="36"/>
                    <a:pt x="24" y="54"/>
                  </a:cubicBezTo>
                  <a:cubicBezTo>
                    <a:pt x="29" y="63"/>
                    <a:pt x="48" y="75"/>
                    <a:pt x="54" y="81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032520" y="1892160"/>
            <a:ext cx="372960" cy="276480"/>
          </a:xfrm>
          <a:custGeom>
            <a:avLst/>
            <a:gdLst/>
            <a:ahLst/>
            <a:rect l="l" t="t" r="r" b="b"/>
            <a:pathLst>
              <a:path w="235" h="174">
                <a:moveTo>
                  <a:pt x="235" y="0"/>
                </a:moveTo>
                <a:cubicBezTo>
                  <a:pt x="170" y="17"/>
                  <a:pt x="226" y="0"/>
                  <a:pt x="163" y="36"/>
                </a:cubicBezTo>
                <a:cubicBezTo>
                  <a:pt x="145" y="49"/>
                  <a:pt x="130" y="63"/>
                  <a:pt x="118" y="72"/>
                </a:cubicBezTo>
                <a:cubicBezTo>
                  <a:pt x="106" y="81"/>
                  <a:pt x="112" y="75"/>
                  <a:pt x="92" y="92"/>
                </a:cubicBezTo>
                <a:cubicBezTo>
                  <a:pt x="60" y="113"/>
                  <a:pt x="27" y="147"/>
                  <a:pt x="0" y="174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391160" y="2158920"/>
            <a:ext cx="585720" cy="180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00800" y="1892160"/>
            <a:ext cx="1800" cy="2844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45120" y="2824200"/>
            <a:ext cx="1955880" cy="658800"/>
            <a:chOff x="6045120" y="2824200"/>
            <a:chExt cx="1955880" cy="658800"/>
          </a:xfrm>
        </p:grpSpPr>
        <p:sp>
          <p:nvSpPr>
            <p:cNvPr id="229" name=""/>
            <p:cNvSpPr/>
            <p:nvPr/>
          </p:nvSpPr>
          <p:spPr>
            <a:xfrm>
              <a:off x="6049800" y="3092400"/>
              <a:ext cx="19512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9800" y="2824200"/>
              <a:ext cx="601920" cy="276120"/>
            </a:xfrm>
            <a:prstGeom prst="rect">
              <a:avLst/>
            </a:prstGeom>
            <a:noFill/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1000" y="291132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5120" y="2921040"/>
              <a:ext cx="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45280" y="2825640"/>
              <a:ext cx="165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46640" y="3483000"/>
              <a:ext cx="16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80120" y="3206520"/>
              <a:ext cx="588960" cy="2764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84960" y="3208320"/>
              <a:ext cx="606240" cy="2746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56560" y="3208320"/>
              <a:ext cx="244440" cy="2746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9800" y="3206520"/>
              <a:ext cx="244800" cy="27648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49800" y="2824200"/>
              <a:ext cx="601920" cy="27612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32720" y="2824200"/>
              <a:ext cx="585720" cy="27612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15280" y="2824200"/>
              <a:ext cx="585720" cy="27612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38720" y="2825640"/>
            <a:ext cx="1338480" cy="657000"/>
            <a:chOff x="6138720" y="2825640"/>
            <a:chExt cx="1338480" cy="657000"/>
          </a:xfrm>
        </p:grpSpPr>
        <p:sp>
          <p:nvSpPr>
            <p:cNvPr id="243" name=""/>
            <p:cNvSpPr/>
            <p:nvPr/>
          </p:nvSpPr>
          <p:spPr>
            <a:xfrm>
              <a:off x="6138720" y="2825640"/>
              <a:ext cx="371520" cy="277560"/>
            </a:xfrm>
            <a:custGeom>
              <a:avLst/>
              <a:gdLst/>
              <a:ahLst/>
              <a:rect l="l" t="t" r="r" b="b"/>
              <a:pathLst>
                <a:path w="234" h="175">
                  <a:moveTo>
                    <a:pt x="234" y="0"/>
                  </a:moveTo>
                  <a:cubicBezTo>
                    <a:pt x="219" y="25"/>
                    <a:pt x="200" y="28"/>
                    <a:pt x="180" y="45"/>
                  </a:cubicBezTo>
                  <a:cubicBezTo>
                    <a:pt x="169" y="54"/>
                    <a:pt x="158" y="67"/>
                    <a:pt x="144" y="72"/>
                  </a:cubicBezTo>
                  <a:cubicBezTo>
                    <a:pt x="128" y="77"/>
                    <a:pt x="103" y="92"/>
                    <a:pt x="90" y="105"/>
                  </a:cubicBezTo>
                  <a:cubicBezTo>
                    <a:pt x="74" y="121"/>
                    <a:pt x="55" y="134"/>
                    <a:pt x="36" y="147"/>
                  </a:cubicBezTo>
                  <a:cubicBezTo>
                    <a:pt x="30" y="151"/>
                    <a:pt x="24" y="155"/>
                    <a:pt x="18" y="159"/>
                  </a:cubicBezTo>
                  <a:cubicBezTo>
                    <a:pt x="15" y="161"/>
                    <a:pt x="9" y="165"/>
                    <a:pt x="9" y="165"/>
                  </a:cubicBezTo>
                  <a:cubicBezTo>
                    <a:pt x="2" y="175"/>
                    <a:pt x="1" y="173"/>
                    <a:pt x="0" y="17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5960" y="3215880"/>
              <a:ext cx="381240" cy="2667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240" y="0"/>
                  </a:moveTo>
                  <a:cubicBezTo>
                    <a:pt x="231" y="9"/>
                    <a:pt x="226" y="17"/>
                    <a:pt x="216" y="24"/>
                  </a:cubicBezTo>
                  <a:cubicBezTo>
                    <a:pt x="202" y="45"/>
                    <a:pt x="176" y="47"/>
                    <a:pt x="156" y="60"/>
                  </a:cubicBezTo>
                  <a:cubicBezTo>
                    <a:pt x="124" y="81"/>
                    <a:pt x="173" y="48"/>
                    <a:pt x="138" y="75"/>
                  </a:cubicBezTo>
                  <a:cubicBezTo>
                    <a:pt x="132" y="79"/>
                    <a:pt x="120" y="87"/>
                    <a:pt x="120" y="87"/>
                  </a:cubicBezTo>
                  <a:cubicBezTo>
                    <a:pt x="104" y="111"/>
                    <a:pt x="61" y="133"/>
                    <a:pt x="36" y="150"/>
                  </a:cubicBezTo>
                  <a:cubicBezTo>
                    <a:pt x="23" y="159"/>
                    <a:pt x="15" y="168"/>
                    <a:pt x="0" y="16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246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6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17960" y="228600"/>
            <a:ext cx="65617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CARACTERISTIQUES DE LA MAÇONN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41720" y="838080"/>
            <a:ext cx="278388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tériau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256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3" name=""/>
          <p:cNvGrpSpPr/>
          <p:nvPr/>
        </p:nvGrpSpPr>
        <p:grpSpPr>
          <a:xfrm>
            <a:off x="533520" y="1299240"/>
            <a:ext cx="3733560" cy="4720680"/>
            <a:chOff x="533520" y="1299240"/>
            <a:chExt cx="3733560" cy="4720680"/>
          </a:xfrm>
        </p:grpSpPr>
        <p:sp>
          <p:nvSpPr>
            <p:cNvPr id="264" name=""/>
            <p:cNvSpPr/>
            <p:nvPr/>
          </p:nvSpPr>
          <p:spPr>
            <a:xfrm rot="8100000">
              <a:off x="3047760" y="1599480"/>
              <a:ext cx="976320" cy="304920"/>
            </a:xfrm>
            <a:prstGeom prst="rightArrow">
              <a:avLst>
                <a:gd name="adj1" fmla="val 50000"/>
                <a:gd name="adj2" fmla="val 80047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33520" y="2133720"/>
              <a:ext cx="3733560" cy="3886200"/>
              <a:chOff x="533520" y="2133720"/>
              <a:chExt cx="3733560" cy="3886200"/>
            </a:xfrm>
          </p:grpSpPr>
          <p:graphicFrame>
            <p:nvGraphicFramePr>
              <p:cNvPr id="266" name=""/>
              <p:cNvGraphicFramePr/>
              <p:nvPr/>
            </p:nvGraphicFramePr>
            <p:xfrm>
              <a:off x="1066680" y="3857760"/>
              <a:ext cx="2497320" cy="363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66680" y="3857760"/>
                        <a:ext cx="2497320" cy="363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8" name=""/>
              <p:cNvSpPr/>
              <p:nvPr/>
            </p:nvSpPr>
            <p:spPr>
              <a:xfrm>
                <a:off x="2122560" y="3048120"/>
                <a:ext cx="2072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Times New Roman"/>
                  </a:rPr>
                  <a:t>Résultats expérimentau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Times New Roman"/>
                  </a:rPr>
                  <a:t>(J. CRUZ DIAZ, 2002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066680" y="2209680"/>
                <a:ext cx="1932120" cy="1238040"/>
                <a:chOff x="1066680" y="2209680"/>
                <a:chExt cx="1932120" cy="123804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1066680" y="2333520"/>
                  <a:ext cx="1575000" cy="1114200"/>
                  <a:chOff x="1066680" y="2333520"/>
                  <a:chExt cx="1575000" cy="11142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H="1">
                    <a:off x="1066680" y="2333520"/>
                    <a:ext cx="1049760" cy="6872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1591560" y="2439360"/>
                    <a:ext cx="1049760" cy="6868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91560" y="3126240"/>
                    <a:ext cx="0" cy="3171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641680" y="2439360"/>
                    <a:ext cx="0" cy="3171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1591560" y="2756520"/>
                    <a:ext cx="1049760" cy="6868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066680" y="3020760"/>
                    <a:ext cx="0" cy="3171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066680" y="3020760"/>
                    <a:ext cx="5227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100">
                        <a:moveTo>
                          <a:pt x="0" y="0"/>
                        </a:moveTo>
                        <a:lnTo>
                          <a:pt x="478" y="100"/>
                        </a:lnTo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066680" y="3337920"/>
                    <a:ext cx="5227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100">
                        <a:moveTo>
                          <a:pt x="0" y="0"/>
                        </a:moveTo>
                        <a:lnTo>
                          <a:pt x="478" y="100"/>
                        </a:lnTo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118600" y="2333520"/>
                    <a:ext cx="5227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8" h="100">
                        <a:moveTo>
                          <a:pt x="0" y="0"/>
                        </a:moveTo>
                        <a:lnTo>
                          <a:pt x="478" y="100"/>
                        </a:lnTo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1116000" y="3071520"/>
                    <a:ext cx="383400" cy="300240"/>
                    <a:chOff x="1116000" y="3071520"/>
                    <a:chExt cx="383400" cy="30024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5125800">
                      <a:off x="1107720" y="308484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5125800">
                      <a:off x="1255320" y="311652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125800">
                      <a:off x="1107720" y="324288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5125800">
                      <a:off x="1255320" y="327492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5125800">
                      <a:off x="1412640" y="313740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5125800">
                      <a:off x="1422720" y="3295800"/>
                      <a:ext cx="84600" cy="61920"/>
                    </a:xfrm>
                    <a:prstGeom prst="parallelogram">
                      <a:avLst>
                        <a:gd name="adj" fmla="val 34157"/>
                      </a:avLst>
                    </a:prstGeom>
                    <a:solidFill>
                      <a:srgbClr val="ccccff"/>
                    </a:solidFill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920" bIns="-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7" name=""/>
                <p:cNvSpPr/>
                <p:nvPr/>
              </p:nvSpPr>
              <p:spPr>
                <a:xfrm flipV="1">
                  <a:off x="1592280" y="2544840"/>
                  <a:ext cx="0" cy="8985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592280" y="2533680"/>
                  <a:ext cx="1406520" cy="909720"/>
                </a:xfrm>
                <a:custGeom>
                  <a:avLst/>
                  <a:gdLst/>
                  <a:ahLst/>
                  <a:rect l="l" t="t" r="r" b="b"/>
                  <a:pathLst>
                    <a:path w="1287" h="827">
                      <a:moveTo>
                        <a:pt x="0" y="827"/>
                      </a:moveTo>
                      <a:lnTo>
                        <a:pt x="1287" y="0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644200" y="2209680"/>
                  <a:ext cx="33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593720" y="26337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533520" y="2133720"/>
                <a:ext cx="3733560" cy="388620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59120" y="4645080"/>
                <a:ext cx="2533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buClr>
                    <a:srgbClr val="0000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Perforations, tro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buClr>
                    <a:srgbClr val="0000ff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Procédé de fabr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800600" y="1299240"/>
            <a:ext cx="3733920" cy="4720680"/>
            <a:chOff x="4800600" y="1299240"/>
            <a:chExt cx="3733920" cy="4720680"/>
          </a:xfrm>
        </p:grpSpPr>
        <p:sp>
          <p:nvSpPr>
            <p:cNvPr id="294" name=""/>
            <p:cNvSpPr/>
            <p:nvPr/>
          </p:nvSpPr>
          <p:spPr>
            <a:xfrm flipH="1" rot="13500000">
              <a:off x="4966200" y="1599480"/>
              <a:ext cx="976320" cy="304920"/>
            </a:xfrm>
            <a:prstGeom prst="rightArrow">
              <a:avLst>
                <a:gd name="adj1" fmla="val 50000"/>
                <a:gd name="adj2" fmla="val 80047"/>
              </a:avLst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4800600" y="2133720"/>
              <a:ext cx="3733920" cy="3886200"/>
              <a:chOff x="4800600" y="2133720"/>
              <a:chExt cx="3733920" cy="388620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6400800" y="2425680"/>
              <a:ext cx="1928880" cy="31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00800" y="2425680"/>
                        <a:ext cx="1928880" cy="31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" name=""/>
              <p:cNvGraphicFramePr/>
              <p:nvPr/>
            </p:nvGraphicFramePr>
            <p:xfrm>
              <a:off x="5105520" y="4745160"/>
              <a:ext cx="3224160" cy="284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9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105520" y="4745160"/>
                        <a:ext cx="322416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0" name=""/>
              <p:cNvSpPr/>
              <p:nvPr/>
            </p:nvSpPr>
            <p:spPr>
              <a:xfrm>
                <a:off x="6127920" y="3029040"/>
                <a:ext cx="993600" cy="9968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27920" y="4025880"/>
                <a:ext cx="1542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135840" y="2493720"/>
                <a:ext cx="0" cy="1546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82200" y="3824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93120" y="2373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00600" y="2133720"/>
                <a:ext cx="3733920" cy="3886200"/>
              </a:xfrm>
              <a:prstGeom prst="rect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966000" y="357840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07" name=""/>
              <p:cNvGraphicFramePr/>
              <p:nvPr/>
            </p:nvGraphicFramePr>
            <p:xfrm>
              <a:off x="7880400" y="3489480"/>
              <a:ext cx="241200" cy="241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880400" y="3489480"/>
                        <a:ext cx="241200" cy="24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9" name=""/>
              <p:cNvSpPr/>
              <p:nvPr/>
            </p:nvSpPr>
            <p:spPr>
              <a:xfrm flipH="1">
                <a:off x="5297040" y="35784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10" name=""/>
              <p:cNvGraphicFramePr/>
              <p:nvPr/>
            </p:nvGraphicFramePr>
            <p:xfrm>
              <a:off x="4952880" y="3505320"/>
              <a:ext cx="241560" cy="241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1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952880" y="3505320"/>
                        <a:ext cx="241560" cy="24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2" name=""/>
              <p:cNvSpPr/>
              <p:nvPr/>
            </p:nvSpPr>
            <p:spPr>
              <a:xfrm>
                <a:off x="6477120" y="335268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81680" y="36576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8520" y="335268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81680" y="335268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629400" y="380988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77120" y="36576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3505320"/>
                <a:ext cx="0" cy="75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24480" y="3505320"/>
                <a:ext cx="0" cy="759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8520" y="36576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4480" y="380988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77120" y="38862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1680" y="38862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48520" y="3886200"/>
                <a:ext cx="0" cy="76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5" name=""/>
              <p:cNvGraphicFramePr/>
              <p:nvPr/>
            </p:nvGraphicFramePr>
            <p:xfrm>
              <a:off x="5241960" y="5413320"/>
              <a:ext cx="2911320" cy="301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26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241960" y="5413320"/>
                        <a:ext cx="2911320" cy="30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292400" y="1528920"/>
            <a:ext cx="6769080" cy="1214280"/>
            <a:chOff x="1292400" y="1528920"/>
            <a:chExt cx="6769080" cy="121428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1292400" y="1528920"/>
              <a:ext cx="1908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954600" y="1986120"/>
              <a:ext cx="1226880" cy="217440"/>
            </a:xfrm>
            <a:custGeom>
              <a:avLst/>
              <a:gdLst>
                <a:gd name="textAreaLeft" fmla="*/ 191520 w 1226880"/>
                <a:gd name="textAreaRight" fmla="*/ 1073520 w 1226880"/>
                <a:gd name="textAreaTop" fmla="*/ 54360 h 217440"/>
                <a:gd name="textAreaBottom" fmla="*/ 16308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72200" y="1573200"/>
              <a:ext cx="1889280" cy="1170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Matériau homogèn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équival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332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4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7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9" name=""/>
          <p:cNvSpPr/>
          <p:nvPr/>
        </p:nvSpPr>
        <p:spPr>
          <a:xfrm>
            <a:off x="2119320" y="228600"/>
            <a:ext cx="49006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ROCHE DE MO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80040" y="3645000"/>
            <a:ext cx="7203600" cy="482400"/>
            <a:chOff x="680040" y="3645000"/>
            <a:chExt cx="7203600" cy="482400"/>
          </a:xfrm>
        </p:grpSpPr>
        <p:sp>
          <p:nvSpPr>
            <p:cNvPr id="341" name=""/>
            <p:cNvSpPr/>
            <p:nvPr/>
          </p:nvSpPr>
          <p:spPr>
            <a:xfrm>
              <a:off x="680040" y="3657600"/>
              <a:ext cx="44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canique de l’endommagemen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7"/>
            <a:stretch/>
          </p:blipFill>
          <p:spPr>
            <a:xfrm>
              <a:off x="5845320" y="3645000"/>
              <a:ext cx="2038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01200" y="5181480"/>
            <a:ext cx="7094880" cy="459720"/>
            <a:chOff x="601200" y="5181480"/>
            <a:chExt cx="7094880" cy="459720"/>
          </a:xfrm>
        </p:grpSpPr>
        <p:sp>
          <p:nvSpPr>
            <p:cNvPr id="344" name=""/>
            <p:cNvSpPr/>
            <p:nvPr/>
          </p:nvSpPr>
          <p:spPr>
            <a:xfrm>
              <a:off x="601200" y="5181480"/>
              <a:ext cx="50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uplage plasticité /endommagemen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5" name=""/>
            <p:cNvGraphicFramePr/>
            <p:nvPr/>
          </p:nvGraphicFramePr>
          <p:xfrm>
            <a:off x="6397560" y="5181480"/>
            <a:ext cx="1298520" cy="433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97560" y="5181480"/>
                      <a:ext cx="129852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7" name=""/>
          <p:cNvGraphicFramePr/>
          <p:nvPr/>
        </p:nvGraphicFramePr>
        <p:xfrm>
          <a:off x="2262240" y="4354560"/>
          <a:ext cx="2957400" cy="43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2240" y="4354560"/>
                    <a:ext cx="29574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350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"/>
          <p:cNvSpPr/>
          <p:nvPr/>
        </p:nvSpPr>
        <p:spPr>
          <a:xfrm>
            <a:off x="1099440" y="228600"/>
            <a:ext cx="69382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UPLAGE PLASTICI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ENDOMM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143000" y="3276720"/>
          <a:ext cx="2328840" cy="82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276720"/>
                    <a:ext cx="2328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4952880" y="2362320"/>
            <a:ext cx="3372120" cy="2717280"/>
            <a:chOff x="4952880" y="2362320"/>
            <a:chExt cx="3372120" cy="2717280"/>
          </a:xfrm>
        </p:grpSpPr>
        <p:sp>
          <p:nvSpPr>
            <p:cNvPr id="361" name=""/>
            <p:cNvSpPr/>
            <p:nvPr/>
          </p:nvSpPr>
          <p:spPr>
            <a:xfrm>
              <a:off x="4952880" y="4698720"/>
              <a:ext cx="335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334120" y="2489040"/>
              <a:ext cx="0" cy="25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4120" y="3213000"/>
              <a:ext cx="2438280" cy="1485360"/>
            </a:xfrm>
            <a:custGeom>
              <a:avLst/>
              <a:gdLst/>
              <a:ahLst/>
              <a:rect l="l" t="t" r="r" b="b"/>
              <a:pathLst>
                <a:path w="1536" h="936">
                  <a:moveTo>
                    <a:pt x="0" y="936"/>
                  </a:moveTo>
                  <a:cubicBezTo>
                    <a:pt x="44" y="768"/>
                    <a:pt x="88" y="600"/>
                    <a:pt x="192" y="456"/>
                  </a:cubicBezTo>
                  <a:cubicBezTo>
                    <a:pt x="296" y="312"/>
                    <a:pt x="456" y="144"/>
                    <a:pt x="624" y="72"/>
                  </a:cubicBezTo>
                  <a:cubicBezTo>
                    <a:pt x="792" y="0"/>
                    <a:pt x="1048" y="32"/>
                    <a:pt x="1200" y="24"/>
                  </a:cubicBezTo>
                  <a:cubicBezTo>
                    <a:pt x="1352" y="16"/>
                    <a:pt x="1480" y="24"/>
                    <a:pt x="1536" y="24"/>
                  </a:cubicBezTo>
                </a:path>
              </a:pathLst>
            </a:custGeom>
            <a:noFill/>
            <a:ln w="22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4" name=""/>
            <p:cNvGraphicFramePr/>
            <p:nvPr/>
          </p:nvGraphicFramePr>
          <p:xfrm>
            <a:off x="8056440" y="4311360"/>
            <a:ext cx="268560" cy="371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56440" y="4311360"/>
                      <a:ext cx="26856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"/>
            <p:cNvGraphicFramePr/>
            <p:nvPr/>
          </p:nvGraphicFramePr>
          <p:xfrm>
            <a:off x="5425920" y="2362320"/>
            <a:ext cx="309600" cy="371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25920" y="2362320"/>
                      <a:ext cx="30960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"/>
            <p:cNvSpPr/>
            <p:nvPr/>
          </p:nvSpPr>
          <p:spPr>
            <a:xfrm>
              <a:off x="5334120" y="3174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5072040" y="3058920"/>
            <a:ext cx="185760" cy="26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072040" y="3058920"/>
                      <a:ext cx="18576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1" name=""/>
          <p:cNvGraphicFramePr/>
          <p:nvPr/>
        </p:nvGraphicFramePr>
        <p:xfrm>
          <a:off x="3359160" y="5405400"/>
          <a:ext cx="173196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9160" y="5405400"/>
                    <a:ext cx="17319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5257800" y="1295280"/>
          <a:ext cx="1822320" cy="836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1295280"/>
                    <a:ext cx="18223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1143000" y="1295280"/>
          <a:ext cx="1711440" cy="836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1295280"/>
                    <a:ext cx="1711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22600" y="228600"/>
            <a:ext cx="39830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ÈRE DE PLAST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645160" y="2590920"/>
          <a:ext cx="205092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5160" y="2590920"/>
                    <a:ext cx="20509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937040" y="3884760"/>
          <a:ext cx="3292560" cy="38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7040" y="3884760"/>
                    <a:ext cx="329256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094440" y="1649520"/>
          <a:ext cx="1220760" cy="33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440" y="1649520"/>
                    <a:ext cx="122076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4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385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0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3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2" name=""/>
          <p:cNvGrpSpPr/>
          <p:nvPr/>
        </p:nvGrpSpPr>
        <p:grpSpPr>
          <a:xfrm>
            <a:off x="381240" y="1295280"/>
            <a:ext cx="4630680" cy="3505680"/>
            <a:chOff x="381240" y="1295280"/>
            <a:chExt cx="4630680" cy="3505680"/>
          </a:xfrm>
        </p:grpSpPr>
        <p:grpSp>
          <p:nvGrpSpPr>
            <p:cNvPr id="393" name=""/>
            <p:cNvGrpSpPr/>
            <p:nvPr/>
          </p:nvGrpSpPr>
          <p:grpSpPr>
            <a:xfrm>
              <a:off x="457200" y="1307880"/>
              <a:ext cx="4554720" cy="3493080"/>
              <a:chOff x="457200" y="1307880"/>
              <a:chExt cx="4554720" cy="3493080"/>
            </a:xfrm>
          </p:grpSpPr>
          <p:sp>
            <p:nvSpPr>
              <p:cNvPr id="394" name=""/>
              <p:cNvSpPr/>
              <p:nvPr/>
            </p:nvSpPr>
            <p:spPr>
              <a:xfrm>
                <a:off x="457200" y="1536480"/>
                <a:ext cx="4494240" cy="320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1536480"/>
                <a:ext cx="4510080" cy="321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4966920" y="458748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39840" y="1956960"/>
                <a:ext cx="1536840" cy="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75240" y="1956960"/>
                <a:ext cx="0" cy="1743120"/>
              </a:xfrm>
              <a:prstGeom prst="line">
                <a:avLst/>
              </a:prstGeom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695760" y="3220560"/>
                <a:ext cx="438120" cy="84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6760" y="1606320"/>
                <a:ext cx="87804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12920" y="2007720"/>
                <a:ext cx="21924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56000" y="3446280"/>
                <a:ext cx="146160" cy="14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3" name=""/>
              <p:cNvGraphicFramePr/>
              <p:nvPr/>
            </p:nvGraphicFramePr>
            <p:xfrm>
              <a:off x="4127400" y="2222280"/>
              <a:ext cx="673200" cy="2538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04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127400" y="2222280"/>
                        <a:ext cx="673200" cy="25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5" name=""/>
              <p:cNvGraphicFramePr/>
              <p:nvPr/>
            </p:nvGraphicFramePr>
            <p:xfrm>
              <a:off x="3048120" y="1307880"/>
              <a:ext cx="711000" cy="2538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06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048120" y="1307880"/>
                        <a:ext cx="711000" cy="25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07" name=""/>
            <p:cNvGrpSpPr/>
            <p:nvPr/>
          </p:nvGrpSpPr>
          <p:grpSpPr>
            <a:xfrm>
              <a:off x="619200" y="1295280"/>
              <a:ext cx="1818720" cy="676440"/>
              <a:chOff x="619200" y="1295280"/>
              <a:chExt cx="1818720" cy="676440"/>
            </a:xfrm>
          </p:grpSpPr>
          <p:sp>
            <p:nvSpPr>
              <p:cNvPr id="408" name=""/>
              <p:cNvSpPr/>
              <p:nvPr/>
            </p:nvSpPr>
            <p:spPr>
              <a:xfrm>
                <a:off x="619200" y="1295280"/>
                <a:ext cx="10299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Times New Roman"/>
                  </a:rPr>
                  <a:t>Ranki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85880" y="1523880"/>
                <a:ext cx="752040" cy="447840"/>
              </a:xfrm>
              <a:custGeom>
                <a:avLst/>
                <a:gdLst/>
                <a:ahLst/>
                <a:rect l="l" t="t" r="r" b="b"/>
                <a:pathLst>
                  <a:path w="474" h="138">
                    <a:moveTo>
                      <a:pt x="0" y="0"/>
                    </a:moveTo>
                    <a:lnTo>
                      <a:pt x="474" y="138"/>
                    </a:lnTo>
                  </a:path>
                </a:pathLst>
              </a:custGeom>
              <a:noFill/>
              <a:ln w="2232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81240" y="3200400"/>
              <a:ext cx="1037880" cy="788400"/>
              <a:chOff x="381240" y="3200400"/>
              <a:chExt cx="1037880" cy="788400"/>
            </a:xfrm>
          </p:grpSpPr>
          <p:sp>
            <p:nvSpPr>
              <p:cNvPr id="411" name=""/>
              <p:cNvSpPr/>
              <p:nvPr/>
            </p:nvSpPr>
            <p:spPr>
              <a:xfrm>
                <a:off x="381240" y="3200400"/>
                <a:ext cx="656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i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37880" y="3684240"/>
                <a:ext cx="381240" cy="304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04360" y="3684240"/>
                <a:ext cx="5331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1521360" y="518148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i de norm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916520" y="5162400"/>
          <a:ext cx="3008160" cy="62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916520" y="5162400"/>
                    <a:ext cx="30081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74640" y="2057400"/>
            <a:ext cx="3465360" cy="2762280"/>
            <a:chOff x="674640" y="2057400"/>
            <a:chExt cx="3465360" cy="2762280"/>
          </a:xfrm>
        </p:grpSpPr>
        <p:sp>
          <p:nvSpPr>
            <p:cNvPr id="418" name=""/>
            <p:cNvSpPr/>
            <p:nvPr/>
          </p:nvSpPr>
          <p:spPr>
            <a:xfrm>
              <a:off x="674640" y="4532400"/>
              <a:ext cx="3465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92080" y="2060640"/>
              <a:ext cx="0" cy="27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0" name=""/>
            <p:cNvGraphicFramePr/>
            <p:nvPr/>
          </p:nvGraphicFramePr>
          <p:xfrm>
            <a:off x="1041120" y="2057400"/>
            <a:ext cx="258840" cy="23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1120" y="2057400"/>
                      <a:ext cx="25884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3811320" y="4191120"/>
            <a:ext cx="216000" cy="23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1320" y="4191120"/>
                      <a:ext cx="21600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4" name=""/>
          <p:cNvGrpSpPr/>
          <p:nvPr/>
        </p:nvGrpSpPr>
        <p:grpSpPr>
          <a:xfrm>
            <a:off x="979560" y="4572000"/>
            <a:ext cx="1414440" cy="850680"/>
            <a:chOff x="979560" y="4572000"/>
            <a:chExt cx="1414440" cy="850680"/>
          </a:xfrm>
        </p:grpSpPr>
        <p:grpSp>
          <p:nvGrpSpPr>
            <p:cNvPr id="425" name=""/>
            <p:cNvGrpSpPr/>
            <p:nvPr/>
          </p:nvGrpSpPr>
          <p:grpSpPr>
            <a:xfrm>
              <a:off x="979560" y="4952880"/>
              <a:ext cx="1371600" cy="469800"/>
              <a:chOff x="979560" y="4952880"/>
              <a:chExt cx="1371600" cy="469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817640" y="4952880"/>
                <a:ext cx="533520" cy="469800"/>
                <a:chOff x="1817640" y="4952880"/>
                <a:chExt cx="533520" cy="4698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817640" y="54226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28" name=""/>
                <p:cNvGraphicFramePr/>
                <p:nvPr/>
              </p:nvGraphicFramePr>
              <p:xfrm>
                <a:off x="1976400" y="4952880"/>
                <a:ext cx="280800" cy="3920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2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76400" y="4952880"/>
                          <a:ext cx="280800" cy="392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430" name=""/>
              <p:cNvGrpSpPr/>
              <p:nvPr/>
            </p:nvGrpSpPr>
            <p:grpSpPr>
              <a:xfrm>
                <a:off x="979560" y="4965480"/>
                <a:ext cx="849240" cy="457200"/>
                <a:chOff x="979560" y="4965480"/>
                <a:chExt cx="849240" cy="4572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979560" y="5422680"/>
                  <a:ext cx="84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32" name=""/>
                <p:cNvGraphicFramePr/>
                <p:nvPr/>
              </p:nvGraphicFramePr>
              <p:xfrm>
                <a:off x="1208160" y="4965480"/>
                <a:ext cx="301680" cy="4129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43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208160" y="4965480"/>
                          <a:ext cx="301680" cy="412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434" name=""/>
            <p:cNvGrpSpPr/>
            <p:nvPr/>
          </p:nvGrpSpPr>
          <p:grpSpPr>
            <a:xfrm>
              <a:off x="979560" y="4572000"/>
              <a:ext cx="1414440" cy="347760"/>
              <a:chOff x="979560" y="4572000"/>
              <a:chExt cx="1414440" cy="347760"/>
            </a:xfrm>
          </p:grpSpPr>
          <p:sp>
            <p:nvSpPr>
              <p:cNvPr id="435" name=""/>
              <p:cNvSpPr/>
              <p:nvPr/>
            </p:nvSpPr>
            <p:spPr>
              <a:xfrm>
                <a:off x="979560" y="4919760"/>
                <a:ext cx="14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36" name=""/>
              <p:cNvGraphicFramePr/>
              <p:nvPr/>
            </p:nvGraphicFramePr>
            <p:xfrm>
              <a:off x="1541520" y="4572000"/>
              <a:ext cx="212760" cy="239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3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541520" y="4572000"/>
                        <a:ext cx="212760" cy="23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38" name=""/>
          <p:cNvGrpSpPr/>
          <p:nvPr/>
        </p:nvGrpSpPr>
        <p:grpSpPr>
          <a:xfrm>
            <a:off x="380880" y="2209680"/>
            <a:ext cx="1360440" cy="2723760"/>
            <a:chOff x="380880" y="2209680"/>
            <a:chExt cx="1360440" cy="2723760"/>
          </a:xfrm>
        </p:grpSpPr>
        <p:sp>
          <p:nvSpPr>
            <p:cNvPr id="439" name=""/>
            <p:cNvSpPr/>
            <p:nvPr/>
          </p:nvSpPr>
          <p:spPr>
            <a:xfrm flipV="1">
              <a:off x="895320" y="2362320"/>
              <a:ext cx="814320" cy="2170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380880" y="2209680"/>
              <a:ext cx="1360440" cy="382680"/>
              <a:chOff x="380880" y="2209680"/>
              <a:chExt cx="1360440" cy="382680"/>
            </a:xfrm>
          </p:grpSpPr>
          <p:sp>
            <p:nvSpPr>
              <p:cNvPr id="441" name=""/>
              <p:cNvSpPr/>
              <p:nvPr/>
            </p:nvSpPr>
            <p:spPr>
              <a:xfrm>
                <a:off x="914400" y="2363760"/>
                <a:ext cx="8269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42" name=""/>
              <p:cNvGraphicFramePr/>
              <p:nvPr/>
            </p:nvGraphicFramePr>
            <p:xfrm>
              <a:off x="380880" y="2209680"/>
              <a:ext cx="295560" cy="38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4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80880" y="2209680"/>
                        <a:ext cx="295560" cy="38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4" name=""/>
            <p:cNvGrpSpPr/>
            <p:nvPr/>
          </p:nvGrpSpPr>
          <p:grpSpPr>
            <a:xfrm>
              <a:off x="964080" y="4038480"/>
              <a:ext cx="644040" cy="894960"/>
              <a:chOff x="964080" y="4038480"/>
              <a:chExt cx="644040" cy="894960"/>
            </a:xfrm>
          </p:grpSpPr>
          <p:sp>
            <p:nvSpPr>
              <p:cNvPr id="445" name=""/>
              <p:cNvSpPr/>
              <p:nvPr/>
            </p:nvSpPr>
            <p:spPr>
              <a:xfrm>
                <a:off x="964080" y="4098600"/>
                <a:ext cx="243360" cy="83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46" name=""/>
              <p:cNvGraphicFramePr/>
              <p:nvPr/>
            </p:nvGraphicFramePr>
            <p:xfrm>
              <a:off x="1284120" y="4038480"/>
              <a:ext cx="324000" cy="365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4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284120" y="4038480"/>
                        <a:ext cx="324000" cy="36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48" name=""/>
          <p:cNvGrpSpPr/>
          <p:nvPr/>
        </p:nvGrpSpPr>
        <p:grpSpPr>
          <a:xfrm>
            <a:off x="1741320" y="3809880"/>
            <a:ext cx="1395360" cy="1134720"/>
            <a:chOff x="1741320" y="3809880"/>
            <a:chExt cx="1395360" cy="1134720"/>
          </a:xfrm>
        </p:grpSpPr>
        <p:sp>
          <p:nvSpPr>
            <p:cNvPr id="449" name=""/>
            <p:cNvSpPr/>
            <p:nvPr/>
          </p:nvSpPr>
          <p:spPr>
            <a:xfrm>
              <a:off x="1741320" y="3809880"/>
              <a:ext cx="559080" cy="723960"/>
            </a:xfrm>
            <a:custGeom>
              <a:avLst/>
              <a:gdLst/>
              <a:ahLst/>
              <a:rect l="l" t="t" r="r" b="b"/>
              <a:pathLst>
                <a:path w="352" h="456">
                  <a:moveTo>
                    <a:pt x="0" y="456"/>
                  </a:move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1964160" y="4183200"/>
              <a:ext cx="1172520" cy="761400"/>
              <a:chOff x="1964160" y="4183200"/>
              <a:chExt cx="1172520" cy="761400"/>
            </a:xfrm>
          </p:grpSpPr>
          <p:sp>
            <p:nvSpPr>
              <p:cNvPr id="451" name=""/>
              <p:cNvSpPr/>
              <p:nvPr/>
            </p:nvSpPr>
            <p:spPr>
              <a:xfrm>
                <a:off x="1964160" y="4183200"/>
                <a:ext cx="16416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2" name=""/>
              <p:cNvGraphicFramePr/>
              <p:nvPr/>
            </p:nvGraphicFramePr>
            <p:xfrm>
              <a:off x="2122200" y="4191120"/>
              <a:ext cx="1014480" cy="3571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122200" y="4191120"/>
                        <a:ext cx="10144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54" name=""/>
          <p:cNvSpPr/>
          <p:nvPr/>
        </p:nvSpPr>
        <p:spPr>
          <a:xfrm rot="10800000">
            <a:off x="1700280" y="304920"/>
            <a:ext cx="4114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328680" y="5981760"/>
            <a:ext cx="8358120" cy="647640"/>
            <a:chOff x="328680" y="5981760"/>
            <a:chExt cx="8358120" cy="647640"/>
          </a:xfrm>
        </p:grpSpPr>
        <p:graphicFrame>
          <p:nvGraphicFramePr>
            <p:cNvPr id="456" name=""/>
            <p:cNvGraphicFramePr/>
            <p:nvPr/>
          </p:nvGraphicFramePr>
          <p:xfrm>
            <a:off x="7704000" y="6134040"/>
            <a:ext cx="982800" cy="381240"/>
          </p:xfrm>
          <a:graphic>
            <a:graphicData uri="http://schemas.openxmlformats.org/presentationml/2006/ole">
              <p:oleObj progId="Word.Document.12" r:id="rId17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704000" y="6134040"/>
                      <a:ext cx="982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 flipH="1">
              <a:off x="1676520" y="6515280"/>
              <a:ext cx="5867280" cy="0"/>
            </a:xfrm>
            <a:prstGeom prst="line">
              <a:avLst/>
            </a:prstGeom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83720" y="621036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L. Abd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71080" y="618984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26 Novembre 20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1" name=""/>
            <p:cNvGraphicFramePr/>
            <p:nvPr/>
          </p:nvGraphicFramePr>
          <p:xfrm>
            <a:off x="328680" y="5981760"/>
            <a:ext cx="1271520" cy="647640"/>
          </p:xfrm>
          <a:graphic>
            <a:graphicData uri="http://schemas.openxmlformats.org/presentationml/2006/ole">
              <p:oleObj progId="Word.Document.12" r:id="rId19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28680" y="5981760"/>
                      <a:ext cx="12715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3" name=""/>
          <p:cNvGraphicFramePr/>
          <p:nvPr/>
        </p:nvGraphicFramePr>
        <p:xfrm>
          <a:off x="3959280" y="5562720"/>
          <a:ext cx="122400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59280" y="5562720"/>
                    <a:ext cx="12240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5032440" y="1964880"/>
            <a:ext cx="3882960" cy="2835000"/>
            <a:chOff x="5032440" y="1964880"/>
            <a:chExt cx="3882960" cy="2835000"/>
          </a:xfrm>
        </p:grpSpPr>
        <p:sp>
          <p:nvSpPr>
            <p:cNvPr id="466" name=""/>
            <p:cNvSpPr/>
            <p:nvPr/>
          </p:nvSpPr>
          <p:spPr>
            <a:xfrm>
              <a:off x="5032440" y="4562280"/>
              <a:ext cx="388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208840" y="1964880"/>
              <a:ext cx="0" cy="28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8" name=""/>
            <p:cNvGraphicFramePr/>
            <p:nvPr/>
          </p:nvGraphicFramePr>
          <p:xfrm>
            <a:off x="8613720" y="4178160"/>
            <a:ext cx="204840" cy="225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613720" y="4178160"/>
                      <a:ext cx="204840" cy="22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5429520" y="1968120"/>
            <a:ext cx="244440" cy="228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429520" y="1968120"/>
                      <a:ext cx="2444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2" name=""/>
          <p:cNvSpPr/>
          <p:nvPr/>
        </p:nvSpPr>
        <p:spPr>
          <a:xfrm>
            <a:off x="5210280" y="2471760"/>
            <a:ext cx="3289320" cy="2084400"/>
          </a:xfrm>
          <a:custGeom>
            <a:avLst/>
            <a:gdLst/>
            <a:ahLst/>
            <a:rect l="l" t="t" r="r" b="b"/>
            <a:pathLst>
              <a:path w="2072" h="1313">
                <a:moveTo>
                  <a:pt x="0" y="1313"/>
                </a:moveTo>
                <a:cubicBezTo>
                  <a:pt x="13" y="1246"/>
                  <a:pt x="58" y="1014"/>
                  <a:pt x="79" y="921"/>
                </a:cubicBezTo>
                <a:cubicBezTo>
                  <a:pt x="100" y="828"/>
                  <a:pt x="112" y="802"/>
                  <a:pt x="128" y="753"/>
                </a:cubicBezTo>
                <a:cubicBezTo>
                  <a:pt x="144" y="704"/>
                  <a:pt x="156" y="677"/>
                  <a:pt x="176" y="629"/>
                </a:cubicBezTo>
                <a:cubicBezTo>
                  <a:pt x="196" y="581"/>
                  <a:pt x="223" y="520"/>
                  <a:pt x="248" y="465"/>
                </a:cubicBezTo>
                <a:cubicBezTo>
                  <a:pt x="273" y="410"/>
                  <a:pt x="300" y="348"/>
                  <a:pt x="328" y="297"/>
                </a:cubicBezTo>
                <a:cubicBezTo>
                  <a:pt x="356" y="246"/>
                  <a:pt x="384" y="200"/>
                  <a:pt x="416" y="161"/>
                </a:cubicBezTo>
                <a:cubicBezTo>
                  <a:pt x="448" y="122"/>
                  <a:pt x="484" y="92"/>
                  <a:pt x="520" y="65"/>
                </a:cubicBezTo>
                <a:cubicBezTo>
                  <a:pt x="556" y="38"/>
                  <a:pt x="597" y="2"/>
                  <a:pt x="632" y="1"/>
                </a:cubicBezTo>
                <a:cubicBezTo>
                  <a:pt x="667" y="0"/>
                  <a:pt x="704" y="32"/>
                  <a:pt x="728" y="57"/>
                </a:cubicBezTo>
                <a:cubicBezTo>
                  <a:pt x="752" y="82"/>
                  <a:pt x="757" y="113"/>
                  <a:pt x="776" y="153"/>
                </a:cubicBezTo>
                <a:cubicBezTo>
                  <a:pt x="795" y="193"/>
                  <a:pt x="824" y="260"/>
                  <a:pt x="840" y="297"/>
                </a:cubicBezTo>
                <a:cubicBezTo>
                  <a:pt x="856" y="334"/>
                  <a:pt x="852" y="326"/>
                  <a:pt x="872" y="377"/>
                </a:cubicBezTo>
                <a:cubicBezTo>
                  <a:pt x="892" y="428"/>
                  <a:pt x="936" y="540"/>
                  <a:pt x="960" y="601"/>
                </a:cubicBezTo>
                <a:cubicBezTo>
                  <a:pt x="984" y="662"/>
                  <a:pt x="995" y="693"/>
                  <a:pt x="1016" y="745"/>
                </a:cubicBezTo>
                <a:cubicBezTo>
                  <a:pt x="1037" y="797"/>
                  <a:pt x="1055" y="861"/>
                  <a:pt x="1088" y="913"/>
                </a:cubicBezTo>
                <a:cubicBezTo>
                  <a:pt x="1121" y="965"/>
                  <a:pt x="1164" y="1018"/>
                  <a:pt x="1216" y="1057"/>
                </a:cubicBezTo>
                <a:cubicBezTo>
                  <a:pt x="1268" y="1096"/>
                  <a:pt x="1325" y="1118"/>
                  <a:pt x="1400" y="1145"/>
                </a:cubicBezTo>
                <a:cubicBezTo>
                  <a:pt x="1475" y="1172"/>
                  <a:pt x="1552" y="1198"/>
                  <a:pt x="1664" y="1217"/>
                </a:cubicBezTo>
                <a:cubicBezTo>
                  <a:pt x="1776" y="1236"/>
                  <a:pt x="1987" y="1249"/>
                  <a:pt x="2072" y="1257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000840" y="3184560"/>
            <a:ext cx="1422360" cy="1752120"/>
            <a:chOff x="6000840" y="3184560"/>
            <a:chExt cx="1422360" cy="1752120"/>
          </a:xfrm>
        </p:grpSpPr>
        <p:sp>
          <p:nvSpPr>
            <p:cNvPr id="474" name=""/>
            <p:cNvSpPr/>
            <p:nvPr/>
          </p:nvSpPr>
          <p:spPr>
            <a:xfrm>
              <a:off x="6000840" y="3184560"/>
              <a:ext cx="631800" cy="1371600"/>
            </a:xfrm>
            <a:custGeom>
              <a:avLst/>
              <a:gdLst/>
              <a:ahLst/>
              <a:rect l="l" t="t" r="r" b="b"/>
              <a:pathLst>
                <a:path w="398" h="864">
                  <a:moveTo>
                    <a:pt x="398" y="0"/>
                  </a:moveTo>
                  <a:lnTo>
                    <a:pt x="0" y="86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6129360" y="4175280"/>
              <a:ext cx="1293840" cy="761400"/>
              <a:chOff x="6129360" y="4175280"/>
              <a:chExt cx="1293840" cy="761400"/>
            </a:xfrm>
          </p:grpSpPr>
          <p:graphicFrame>
            <p:nvGraphicFramePr>
              <p:cNvPr id="476" name=""/>
              <p:cNvGraphicFramePr/>
              <p:nvPr/>
            </p:nvGraphicFramePr>
            <p:xfrm>
              <a:off x="6410520" y="4175280"/>
              <a:ext cx="1012680" cy="3571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77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6410520" y="4175280"/>
                        <a:ext cx="101268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8" name=""/>
              <p:cNvSpPr/>
              <p:nvPr/>
            </p:nvSpPr>
            <p:spPr>
              <a:xfrm>
                <a:off x="6129360" y="4175280"/>
                <a:ext cx="18720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4727520" y="3413160"/>
            <a:ext cx="1139040" cy="1523880"/>
            <a:chOff x="4727520" y="3413160"/>
            <a:chExt cx="1139040" cy="1523880"/>
          </a:xfrm>
        </p:grpSpPr>
        <p:grpSp>
          <p:nvGrpSpPr>
            <p:cNvPr id="480" name=""/>
            <p:cNvGrpSpPr/>
            <p:nvPr/>
          </p:nvGrpSpPr>
          <p:grpSpPr>
            <a:xfrm>
              <a:off x="4727520" y="3413160"/>
              <a:ext cx="675720" cy="388440"/>
              <a:chOff x="4727520" y="3413160"/>
              <a:chExt cx="675720" cy="388440"/>
            </a:xfrm>
          </p:grpSpPr>
          <p:sp>
            <p:nvSpPr>
              <p:cNvPr id="481" name=""/>
              <p:cNvSpPr/>
              <p:nvPr/>
            </p:nvSpPr>
            <p:spPr>
              <a:xfrm flipH="1">
                <a:off x="5184360" y="3661200"/>
                <a:ext cx="218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82" name=""/>
              <p:cNvGraphicFramePr/>
              <p:nvPr/>
            </p:nvGraphicFramePr>
            <p:xfrm>
              <a:off x="4727520" y="3413160"/>
              <a:ext cx="392040" cy="3884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83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4727520" y="3413160"/>
                        <a:ext cx="3920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84" name=""/>
            <p:cNvGrpSpPr/>
            <p:nvPr/>
          </p:nvGrpSpPr>
          <p:grpSpPr>
            <a:xfrm>
              <a:off x="5182200" y="4098960"/>
              <a:ext cx="684360" cy="838080"/>
              <a:chOff x="5182200" y="4098960"/>
              <a:chExt cx="684360" cy="838080"/>
            </a:xfrm>
          </p:grpSpPr>
          <p:sp>
            <p:nvSpPr>
              <p:cNvPr id="485" name=""/>
              <p:cNvSpPr/>
              <p:nvPr/>
            </p:nvSpPr>
            <p:spPr>
              <a:xfrm>
                <a:off x="5182200" y="4174920"/>
                <a:ext cx="30312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86" name=""/>
              <p:cNvGraphicFramePr/>
              <p:nvPr/>
            </p:nvGraphicFramePr>
            <p:xfrm>
              <a:off x="5542920" y="4098960"/>
              <a:ext cx="323640" cy="3650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48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5542920" y="4098960"/>
                        <a:ext cx="323640" cy="36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8" name=""/>
            <p:cNvSpPr/>
            <p:nvPr/>
          </p:nvSpPr>
          <p:spPr>
            <a:xfrm>
              <a:off x="5209920" y="3641760"/>
              <a:ext cx="199800" cy="923760"/>
            </a:xfrm>
            <a:custGeom>
              <a:avLst/>
              <a:gdLst/>
              <a:ahLst/>
              <a:rect l="l" t="t" r="r" b="b"/>
              <a:pathLst>
                <a:path w="126" h="582">
                  <a:moveTo>
                    <a:pt x="0" y="582"/>
                  </a:moveTo>
                  <a:lnTo>
                    <a:pt x="126" y="0"/>
                  </a:ln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737240" y="1965240"/>
            <a:ext cx="2882880" cy="687240"/>
            <a:chOff x="4737240" y="1965240"/>
            <a:chExt cx="2882880" cy="687240"/>
          </a:xfrm>
        </p:grpSpPr>
        <p:grpSp>
          <p:nvGrpSpPr>
            <p:cNvPr id="490" name=""/>
            <p:cNvGrpSpPr/>
            <p:nvPr/>
          </p:nvGrpSpPr>
          <p:grpSpPr>
            <a:xfrm>
              <a:off x="4737240" y="2270160"/>
              <a:ext cx="1540440" cy="382320"/>
              <a:chOff x="4737240" y="2270160"/>
              <a:chExt cx="1540440" cy="382320"/>
            </a:xfrm>
          </p:grpSpPr>
          <p:graphicFrame>
            <p:nvGraphicFramePr>
              <p:cNvPr id="491" name=""/>
              <p:cNvGraphicFramePr/>
              <p:nvPr/>
            </p:nvGraphicFramePr>
            <p:xfrm>
              <a:off x="4737240" y="2270160"/>
              <a:ext cx="294840" cy="38232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492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4737240" y="2270160"/>
                        <a:ext cx="294840" cy="38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3" name=""/>
              <p:cNvSpPr/>
              <p:nvPr/>
            </p:nvSpPr>
            <p:spPr>
              <a:xfrm flipH="1">
                <a:off x="5201640" y="2468520"/>
                <a:ext cx="10760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94" name=""/>
            <p:cNvGraphicFramePr/>
            <p:nvPr/>
          </p:nvGraphicFramePr>
          <p:xfrm>
            <a:off x="6227640" y="1965240"/>
            <a:ext cx="1392480" cy="3891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227640" y="1965240"/>
                      <a:ext cx="139248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"/>
          <p:cNvGrpSpPr/>
          <p:nvPr/>
        </p:nvGrpSpPr>
        <p:grpSpPr>
          <a:xfrm>
            <a:off x="1220760" y="228600"/>
            <a:ext cx="6398640" cy="1373760"/>
            <a:chOff x="1220760" y="228600"/>
            <a:chExt cx="6398640" cy="1373760"/>
          </a:xfrm>
        </p:grpSpPr>
        <p:sp>
          <p:nvSpPr>
            <p:cNvPr id="497" name=""/>
            <p:cNvSpPr/>
            <p:nvPr/>
          </p:nvSpPr>
          <p:spPr>
            <a:xfrm>
              <a:off x="1512000" y="228600"/>
              <a:ext cx="610740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PORTEMENT DE LA MAÇONNER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20760" y="1203480"/>
              <a:ext cx="14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74360" y="120348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OM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00:36Z</dcterms:created>
  <dc:creator>toto</dc:creator>
  <dc:description/>
  <dc:language>en-US</dc:language>
  <cp:lastModifiedBy>toto</cp:lastModifiedBy>
  <cp:lastPrinted>2003-10-09T08:28:30Z</cp:lastPrinted>
  <dcterms:modified xsi:type="dcterms:W3CDTF">2004-11-23T07:45:55Z</dcterms:modified>
  <cp:revision>18</cp:revision>
  <dc:subject/>
  <dc:title>Aucun titre de diapositive</dc:title>
</cp:coreProperties>
</file>