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475913" cy="7239000"/>
  <p:notesSz cx="6792913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32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48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63120" y="755640"/>
            <a:ext cx="5473800" cy="378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7560" y="4789440"/>
            <a:ext cx="497844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78520"/>
            <a:ext cx="294480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49840" y="9578520"/>
            <a:ext cx="294480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A5B4-1059-4BB5-B48B-17893F3722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3480" y="755640"/>
            <a:ext cx="5473800" cy="3781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789440"/>
            <a:ext cx="497844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tainer of nucelar reactor/ 67 m high    explosion of the core and propagation in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3480" y="755640"/>
            <a:ext cx="5473800" cy="3781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7560" y="4789440"/>
            <a:ext cx="497844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f the tube at t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 bends and depressuriz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with a deformable support in turn held by sp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ube crashes and re-pressurize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ube and bar elastoplastic, two phase flow in the pipe (hot pressurized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3480" y="755640"/>
            <a:ext cx="5473800" cy="3781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7560" y="4789440"/>
            <a:ext cx="497844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act with Smooth Partcule Hydrodynamic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0511-20BF-449B-9D0D-104E24B2E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89154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4736520"/>
            <a:ext cx="89154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90AF-0BAE-4D55-8AD1-78585417D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473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58760" y="473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7B88-9970-46F5-9BC8-58663851B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05000" y="266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19640" y="266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473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05000" y="473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19640" y="473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4ADC-76B7-4FA9-B817-338D9268B2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26665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F1FC-FF2A-4755-B5BD-857C16A5F3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131B-FBCA-4789-8115-476DAA69C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0055-A266-4FCF-9B18-ED6A52172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2989-9CA7-4300-B860-CC05BF46F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118A-2C17-4D29-AA3A-676C69DCA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473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4B07-12A6-4830-B87A-D6089E844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58760" y="473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57F5-8526-44E8-BD9F-4E63B543D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736520"/>
            <a:ext cx="89154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6DCE-172D-4982-9AAE-6242D1187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934320"/>
            <a:ext cx="2209680" cy="228600"/>
          </a:xfrm>
          <a:prstGeom prst="rect">
            <a:avLst/>
          </a:prstGeom>
          <a:solidFill>
            <a:srgbClr val="8593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90360" y="26665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6000"/>
          </a:bodyPr>
          <a:p>
            <a:pPr marL="347040" indent="-347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54200" indent="-2908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59560" indent="-231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22880" indent="-2314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87640" indent="-232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87640" indent="-232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87640" indent="-232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854000" y="6933960"/>
            <a:ext cx="371160" cy="22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5DF8C-064C-4CBD-B108-2A2E00150325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95280" y="-76320"/>
            <a:ext cx="9029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533520" y="533520"/>
            <a:ext cx="0" cy="62481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 rot="16800">
            <a:off x="-9720" y="6914520"/>
            <a:ext cx="2438280" cy="214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Joint%20Research%20Centre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331920" cy="3568680"/>
          </a:xfrm>
          <a:prstGeom prst="rect">
            <a:avLst/>
          </a:prstGeom>
          <a:ln w="0">
            <a:noFill/>
          </a:ln>
        </p:spPr>
      </p:pic>
      <p:pic>
        <p:nvPicPr>
          <p:cNvPr id="8" name="03.07.03-5" descr=""/>
          <p:cNvPicPr/>
          <p:nvPr/>
        </p:nvPicPr>
        <p:blipFill>
          <a:blip r:embed="rId3"/>
          <a:stretch/>
        </p:blipFill>
        <p:spPr>
          <a:xfrm>
            <a:off x="0" y="0"/>
            <a:ext cx="2590920" cy="65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2717640"/>
            <a:ext cx="8534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. Buchet, F. Casadei and P. Pe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ntribution from A. Antho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63840" y="952560"/>
            <a:ext cx="753264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n integrated developer-oriented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penGL post-processor in Cast3m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nd Visual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9621-191C-4D7B-8CF7-A48225EEA1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19320" y="1838160"/>
            <a:ext cx="85341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parent/child/adoption scheme (in the on-line case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Cast3m creates a new child rendering process,</a:t>
            </a:r>
            <a:br>
              <a:rPr sz="2800"/>
            </a:b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  which creates in turn the Glut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he Glut window is adopted by Visual Cast3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he parent/child link is broken between Cast3m</a:t>
            </a:r>
            <a:br>
              <a:rPr sz="2800"/>
            </a:b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  and the render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tegration in Visual 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3FFA-9D45-4EAE-8899-D3104696DC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19320" y="127944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parent/child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tegration in Visual 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elsalogo" descr=""/>
          <p:cNvPicPr/>
          <p:nvPr/>
        </p:nvPicPr>
        <p:blipFill>
          <a:blip r:embed="rId1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10" name="in2" descr=""/>
          <p:cNvPicPr/>
          <p:nvPr/>
        </p:nvPicPr>
        <p:blipFill>
          <a:blip r:embed="rId2"/>
          <a:stretch/>
        </p:blipFill>
        <p:spPr>
          <a:xfrm>
            <a:off x="701640" y="1803240"/>
            <a:ext cx="9509040" cy="502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7728-D349-49F5-8CC0-7BF7EEC7BC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19320" y="127944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he orphanization and adoption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tegration in Visual 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elsalogo" descr=""/>
          <p:cNvPicPr/>
          <p:nvPr/>
        </p:nvPicPr>
        <p:blipFill>
          <a:blip r:embed="rId1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16" name="in3" descr=""/>
          <p:cNvPicPr/>
          <p:nvPr/>
        </p:nvPicPr>
        <p:blipFill>
          <a:blip r:embed="rId2"/>
          <a:stretch/>
        </p:blipFill>
        <p:spPr>
          <a:xfrm>
            <a:off x="816120" y="1798560"/>
            <a:ext cx="9489960" cy="499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F1C4-CE85-409D-B489-EE68F76422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19320" y="990720"/>
            <a:ext cx="8534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play fields-by-elements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(almost re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anced navigation for on-screen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e of SLERP and SCENE for on-screen 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mooth scene transition for 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d user feedback/requests!!!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at will be done in the fu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E86C-E3A1-497E-BA5D-2DF5442164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63720" y="990720"/>
            <a:ext cx="9246960" cy="50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his development is working on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  Windows NT4, 2000 and X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OpenGL is not installed by default on all Linux 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U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OpenGL is available freely </a:t>
            </a:r>
            <a:r>
              <a:rPr b="0" lang="en-GB" sz="2000" spc="-1" strike="noStrike">
                <a:solidFill>
                  <a:srgbClr val="00cc99"/>
                </a:solidFill>
                <a:latin typeface="Arial"/>
              </a:rPr>
              <a:t>(dependance on the graphic ca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lut part works under Linux </a:t>
            </a:r>
            <a:r>
              <a:rPr b="0" lang="en-GB" sz="28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cc99"/>
                </a:solidFill>
                <a:latin typeface="Arial"/>
              </a:rPr>
              <a:t>all features available except direct production of AVI animation 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he direct interface for on-line drawing still exis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Portability on Linux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F66B-38D5-449E-9E40-41500998E7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990720"/>
            <a:ext cx="85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-screen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ff-screen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2D2C-5233-4A8E-8BA3-50EDCF0CCF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29000" y="159228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92280" y="609480"/>
            <a:ext cx="4667040" cy="6572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810400" y="635040"/>
            <a:ext cx="4495680" cy="6458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344680" y="4179960"/>
            <a:ext cx="3421080" cy="650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68360" y="4100400"/>
            <a:ext cx="3608280" cy="799560"/>
            <a:chOff x="2268360" y="4100400"/>
            <a:chExt cx="3608280" cy="799560"/>
          </a:xfrm>
        </p:grpSpPr>
        <p:sp>
          <p:nvSpPr>
            <p:cNvPr id="142" name=""/>
            <p:cNvSpPr/>
            <p:nvPr/>
          </p:nvSpPr>
          <p:spPr>
            <a:xfrm>
              <a:off x="2268360" y="4440240"/>
              <a:ext cx="36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Ma cabane a El Salvador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7440" y="4100400"/>
              <a:ext cx="34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onstruction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B096-7EE9-4A23-A73B-A722F6AD45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343320" y="762120"/>
            <a:ext cx="4060800" cy="4060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36480" y="609480"/>
            <a:ext cx="2922840" cy="2922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636480" y="304488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3962520" y="41911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7372440" y="3057480"/>
            <a:ext cx="294300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7421400" y="636480"/>
            <a:ext cx="2874960" cy="2874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36480" y="55040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6480" y="307512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rst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670572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r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94680" y="554364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th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94680" y="307512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th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25680" y="636480"/>
            <a:ext cx="36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ape modes of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“Ma cabane a El Salvad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410D-6894-4674-9E36-F87F1D3D97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25400" y="2278080"/>
            <a:ext cx="3049560" cy="3049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7143840" y="2251080"/>
            <a:ext cx="3066840" cy="3067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913200" y="2251080"/>
            <a:ext cx="3098880" cy="3098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25400" y="559116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(iso-fi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13200" y="559116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(iso-su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12160" y="559116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id velo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1047600"/>
            <a:ext cx="649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re explosion in the secondary container of a nuclear 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C1B6-6C19-4126-877C-60BAF8CBD3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585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pture of a pressurize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857680" y="148608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672000" y="647712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(iso-su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89CD-C4FA-4E8F-95AC-D3C1F4F5A4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990720"/>
            <a:ext cx="853416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bsolescence of the graphical model of Cast3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de for multiple devices including plo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ndering (such as hidden line removal) by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w level of inter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vailable standard for 3D re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C’s available with powerful graphic cards (interactive game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dden-surface removal, lighting, shading, etc… performed at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rdwar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en source software: OpenGL + GLUT(GL Utility Toolk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w developments for EUROPLEXUS…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                                … but also for CAST3M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uilt-in graphic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rtran 90 layer (modules and data struct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ssibility to interact with the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8160"/>
            <a:ext cx="4000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otiv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FCF9-B046-45C2-9D39-1BC2D32496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990720"/>
            <a:ext cx="85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-screen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ff-screen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01EB-47A6-4BE6-8ECD-1AC35F2A2C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emonst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25400" y="486720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yield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12160" y="486720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25400" y="117324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026120" y="1173240"/>
            <a:ext cx="3451320" cy="3451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618000" y="1173240"/>
            <a:ext cx="3494160" cy="3494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618000" y="4867200"/>
            <a:ext cx="30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is of the membrane stress in the sh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B03F-CBAA-4AED-AC01-959A29016A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19320" y="990720"/>
            <a:ext cx="8534160" cy="41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raphical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splay geome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splay fields-by-point as 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splay fields-by-point as iso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raphical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n-screen inter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ff-screen for producing standard format bitmaps and ani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at is done at the mo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B189-573E-4043-BAD7-561C4F1B65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324560" y="3397320"/>
            <a:ext cx="3152880" cy="3152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06400" y="1914480"/>
            <a:ext cx="853452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Complete camer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ye location, camera orientation, field of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Basic navigation (On-scre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ranslation and zoom of the camera by keystroke comm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tation by keystrokes or using the mouse (quatern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rametrized navigation (Off-scre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pecification of the camera (still im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ircular or linear motion of the camera (ani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SLERP obj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27360" y="38160"/>
            <a:ext cx="5168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viewing of th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elsalogo" descr=""/>
          <p:cNvPicPr/>
          <p:nvPr/>
        </p:nvPicPr>
        <p:blipFill>
          <a:blip r:embed="rId5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FC80-3293-461A-A9BC-75E7D9CF91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990720"/>
            <a:ext cx="853416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Hierarchical pop-up m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nly Graphical User Interface feature offered by GL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Fully 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Basic menu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V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so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ol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ights/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in/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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27360" y="38160"/>
            <a:ext cx="5168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n-line men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78" name="menu" descr=""/>
          <p:cNvPicPr/>
          <p:nvPr/>
        </p:nvPicPr>
        <p:blipFill>
          <a:blip r:embed="rId3"/>
          <a:stretch/>
        </p:blipFill>
        <p:spPr>
          <a:xfrm>
            <a:off x="4991040" y="4151160"/>
            <a:ext cx="3314880" cy="177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4F75-5075-4761-98C0-8EAB609A22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19320" y="99072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l the entries of the menu are modifying a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SCEN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s object can be completely specified by a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TABLE in Cast3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27360" y="38160"/>
            <a:ext cx="5168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ff-line men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pic>
        <p:nvPicPr>
          <p:cNvPr id="84" name="scene1" descr=""/>
          <p:cNvPicPr/>
          <p:nvPr/>
        </p:nvPicPr>
        <p:blipFill>
          <a:blip r:embed="rId3"/>
          <a:stretch/>
        </p:blipFill>
        <p:spPr>
          <a:xfrm>
            <a:off x="1873080" y="3840120"/>
            <a:ext cx="321012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scene2" descr=""/>
          <p:cNvPicPr/>
          <p:nvPr/>
        </p:nvPicPr>
        <p:blipFill>
          <a:blip r:embed="rId4"/>
          <a:stretch/>
        </p:blipFill>
        <p:spPr>
          <a:xfrm>
            <a:off x="5200560" y="3840120"/>
            <a:ext cx="2352600" cy="20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1942-47F0-4FCA-9088-6894906161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tegration in 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1109520"/>
            <a:ext cx="85341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New directive TR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Syntax (provisional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k mail1 lchpo1 (mot1) (tab1) (tab2) (tab3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l1: type ‘MAILLAGE’ (mesh to be plot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hpo1: type ‘LISTCHPO’ (fields-by-points to be represen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1: ‘NOSM’ (NO Sub-Mesh option)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‘OFFS’ (OFF-Screen option)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‘TEST’ (TEST o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b1: options for off-screen dra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b2: SLERP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b3: SCENE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63D4-5DC4-43BD-A8F6-35E24469B5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99072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it work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irect integration in 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n1" descr=""/>
          <p:cNvPicPr/>
          <p:nvPr/>
        </p:nvPicPr>
        <p:blipFill>
          <a:blip r:embed="rId2"/>
          <a:stretch/>
        </p:blipFill>
        <p:spPr>
          <a:xfrm>
            <a:off x="1770120" y="2508120"/>
            <a:ext cx="6792840" cy="365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49A1-CC5A-459A-B0E3-8881096C29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1460520"/>
            <a:ext cx="92581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limitations in Visual Cast3m (in the on-line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he Glut window is not part of the Visual Cast3m </a:t>
            </a:r>
            <a:br>
              <a:rPr sz="2800"/>
            </a:b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  work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Arial"/>
              <a:buChar char="•"/>
              <a:tabLst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There is only one (inter)active graphical window with no</a:t>
            </a:r>
            <a:br>
              <a:rPr sz="2800"/>
            </a:b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   persistent behavi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            …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ut convenient for other platfor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90520"/>
                <a:tab algn="l" pos="581040"/>
                <a:tab algn="l" pos="871560"/>
                <a:tab algn="l" pos="1162080"/>
                <a:tab algn="l" pos="1452600"/>
                <a:tab algn="l" pos="1743120"/>
                <a:tab algn="l" pos="2033640"/>
                <a:tab algn="l" pos="2324160"/>
                <a:tab algn="l" pos="2614680"/>
                <a:tab algn="l" pos="2905200"/>
                <a:tab algn="l" pos="3195720"/>
                <a:tab algn="l" pos="3486240"/>
                <a:tab algn="l" pos="3776760"/>
                <a:tab algn="l" pos="4067280"/>
                <a:tab algn="l" pos="4357800"/>
                <a:tab algn="l" pos="4648320"/>
                <a:tab algn="l" pos="4938840"/>
                <a:tab algn="l" pos="5229360"/>
                <a:tab algn="l" pos="5519880"/>
                <a:tab algn="l" pos="5810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…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 for the off-screen draw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38160"/>
            <a:ext cx="6172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rendering mod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irect integration in Cast3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220320" y="6477120"/>
            <a:ext cx="990360" cy="615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61920" y="152280"/>
            <a:ext cx="228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Institute for the Prot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"/>
              </a:rPr>
              <a:t>and Security of the Citi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elsalogo" descr=""/>
          <p:cNvPicPr/>
          <p:nvPr/>
        </p:nvPicPr>
        <p:blipFill>
          <a:blip r:embed="rId2"/>
          <a:stretch/>
        </p:blipFill>
        <p:spPr>
          <a:xfrm>
            <a:off x="52560" y="6550200"/>
            <a:ext cx="457200" cy="27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D87A-4F5A-4CFE-81DF-2912114200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4:20:29Z</dcterms:created>
  <dc:creator>bannila</dc:creator>
  <dc:description/>
  <dc:language>en-US</dc:language>
  <cp:lastModifiedBy>Philippe Buchet</cp:lastModifiedBy>
  <cp:lastPrinted>2003-04-25T09:46:40Z</cp:lastPrinted>
  <dcterms:modified xsi:type="dcterms:W3CDTF">2004-11-26T06:10:12Z</dcterms:modified>
  <cp:revision>54</cp:revision>
  <dc:subject/>
  <dc:title>PowerPoint Presentation</dc:title>
</cp:coreProperties>
</file>