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193-3030-4E9D-B6E8-1CB997C7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1640" y="3854520"/>
            <a:ext cx="7513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780-CD42-4F4F-BDB9-1830D5E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11840" y="12193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1640" y="38545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1840" y="38545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59C-8E91-44CE-B0E4-D0663886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24192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2160" y="1219320"/>
            <a:ext cx="24192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2680" y="1219320"/>
            <a:ext cx="24192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1640" y="3854520"/>
            <a:ext cx="24192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2160" y="3854520"/>
            <a:ext cx="24192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2680" y="3854520"/>
            <a:ext cx="24192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9DA-DC64-46E1-884E-591B75FE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E6E-8302-4729-8DF4-56A9E0BC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E0C-8882-4F87-8D79-021C5613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36666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11840" y="1219320"/>
            <a:ext cx="36666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46A-9026-4954-8924-5F1C77F8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72D-2EAC-428B-B71F-C49B37F7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1640" y="152280"/>
            <a:ext cx="751356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D36-72EF-4B6B-BA49-915E74E5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1840" y="1219320"/>
            <a:ext cx="36666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1640" y="38545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175-0DD1-42BB-AAD1-7B06F6E9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36666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1840" y="12193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1840" y="38545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6BC-C723-4C6C-A387-AFA3F106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1840" y="1219320"/>
            <a:ext cx="366660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1640" y="3854520"/>
            <a:ext cx="7513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818-FBEF-4A09-856B-B7E520F7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00240" y="64008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e5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e5e"/>
                </a:solidFill>
                <a:latin typeface="Arial"/>
              </a:rPr>
              <a:t>Club Castem 26/11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2000" y="6400800"/>
            <a:ext cx="35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60920" y="6416640"/>
            <a:ext cx="1214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e5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7B48-9B28-4D78-9BDD-161CEED252D3}" type="slidenum">
              <a:rPr b="0" lang="fr-FR" sz="1400" spc="-1" strike="noStrike">
                <a:solidFill>
                  <a:srgbClr val="5e5e5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85160" y="6402240"/>
            <a:ext cx="149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06DC-1278-4E97-91C8-F45F2EB5A4A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38320" y="6419880"/>
            <a:ext cx="74372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914400"/>
            <a:ext cx="7437600" cy="0"/>
          </a:xfrm>
          <a:prstGeom prst="line">
            <a:avLst/>
          </a:prstGeom>
          <a:ln w="28440">
            <a:solidFill>
              <a:srgbClr val="ffb3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227160" y="915840"/>
            <a:ext cx="760320" cy="75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ésentation de la plate-forme Alliances,</a:t>
            </a:r>
            <a:br>
              <a:rPr sz="3200"/>
            </a:b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Mise en œuvre et couplage d’un composant Cast3M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35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00"/>
                </a:solidFill>
                <a:uFillTx/>
                <a:latin typeface="Times New Roman"/>
              </a:rPr>
              <a:t>Ph. Montarnal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Contributions Alliances et/ou Cast3M :  E. Adam, A. Bengaouer,  G. Bernard-Michel, E. Deville,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M. Lamoureux, C. Le Potier, F. Malvagi, Ph. Montarnal, C. Mügler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CEA Saclay DEN/DM2S/SFME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733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MPOSANT CAST3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Intégration du composant Cast3M dans Alliances réalisée par F. Malvagi  (issu des travaux GIBOC et du composant Cast3M thermique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Principes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égration sous forme de librairie dyna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erfaces en C et Python : connections Python/C/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ilotage/Couplage via Python entre Cast3M et d’autres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Rq : Cette intégration a été reprise dans le cadre des  projets Pleiades et Pactol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MPOSANT CAST3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Interface Alliances/Cast3M niveau mémoir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Exécution » de phrases gibi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cès bi-directionnels aux ob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Entiers, Flottants, Listes, T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Maillag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Champs par élém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Liste des valeurs d’un champ par élémen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ducteurs MED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st3M  des maillages et champs par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Interface Alliances/Cast3M niveau fichi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duction des fichiers de maillages crées par Gibi en maillages 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MPOSANT CAST3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3263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alculs de sûret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ydraulique saturée (Darcy)  et transport généralisé (convection/diffusion/dispersion+retard non linéaire+précipitation/dissolution+décroissance radioactive) en milieux poreu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méliorations apportées dans Cast3M (G. Bernard-Michel et C. Le Potier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Développement d’un nouveau schéma VF pour l’équation de diffusion/convectio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Amélioration de la procédure de transport généralisé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Accès aux solveurs itératifs de K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Amélioration des pré conditionneurs de K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ncement à partir d’un script Alliances et d’un maillage MED identique Castem/Porflow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comparaison et complémentarité des codes (chaînage croisé hydro/transport avec Castem/Por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EXEMPLES D’APPLICATIONS  : </a:t>
            </a:r>
            <a:r>
              <a:rPr b="1" lang="fr-FR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Simulation de sites de stockage </a:t>
            </a:r>
            <a:br>
              <a:rPr sz="1800"/>
            </a:br>
            <a:r>
              <a:rPr b="1" lang="fr-FR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(G. Bernard-Michel, C. Le Potier, M. Lamoureux, E. Treille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200400" cy="2797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4114800" cy="2895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057640" y="3657600"/>
            <a:ext cx="3476880" cy="2684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4191120"/>
            <a:ext cx="41148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llage de 500 000 éléments pour un cas de scénario d’évolution normale (N-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arges hydrauliques a z=-130 m  pour un cas de scénario d’évolution normale (N-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centration de l’I129 à 50 000 ans pour  un cas de scénario d’évolution altérée (S-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MPOSANT CAST3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25508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uplage chimie-transport 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ystème à résoud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Rq : Le couplage entre le transport et la chimie se fait via la fonc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lgorithme de type point fixe actuellement mis en œuvr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Étape de transport (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convection/diffusion/dispersion) pour chaque espèc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ée :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rme source lié aux concentrations fix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tie : concentration aqu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tape de chimie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(spéciation aqueuse, précipitation/dissolution, sorption, cinétique) pour chaque maill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ée : concentration tot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tie : concentration fix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635280" y="1700280"/>
                <a:ext cx="3241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ω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acc>
                    <m:r>
                      <m:t xml:space="preserve">∇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372360" y="2276640"/>
                <a:ext cx="576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788000" y="3789360"/>
                <a:ext cx="36162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ω</m:t>
                    </m:r>
                    <m:f>
                      <m:num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9280" y="5013360"/>
                <a:ext cx="3888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MPOSANT CAST3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25508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uplage chimie-transport (suit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uplages Chess,Phreeqc/Cast3M, MT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Chess : spéciation chimique, Logiciel ENSMP,  Écrit  en  C++, Accessible par Python via swig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Phreeqc : spéciation chimique, Logiciel USGS,  Écrit  en  C, Accessible par Python via swig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MT3D : transport, spéciation chimique, Logiciel USGS,  Écrit  en  F90, Accessible par Python via f2py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lgorithme de couplage en Python « indépendant » des codes ; Echange à chaque étape des concent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vaux de thèse sur des algorithmes de type gradient conjugués non-linéaires (N. Bouillard)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conserve l’approche « couplage de codes » mais algorithme plus impli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Dégradation des matrices de conditionnemen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Influence de la spéciation sur la migration des R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EXEMPLES D’APPLICATIONS  : </a:t>
            </a:r>
            <a:r>
              <a:rPr b="1" lang="fr-FR" sz="20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Migration de l’uranium en milieu naturel (C. Mügler, M. Descotes, Julie Colin)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14520" y="1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0036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505320" cy="2670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3429000" cy="2612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57800" y="3733920"/>
            <a:ext cx="3214800" cy="2449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2120" y="3962520"/>
            <a:ext cx="312408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rte de concentrati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raninite à l’instant initial (N-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150 ans (N-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ＭＳ Ｐゴシック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150 ans (S-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COMPOSANT CAST3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echnique générique et réutilisable pour d’autres applications utilisant Cast3M (Pleiades, Pactole) et aussi pour d’autres codes Gibiane/Es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ilotage Python accessible à des développeurs non experts des technologies C,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ès bien adaptés aux problématiques de couplage de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Efficacité de l’échange mémoir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Écriture intuitive des algorithmes de couplag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Inconvénien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habitation en mémoire des maillages et champs MED et Cast3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bugage compl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Actions en cours et questions ouvertes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ntégration « boite noire » pour les cas hors-coup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utualisation des intégrations Alliances/Pleiade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évolution dans cast3M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mélioration de la procédure de fermeture/réouverture du composant et de gestion de différents maillages successif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QUALIFICATION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érifier l’intégration (mêmes résultats hors et dans Allia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alifier les coupl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Trois niveaux de qualifica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s unitaires d’intégrations inform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paraisons à des solutions analy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s cas ré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Travaux fin 2003 sur des cas préliminaires des études de sûreté ANDR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UTILISATIONS ACTUELLES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ersion 1.2 livrée début 200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ydro, Transport, Couplage chimie-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ast3M, Porflow, Chess, Phreeqc, MT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Version 1.3 livrée mi 200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ydraulique insaturée, Modèles de c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lonbo, Pred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tilis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alculs de sûreté depuis début 2004 par l’ANDRA et ses sous-traita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turbation alcaline dans le cadre du stockage (AND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igration de l’Uranium en milieu naturel (DM2S/D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mulation d’expériences de diffusion en transport réactif (D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iffusio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tenaires + Collaborations spécifiques (Posiva, Brgm, GdR Mom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cence en cours de dé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PLAN DE l’EXPOSE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4479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Composant Cast3M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Qualification, utilisations actuell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Perspectiv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PERPECTIVES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Version 2.0  (début 2005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uvelles fonctionnalités : Analyse de sensibilité, Thermo-Hydraulique, Thermo-Aérauliqu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uvelles intégrations : Kalif, Aster, Trio-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Version 2.x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uvelles fonctionnalités : THM, Transport réactif en milieux insaturés, couplages modèles de colis et corrosion avec l’environnement, couplages THM avec Thermo-Aé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uvelles méthodes de couplages : algorithmes gradient conjugués non-liné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NTEXTE ALLIANCES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03908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late-forme de modélisation CEA-ANDRA-EDF pour la simulation des stockages et des entreposages de déchets nucléaires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égration d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des existants avec un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nvironnement commu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veloppement d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’algorithmes de couplag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entre ces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éutilisation des composan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 outi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pen-source Salom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Géométrie, Maillages, Visualisation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Wingdings 2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esoin industriel pour les études de sûreté ANDRA en 2004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ion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Wingdings 2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richissement des modèles physiques  et méthodes numériques pour une utilisation plus étendu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ion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NTEXTE ALLIANCES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613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cessus physiques mis en jeu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ydraulique et transport en milieux por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éochi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dèles de colis et de corro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her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éca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hermo-Aérau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708360" y="3933720"/>
          <a:ext cx="4905360" cy="22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933720"/>
                    <a:ext cx="490536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ARCHITECTURE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Times New Roman"/>
              </a:rPr>
              <a:t>Langage Python :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angage de haut niveau, technologie ob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ccès à des librairies C, C++ , Fortran (encapsulation de codes exista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our Alliances : Modèle de données, algorithmes de couplages et jeux de données en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Times New Roman"/>
              </a:rPr>
              <a:t>Format MED : </a:t>
            </a: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Format unique fichier et mémoire pour le stockage, la manipulation (calcul de norme), l’échange entre codes et  la sauvegarde des maillages et des champs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Times New Roman"/>
              </a:rPr>
              <a:t>Intégrations des composants numériques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ous forme de classes et méthodes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« Boite noire » ou mémoire (librairies dynamiq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changes au format 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Times New Roman"/>
              </a:rPr>
              <a:t>Composants Salom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isu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Interface graphique et sauvegarde des donn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éomét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ail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Interface utilisateur : script Python  (actuellement) et interface graphique (en cours)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ARCHITECTURE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1640" y="121932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Méthodologie de coupl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lusieurs codes pour une mêm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aque code est intégré avec une interface unifié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change de données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a la mémo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gorithmes de couplage écrits au niveau Alliances indépendamment des différents codes (Point fixe, Newton, Gradient conjugué non linéai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SzPct val="120000"/>
              <a:buFont typeface="Wingdings 3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éparation entre chaque par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cilité d’évolution  (codes et algorith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16360" y="3933720"/>
            <a:ext cx="4103640" cy="2282760"/>
            <a:chOff x="4716360" y="3933720"/>
            <a:chExt cx="4103640" cy="2282760"/>
          </a:xfrm>
        </p:grpSpPr>
        <p:sp>
          <p:nvSpPr>
            <p:cNvPr id="61" name=""/>
            <p:cNvSpPr/>
            <p:nvPr/>
          </p:nvSpPr>
          <p:spPr>
            <a:xfrm flipV="1">
              <a:off x="4716360" y="3933720"/>
              <a:ext cx="207720" cy="20808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16360" y="5989320"/>
              <a:ext cx="207720" cy="20772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8611920" y="5989320"/>
              <a:ext cx="208080" cy="20772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8611920" y="3933720"/>
              <a:ext cx="208080" cy="20808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24080" y="3933720"/>
              <a:ext cx="3895920" cy="2055960"/>
            </a:xfrm>
            <a:prstGeom prst="rect">
              <a:avLst/>
            </a:prstGeom>
            <a:noFill/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16360" y="4160880"/>
              <a:ext cx="3895560" cy="2055600"/>
            </a:xfrm>
            <a:prstGeom prst="rect">
              <a:avLst/>
            </a:prstGeom>
            <a:noFill/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78240" y="4711680"/>
              <a:ext cx="103320" cy="596880"/>
            </a:xfrm>
            <a:custGeom>
              <a:avLst/>
              <a:gdLst/>
              <a:ahLst/>
              <a:rect l="l" t="t" r="r" b="b"/>
              <a:pathLst>
                <a:path w="131" h="752">
                  <a:moveTo>
                    <a:pt x="0" y="752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31" y="621"/>
                  </a:lnTo>
                  <a:lnTo>
                    <a:pt x="0" y="752"/>
                  </a:lnTo>
                  <a:close/>
                </a:path>
              </a:pathLst>
            </a:custGeom>
            <a:solidFill>
              <a:srgbClr val="e0e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81560" y="4711680"/>
              <a:ext cx="900000" cy="104760"/>
            </a:xfrm>
            <a:custGeom>
              <a:avLst/>
              <a:gdLst/>
              <a:ahLst/>
              <a:rect l="l" t="t" r="r" b="b"/>
              <a:pathLst>
                <a:path w="1135" h="131">
                  <a:moveTo>
                    <a:pt x="1004" y="13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135" y="0"/>
                  </a:lnTo>
                  <a:lnTo>
                    <a:pt x="1004" y="131"/>
                  </a:lnTo>
                  <a:close/>
                </a:path>
              </a:pathLst>
            </a:custGeom>
            <a:solidFill>
              <a:srgbClr val="979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81560" y="4816440"/>
              <a:ext cx="796680" cy="492120"/>
            </a:xfrm>
            <a:prstGeom prst="rect">
              <a:avLst/>
            </a:prstGeom>
            <a:solidFill>
              <a:srgbClr val="c3c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7000" y="4979880"/>
              <a:ext cx="59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49760" y="4705200"/>
              <a:ext cx="104760" cy="603360"/>
            </a:xfrm>
            <a:custGeom>
              <a:avLst/>
              <a:gdLst/>
              <a:ahLst/>
              <a:rect l="l" t="t" r="r" b="b"/>
              <a:pathLst>
                <a:path w="131" h="761">
                  <a:moveTo>
                    <a:pt x="0" y="76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31" y="630"/>
                  </a:lnTo>
                  <a:lnTo>
                    <a:pt x="0" y="761"/>
                  </a:lnTo>
                  <a:close/>
                </a:path>
              </a:pathLst>
            </a:custGeom>
            <a:solidFill>
              <a:srgbClr val="b3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35560" y="4705200"/>
              <a:ext cx="1218960" cy="103320"/>
            </a:xfrm>
            <a:custGeom>
              <a:avLst/>
              <a:gdLst/>
              <a:ahLst/>
              <a:rect l="l" t="t" r="r" b="b"/>
              <a:pathLst>
                <a:path w="1536" h="131">
                  <a:moveTo>
                    <a:pt x="1405" y="13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536" y="0"/>
                  </a:lnTo>
                  <a:lnTo>
                    <a:pt x="1405" y="131"/>
                  </a:lnTo>
                  <a:close/>
                </a:path>
              </a:pathLst>
            </a:custGeom>
            <a:solidFill>
              <a:srgbClr val="79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35560" y="4808520"/>
              <a:ext cx="1114200" cy="50004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28880" y="4844880"/>
              <a:ext cx="66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oup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27080" y="507348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lgorith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37160" y="4711680"/>
              <a:ext cx="104760" cy="596880"/>
            </a:xfrm>
            <a:custGeom>
              <a:avLst/>
              <a:gdLst/>
              <a:ahLst/>
              <a:rect l="l" t="t" r="r" b="b"/>
              <a:pathLst>
                <a:path w="131" h="752">
                  <a:moveTo>
                    <a:pt x="0" y="752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31" y="621"/>
                  </a:lnTo>
                  <a:lnTo>
                    <a:pt x="0" y="752"/>
                  </a:lnTo>
                  <a:close/>
                </a:path>
              </a:pathLst>
            </a:custGeom>
            <a:solidFill>
              <a:srgbClr val="e0e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35520" y="4711680"/>
              <a:ext cx="806400" cy="104760"/>
            </a:xfrm>
            <a:custGeom>
              <a:avLst/>
              <a:gdLst/>
              <a:ahLst/>
              <a:rect l="l" t="t" r="r" b="b"/>
              <a:pathLst>
                <a:path w="1015" h="131">
                  <a:moveTo>
                    <a:pt x="884" y="13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015" y="0"/>
                  </a:lnTo>
                  <a:lnTo>
                    <a:pt x="884" y="131"/>
                  </a:lnTo>
                  <a:close/>
                </a:path>
              </a:pathLst>
            </a:custGeom>
            <a:solidFill>
              <a:srgbClr val="979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35520" y="4816440"/>
              <a:ext cx="701640" cy="492120"/>
            </a:xfrm>
            <a:prstGeom prst="rect">
              <a:avLst/>
            </a:prstGeom>
            <a:solidFill>
              <a:srgbClr val="c3c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70440" y="499752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hemi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53360" y="4203720"/>
              <a:ext cx="102960" cy="382680"/>
            </a:xfrm>
            <a:custGeom>
              <a:avLst/>
              <a:gdLst/>
              <a:ahLst/>
              <a:rect l="l" t="t" r="r" b="b"/>
              <a:pathLst>
                <a:path w="131" h="482">
                  <a:moveTo>
                    <a:pt x="0" y="482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31" y="351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b3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1560" y="4203720"/>
              <a:ext cx="3074760" cy="104760"/>
            </a:xfrm>
            <a:custGeom>
              <a:avLst/>
              <a:gdLst/>
              <a:ahLst/>
              <a:rect l="l" t="t" r="r" b="b"/>
              <a:pathLst>
                <a:path w="3874" h="131">
                  <a:moveTo>
                    <a:pt x="3743" y="13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3874" y="0"/>
                  </a:lnTo>
                  <a:lnTo>
                    <a:pt x="3743" y="131"/>
                  </a:lnTo>
                  <a:close/>
                </a:path>
              </a:pathLst>
            </a:custGeom>
            <a:solidFill>
              <a:srgbClr val="79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81560" y="4308480"/>
              <a:ext cx="2971800" cy="277920"/>
            </a:xfrm>
            <a:prstGeom prst="rect">
              <a:avLst/>
            </a:prstGeom>
            <a:solidFill>
              <a:srgbClr val="9c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50400" y="438768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ata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4600" y="5705280"/>
              <a:ext cx="104760" cy="436680"/>
            </a:xfrm>
            <a:custGeom>
              <a:avLst/>
              <a:gdLst/>
              <a:ahLst/>
              <a:rect l="l" t="t" r="r" b="b"/>
              <a:pathLst>
                <a:path w="131" h="551">
                  <a:moveTo>
                    <a:pt x="0" y="55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31" y="420"/>
                  </a:lnTo>
                  <a:lnTo>
                    <a:pt x="0" y="551"/>
                  </a:lnTo>
                  <a:close/>
                </a:path>
              </a:pathLst>
            </a:custGeom>
            <a:solidFill>
              <a:srgbClr val="e0e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19320" y="5705280"/>
              <a:ext cx="770040" cy="103320"/>
            </a:xfrm>
            <a:custGeom>
              <a:avLst/>
              <a:gdLst/>
              <a:ahLst/>
              <a:rect l="l" t="t" r="r" b="b"/>
              <a:pathLst>
                <a:path w="970" h="131">
                  <a:moveTo>
                    <a:pt x="839" y="131"/>
                  </a:moveTo>
                  <a:lnTo>
                    <a:pt x="0" y="131"/>
                  </a:lnTo>
                  <a:lnTo>
                    <a:pt x="132" y="0"/>
                  </a:lnTo>
                  <a:lnTo>
                    <a:pt x="970" y="0"/>
                  </a:lnTo>
                  <a:lnTo>
                    <a:pt x="839" y="131"/>
                  </a:lnTo>
                  <a:close/>
                </a:path>
              </a:pathLst>
            </a:custGeom>
            <a:solidFill>
              <a:srgbClr val="979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19320" y="5808600"/>
              <a:ext cx="665280" cy="333360"/>
            </a:xfrm>
            <a:prstGeom prst="rect">
              <a:avLst/>
            </a:prstGeom>
            <a:solidFill>
              <a:srgbClr val="c3c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85560" y="589428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54640" y="5705280"/>
              <a:ext cx="104760" cy="436680"/>
            </a:xfrm>
            <a:custGeom>
              <a:avLst/>
              <a:gdLst/>
              <a:ahLst/>
              <a:rect l="l" t="t" r="r" b="b"/>
              <a:pathLst>
                <a:path w="131" h="551">
                  <a:moveTo>
                    <a:pt x="0" y="55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31" y="420"/>
                  </a:lnTo>
                  <a:lnTo>
                    <a:pt x="0" y="551"/>
                  </a:lnTo>
                  <a:close/>
                </a:path>
              </a:pathLst>
            </a:custGeom>
            <a:solidFill>
              <a:srgbClr val="e0e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7920" y="5705280"/>
              <a:ext cx="771480" cy="103320"/>
            </a:xfrm>
            <a:custGeom>
              <a:avLst/>
              <a:gdLst/>
              <a:ahLst/>
              <a:rect l="l" t="t" r="r" b="b"/>
              <a:pathLst>
                <a:path w="970" h="131">
                  <a:moveTo>
                    <a:pt x="839" y="13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970" y="0"/>
                  </a:lnTo>
                  <a:lnTo>
                    <a:pt x="839" y="131"/>
                  </a:lnTo>
                  <a:close/>
                </a:path>
              </a:pathLst>
            </a:custGeom>
            <a:solidFill>
              <a:srgbClr val="979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7920" y="5808600"/>
              <a:ext cx="666720" cy="333360"/>
            </a:xfrm>
            <a:prstGeom prst="rect">
              <a:avLst/>
            </a:prstGeom>
            <a:solidFill>
              <a:srgbClr val="c3c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20760" y="5894280"/>
              <a:ext cx="41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T3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46560" y="5384880"/>
              <a:ext cx="539640" cy="347400"/>
            </a:xfrm>
            <a:custGeom>
              <a:avLst/>
              <a:gdLst/>
              <a:ahLst/>
              <a:rect l="l" t="t" r="r" b="b"/>
              <a:pathLst>
                <a:path w="680" h="438">
                  <a:moveTo>
                    <a:pt x="0" y="438"/>
                  </a:moveTo>
                  <a:lnTo>
                    <a:pt x="15" y="438"/>
                  </a:lnTo>
                  <a:lnTo>
                    <a:pt x="15" y="219"/>
                  </a:lnTo>
                  <a:lnTo>
                    <a:pt x="8" y="219"/>
                  </a:lnTo>
                  <a:lnTo>
                    <a:pt x="8" y="226"/>
                  </a:lnTo>
                  <a:lnTo>
                    <a:pt x="672" y="226"/>
                  </a:lnTo>
                  <a:lnTo>
                    <a:pt x="680" y="226"/>
                  </a:lnTo>
                  <a:lnTo>
                    <a:pt x="680" y="219"/>
                  </a:lnTo>
                  <a:lnTo>
                    <a:pt x="680" y="0"/>
                  </a:lnTo>
                  <a:lnTo>
                    <a:pt x="665" y="0"/>
                  </a:lnTo>
                  <a:lnTo>
                    <a:pt x="665" y="219"/>
                  </a:lnTo>
                  <a:lnTo>
                    <a:pt x="672" y="219"/>
                  </a:lnTo>
                  <a:lnTo>
                    <a:pt x="672" y="211"/>
                  </a:lnTo>
                  <a:lnTo>
                    <a:pt x="8" y="211"/>
                  </a:lnTo>
                  <a:lnTo>
                    <a:pt x="0" y="211"/>
                  </a:lnTo>
                  <a:lnTo>
                    <a:pt x="0" y="219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13080" y="5730840"/>
              <a:ext cx="77760" cy="77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51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41920" y="5308560"/>
              <a:ext cx="77760" cy="77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99"/>
                  </a:moveTo>
                  <a:lnTo>
                    <a:pt x="49" y="0"/>
                  </a:lnTo>
                  <a:lnTo>
                    <a:pt x="0" y="99"/>
                  </a:lnTo>
                  <a:lnTo>
                    <a:pt x="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73600" y="5384880"/>
              <a:ext cx="253800" cy="347400"/>
            </a:xfrm>
            <a:custGeom>
              <a:avLst/>
              <a:gdLst/>
              <a:ahLst/>
              <a:rect l="l" t="t" r="r" b="b"/>
              <a:pathLst>
                <a:path w="318" h="438">
                  <a:moveTo>
                    <a:pt x="303" y="438"/>
                  </a:moveTo>
                  <a:lnTo>
                    <a:pt x="318" y="438"/>
                  </a:lnTo>
                  <a:lnTo>
                    <a:pt x="318" y="219"/>
                  </a:lnTo>
                  <a:lnTo>
                    <a:pt x="318" y="211"/>
                  </a:lnTo>
                  <a:lnTo>
                    <a:pt x="311" y="211"/>
                  </a:lnTo>
                  <a:lnTo>
                    <a:pt x="7" y="211"/>
                  </a:lnTo>
                  <a:lnTo>
                    <a:pt x="7" y="219"/>
                  </a:lnTo>
                  <a:lnTo>
                    <a:pt x="15" y="21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7" y="226"/>
                  </a:lnTo>
                  <a:lnTo>
                    <a:pt x="311" y="226"/>
                  </a:lnTo>
                  <a:lnTo>
                    <a:pt x="311" y="219"/>
                  </a:lnTo>
                  <a:lnTo>
                    <a:pt x="303" y="219"/>
                  </a:lnTo>
                  <a:lnTo>
                    <a:pt x="303" y="4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81320" y="5730840"/>
              <a:ext cx="77760" cy="7776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0"/>
                  </a:moveTo>
                  <a:lnTo>
                    <a:pt x="50" y="99"/>
                  </a:lnTo>
                  <a:lnTo>
                    <a:pt x="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41920" y="5308560"/>
              <a:ext cx="77760" cy="77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99"/>
                  </a:moveTo>
                  <a:lnTo>
                    <a:pt x="49" y="0"/>
                  </a:lnTo>
                  <a:lnTo>
                    <a:pt x="0" y="99"/>
                  </a:lnTo>
                  <a:lnTo>
                    <a:pt x="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89600" y="5705280"/>
              <a:ext cx="103320" cy="436680"/>
            </a:xfrm>
            <a:custGeom>
              <a:avLst/>
              <a:gdLst/>
              <a:ahLst/>
              <a:rect l="l" t="t" r="r" b="b"/>
              <a:pathLst>
                <a:path w="131" h="551">
                  <a:moveTo>
                    <a:pt x="0" y="55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31" y="420"/>
                  </a:lnTo>
                  <a:lnTo>
                    <a:pt x="0" y="551"/>
                  </a:lnTo>
                  <a:close/>
                </a:path>
              </a:pathLst>
            </a:custGeom>
            <a:solidFill>
              <a:srgbClr val="e0e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22880" y="5705280"/>
              <a:ext cx="770040" cy="103320"/>
            </a:xfrm>
            <a:custGeom>
              <a:avLst/>
              <a:gdLst/>
              <a:ahLst/>
              <a:rect l="l" t="t" r="r" b="b"/>
              <a:pathLst>
                <a:path w="971" h="131">
                  <a:moveTo>
                    <a:pt x="840" y="13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971" y="0"/>
                  </a:lnTo>
                  <a:lnTo>
                    <a:pt x="840" y="131"/>
                  </a:lnTo>
                  <a:close/>
                </a:path>
              </a:pathLst>
            </a:custGeom>
            <a:solidFill>
              <a:srgbClr val="979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2880" y="5808600"/>
              <a:ext cx="666720" cy="333360"/>
            </a:xfrm>
            <a:prstGeom prst="rect">
              <a:avLst/>
            </a:prstGeom>
            <a:solidFill>
              <a:srgbClr val="c3c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33760" y="58942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457840" y="5705280"/>
              <a:ext cx="103320" cy="436680"/>
            </a:xfrm>
            <a:custGeom>
              <a:avLst/>
              <a:gdLst/>
              <a:ahLst/>
              <a:rect l="l" t="t" r="r" b="b"/>
              <a:pathLst>
                <a:path w="131" h="551">
                  <a:moveTo>
                    <a:pt x="0" y="55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131" y="420"/>
                  </a:lnTo>
                  <a:lnTo>
                    <a:pt x="0" y="551"/>
                  </a:lnTo>
                  <a:close/>
                </a:path>
              </a:pathLst>
            </a:custGeom>
            <a:solidFill>
              <a:srgbClr val="e0e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91120" y="5705280"/>
              <a:ext cx="770040" cy="103320"/>
            </a:xfrm>
            <a:custGeom>
              <a:avLst/>
              <a:gdLst/>
              <a:ahLst/>
              <a:rect l="l" t="t" r="r" b="b"/>
              <a:pathLst>
                <a:path w="971" h="131">
                  <a:moveTo>
                    <a:pt x="840" y="131"/>
                  </a:moveTo>
                  <a:lnTo>
                    <a:pt x="0" y="131"/>
                  </a:lnTo>
                  <a:lnTo>
                    <a:pt x="131" y="0"/>
                  </a:lnTo>
                  <a:lnTo>
                    <a:pt x="971" y="0"/>
                  </a:lnTo>
                  <a:lnTo>
                    <a:pt x="840" y="131"/>
                  </a:lnTo>
                  <a:close/>
                </a:path>
              </a:pathLst>
            </a:custGeom>
            <a:solidFill>
              <a:srgbClr val="979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91120" y="5808600"/>
              <a:ext cx="666720" cy="333360"/>
            </a:xfrm>
            <a:prstGeom prst="rect">
              <a:avLst/>
            </a:prstGeom>
            <a:solidFill>
              <a:srgbClr val="c3c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33960" y="589428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reeq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49760" y="5384880"/>
              <a:ext cx="540000" cy="347400"/>
            </a:xfrm>
            <a:custGeom>
              <a:avLst/>
              <a:gdLst/>
              <a:ahLst/>
              <a:rect l="l" t="t" r="r" b="b"/>
              <a:pathLst>
                <a:path w="679" h="438">
                  <a:moveTo>
                    <a:pt x="0" y="438"/>
                  </a:moveTo>
                  <a:lnTo>
                    <a:pt x="15" y="438"/>
                  </a:lnTo>
                  <a:lnTo>
                    <a:pt x="15" y="219"/>
                  </a:lnTo>
                  <a:lnTo>
                    <a:pt x="8" y="219"/>
                  </a:lnTo>
                  <a:lnTo>
                    <a:pt x="8" y="226"/>
                  </a:lnTo>
                  <a:lnTo>
                    <a:pt x="671" y="226"/>
                  </a:lnTo>
                  <a:lnTo>
                    <a:pt x="679" y="226"/>
                  </a:lnTo>
                  <a:lnTo>
                    <a:pt x="679" y="219"/>
                  </a:lnTo>
                  <a:lnTo>
                    <a:pt x="679" y="0"/>
                  </a:lnTo>
                  <a:lnTo>
                    <a:pt x="663" y="0"/>
                  </a:lnTo>
                  <a:lnTo>
                    <a:pt x="663" y="219"/>
                  </a:lnTo>
                  <a:lnTo>
                    <a:pt x="671" y="219"/>
                  </a:lnTo>
                  <a:lnTo>
                    <a:pt x="671" y="211"/>
                  </a:lnTo>
                  <a:lnTo>
                    <a:pt x="8" y="211"/>
                  </a:lnTo>
                  <a:lnTo>
                    <a:pt x="0" y="211"/>
                  </a:lnTo>
                  <a:lnTo>
                    <a:pt x="0" y="219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16640" y="5730840"/>
              <a:ext cx="79200" cy="77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51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5120" y="5308560"/>
              <a:ext cx="77760" cy="77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99"/>
                  </a:moveTo>
                  <a:lnTo>
                    <a:pt x="49" y="0"/>
                  </a:lnTo>
                  <a:lnTo>
                    <a:pt x="0" y="99"/>
                  </a:lnTo>
                  <a:lnTo>
                    <a:pt x="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76800" y="5384880"/>
              <a:ext cx="254160" cy="347400"/>
            </a:xfrm>
            <a:custGeom>
              <a:avLst/>
              <a:gdLst/>
              <a:ahLst/>
              <a:rect l="l" t="t" r="r" b="b"/>
              <a:pathLst>
                <a:path w="320" h="438">
                  <a:moveTo>
                    <a:pt x="305" y="438"/>
                  </a:moveTo>
                  <a:lnTo>
                    <a:pt x="320" y="438"/>
                  </a:lnTo>
                  <a:lnTo>
                    <a:pt x="320" y="219"/>
                  </a:lnTo>
                  <a:lnTo>
                    <a:pt x="320" y="211"/>
                  </a:lnTo>
                  <a:lnTo>
                    <a:pt x="313" y="211"/>
                  </a:lnTo>
                  <a:lnTo>
                    <a:pt x="8" y="211"/>
                  </a:lnTo>
                  <a:lnTo>
                    <a:pt x="8" y="219"/>
                  </a:lnTo>
                  <a:lnTo>
                    <a:pt x="16" y="21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8" y="226"/>
                  </a:lnTo>
                  <a:lnTo>
                    <a:pt x="313" y="226"/>
                  </a:lnTo>
                  <a:lnTo>
                    <a:pt x="313" y="219"/>
                  </a:lnTo>
                  <a:lnTo>
                    <a:pt x="305" y="219"/>
                  </a:lnTo>
                  <a:lnTo>
                    <a:pt x="305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84880" y="5730840"/>
              <a:ext cx="79560" cy="77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51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45120" y="5308560"/>
              <a:ext cx="77760" cy="777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99"/>
                  </a:moveTo>
                  <a:lnTo>
                    <a:pt x="49" y="0"/>
                  </a:lnTo>
                  <a:lnTo>
                    <a:pt x="0" y="99"/>
                  </a:lnTo>
                  <a:lnTo>
                    <a:pt x="9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43000" y="50292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emple pour Chimie/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ARCHITECTURE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219320"/>
            <a:ext cx="77058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</a:rPr>
              <a:t>Type d’utilisation et atou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niformisation de l’interface utilisateurs et des formats maillage et champs à travers différents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mparaison de codes pour une même application (ex. : Porflow/Cast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Même jeux de donné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Même format de sortie (champ, table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Possibilités de comparaison et de calcul de norme sur les sorti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aînage (Hydraulique/Transport, Colis/BO, Alvéoles/Site …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format MED pour les échanges entre cod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Modéle de données commun pour différents problèmes physiques (porosité pour hydraulique et transport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uplages de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SALOME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52640"/>
            <a:ext cx="7513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Quelques mots sur Salo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ate-forme de développement générique de pré/post –traitement et de couplage de codes pour la simulation numériq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duite sous forme de logiciel libre dans le cadre du RNTL SALOME (21 partenaires, Open Sour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tilisation dans Alliances (version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rmat M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isualis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Technologie VTK, format ME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Visualisation 1D, 2D et 3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Times New Roman"/>
              </a:rPr>
              <a:t>Déformation, Iso-Valeurs, Plan de coupe, Vecteurs, Lignes de courant</a:t>
            </a: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Animatio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nterface graph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Hydraulique et transport-chimie sur la version 1.3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Utilisation du module new-Data sur la version 2 : génération automatique à partir du modèle de données et liens bidirectionnels avec  le jeu de donné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1640" y="152280"/>
            <a:ext cx="75135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SALOME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5640" y="980640"/>
            <a:ext cx="381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isation prévus dans Alliances (en cours de test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éométrie, Maill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estion de CA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lgorithmes de maillages 2D (MEFISTO), 3D (NETGE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Liens vers des mailleurs commerciaux (GSH3D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utils de contrôle, correction et édition de maillag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vision : Enchainement et distribution multi-machines des calcu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ude : sauvegarde des donn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f : mener un calcul complet dans l’interface Salome (Géométrie, Maillage, Lancement distribué, Visualisatio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c4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ens Cast3M/Salome (hors Alliance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vers MED/Cast3M pour les maillages (OK) et champs (en cours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1128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3024360" cy="2419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62560" y="342900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illage SEA (L. Razafindraza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61657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HM en Chimie-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tarna</cp:lastModifiedBy>
  <dcterms:modified xsi:type="dcterms:W3CDTF">2004-11-26T06:33:25Z</dcterms:modified>
  <cp:revision>234</cp:revision>
  <dc:subject/>
  <dc:title>PowerPoint Presentation</dc:title>
</cp:coreProperties>
</file>