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BD3-3DC3-4B6D-8E18-93DC5E9D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CE6-90D2-47B0-B269-D95C7969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270-2706-4932-BF3D-ECE0385A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04A-C8E0-4D32-8869-BFC887AD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D17-3D7E-49F6-928E-9ACC77D3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3E6-F66B-446F-A953-16A0948E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0B7B-549B-400B-A8CE-8A1C7DBF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A57-FEE3-456E-9192-BFD9F81E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809-A737-427A-9E10-2BDE14E4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15D-594F-40CA-989C-C2662F5E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0AF-B3CA-4C09-82CA-5399D724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5A3-9293-443B-9A3E-B957EFD5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91F1-D915-4CFE-B093-85B2E25ED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6021360"/>
            <a:ext cx="799920" cy="571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58920" y="5950080"/>
            <a:ext cx="4879800" cy="625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00000" y="1800360"/>
            <a:ext cx="712800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élisation hydrodynamique du cycle d’une eau de pluie sur un sol inclin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lvain WE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s la responsabilité d’Emmanuel MOU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6836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plage zone saturée – zone non saturé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197000"/>
            <a:ext cx="862488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2852640"/>
            <a:ext cx="712944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971640" y="263664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18728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40328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61928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835280" y="263664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05092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26692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48436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698920" y="263664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1456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3056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346560" y="263664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56220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77820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99420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07672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861080" y="263664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64328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427640" y="263664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21164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29272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508720" y="263664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72436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94036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15636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372360" y="263664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58800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80400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02000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236000" y="263664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45164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6764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810108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88508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04292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25892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474920" y="472428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69056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90656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12256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338560" y="472428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5420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770200" y="4725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986200" y="472428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22764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20184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417840" y="4725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63384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849840" y="472428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06548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28148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497480" y="472428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71312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92912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14512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361120" y="472428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57676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79276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00876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44364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65964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875640" y="472428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7091280" y="4725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30728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523280" y="472428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73892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386064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099280" y="31878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96360" y="3860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24360" y="3332160"/>
            <a:ext cx="270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n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32590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93492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ul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43640" y="2708280"/>
            <a:ext cx="2700360" cy="28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5661000"/>
            <a:ext cx="1512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7280" y="585144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24360" y="585144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124000" y="3789000"/>
            <a:ext cx="20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11640" y="352440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19280" y="2924280"/>
            <a:ext cx="4681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élisation de la charge et de la décharge d’un aquifère sous l’effet d’une plu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e rectangulaire de 10 mètres de long pour 2 mètres de profond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initiales : le domaine est à l’équilibre avec une nappe située à 1 mètre du fo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aux limit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24000" y="6021360"/>
            <a:ext cx="799920" cy="571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258920" y="5950080"/>
            <a:ext cx="4879800" cy="625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979640" y="3789360"/>
            <a:ext cx="49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3789360"/>
            <a:ext cx="0" cy="934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050920" y="4724280"/>
            <a:ext cx="489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907640" y="4724280"/>
            <a:ext cx="142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7964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90764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8000" y="3789360"/>
            <a:ext cx="0" cy="5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426708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8000" y="4267080"/>
            <a:ext cx="0" cy="4320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332000" y="4676760"/>
            <a:ext cx="504720" cy="50472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521028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harge imposée pour simuler la présence d’un cours d’ea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788000" y="3500280"/>
            <a:ext cx="57600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35640" y="3141720"/>
            <a:ext cx="33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x imposé pour simuler une pluie. On impose un créneau de plu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4356000" y="4724280"/>
            <a:ext cx="432000" cy="719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88000" y="4005000"/>
            <a:ext cx="2089080" cy="1439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908000" y="4005000"/>
            <a:ext cx="2880000" cy="1439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551664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Flux nu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766764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80360" y="5157720"/>
            <a:ext cx="15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67640" y="4365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172360" y="436572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67640" y="37162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48720" y="5149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ution des iso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038480" cy="17938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4171680" cy="16588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4038480" cy="1735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4648320" y="4038480"/>
            <a:ext cx="4171680" cy="16941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619280" y="3276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1.4 he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32767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22.2 he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03800" y="571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6.5 j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84440" y="571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4 j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61722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pression G = toit de la nap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be de restitution (débits en sorti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24000" y="5973840"/>
            <a:ext cx="934920" cy="6681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403280" y="5940360"/>
            <a:ext cx="4681440" cy="585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914400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ème d’Abdul et Gillham (198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6920" y="3141720"/>
            <a:ext cx="0" cy="208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5229360"/>
            <a:ext cx="6553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380360" y="1773360"/>
            <a:ext cx="0" cy="345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826920" y="1557360"/>
            <a:ext cx="65534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380360" y="1557360"/>
            <a:ext cx="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6920" y="2924280"/>
            <a:ext cx="0" cy="2174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10920" y="3141720"/>
            <a:ext cx="215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10920" y="3357720"/>
            <a:ext cx="2156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10920" y="3573360"/>
            <a:ext cx="215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10920" y="3789360"/>
            <a:ext cx="215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10920" y="4005360"/>
            <a:ext cx="2156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10920" y="4221000"/>
            <a:ext cx="215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10920" y="4437000"/>
            <a:ext cx="215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10920" y="4653000"/>
            <a:ext cx="215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10920" y="4869000"/>
            <a:ext cx="2156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10920" y="5084640"/>
            <a:ext cx="215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610920" y="5229360"/>
            <a:ext cx="2156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2692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04292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5892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474560" y="5229360"/>
            <a:ext cx="2156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69056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90656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12256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338200" y="5229360"/>
            <a:ext cx="2156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55420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77020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985840" y="5229360"/>
            <a:ext cx="2156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20184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41784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63384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849480" y="5229360"/>
            <a:ext cx="2156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06548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28148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497120" y="5229360"/>
            <a:ext cx="2156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71312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92912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514512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360760" y="5229360"/>
            <a:ext cx="2156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57676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79276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00876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6224400" y="5229360"/>
            <a:ext cx="2156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44040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65640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872040" y="5229360"/>
            <a:ext cx="2156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088040" y="5229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380360" y="5013360"/>
            <a:ext cx="21600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380360" y="4437000"/>
            <a:ext cx="21600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380360" y="4149720"/>
            <a:ext cx="21600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7380360" y="3860640"/>
            <a:ext cx="21600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380360" y="3573360"/>
            <a:ext cx="21600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380360" y="4724280"/>
            <a:ext cx="21600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7380360" y="2997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380360" y="2708280"/>
            <a:ext cx="21600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380360" y="1557360"/>
            <a:ext cx="21600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7380360" y="328464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380360" y="177336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7380360" y="1989000"/>
            <a:ext cx="21600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7380360" y="2205000"/>
            <a:ext cx="21600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380360" y="2421000"/>
            <a:ext cx="21600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20830800">
            <a:off x="4429080" y="1412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e de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6920" y="29242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11280" y="3789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E SATU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635280" y="2276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E NON SATU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826560" y="2997360"/>
            <a:ext cx="2521080" cy="30240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348000" y="5805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Limite à charge impo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68360" y="1700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87280" y="126828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 à flux impo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ult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826920" y="763560"/>
            <a:ext cx="7345440" cy="24494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55640" y="4221000"/>
            <a:ext cx="756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900000" y="3427560"/>
            <a:ext cx="7344000" cy="27381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2981880" y="3103560"/>
            <a:ext cx="272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mp de vite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63960" y="5927760"/>
            <a:ext cx="41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pression D = toit de la na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cédure DARCYSAT permet de modéliser l’évolution de l’eau dans la zone saturée et dans la zone non saturé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permet également de programmer des lois de comportement particulières. Ceci permettra à terme de modéliser le phénomène de ruissellement par une couche drainante aux propriétés spéci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6021360"/>
            <a:ext cx="799920" cy="571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58920" y="5950080"/>
            <a:ext cx="4879800" cy="625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9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éliser le plus finement et le plus proprement possible le cycle de l’eau sur un transect de bassin ver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cycle est décrit par les phénomènes suivan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ltration en zone non satur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arge de la nappe de sub-surf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mentation du réseau hydrograph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issellement en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997520" y="205596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0" y="4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ect de bassin versant élémen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zone saturé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143000"/>
            <a:ext cx="69865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écoulements sont décrits par l’équation de Darcy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équation de conservation de la masse s’écrit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ombinant ces deux équations, on obtient l’équation du mouvemen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352680" y="1782720"/>
                <a:ext cx="2146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200400" y="3274920"/>
                <a:ext cx="26668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iv</m:t>
                    </m:r>
                    <m:r>
                      <m:t xml:space="preserve">(</m:t>
                    </m:r>
                    <m:r>
                      <m:t xml:space="preserve">ρ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835280" y="5029200"/>
                <a:ext cx="2971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Δ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6210360"/>
            <a:ext cx="799920" cy="571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19320" y="6095880"/>
            <a:ext cx="4879800" cy="62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56360" y="1844640"/>
            <a:ext cx="2987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h : pression d’eau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q : flux moyen d’eau (m/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K : perméabilité (m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35640" y="5013360"/>
            <a:ext cx="37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S : coefficient d’emmagasinement (kg/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000" y="1018800"/>
            <a:ext cx="821844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écoulements sont décrits par l’équation de Richards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c            la capacité hydraul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340000" y="1455840"/>
                <a:ext cx="4176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iv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grad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47640" y="2276640"/>
                <a:ext cx="61308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468360" y="5877000"/>
            <a:ext cx="748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148360" y="2924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85080" y="5661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ion 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357720"/>
            <a:ext cx="4248360" cy="2449440"/>
          </a:xfrm>
          <a:custGeom>
            <a:avLst/>
            <a:gdLst/>
            <a:ahLst/>
            <a:rect l="l" t="t" r="r" b="b"/>
            <a:pathLst>
              <a:path w="2676" h="1543">
                <a:moveTo>
                  <a:pt x="0" y="1543"/>
                </a:moveTo>
                <a:cubicBezTo>
                  <a:pt x="306" y="1527"/>
                  <a:pt x="612" y="1512"/>
                  <a:pt x="907" y="1497"/>
                </a:cubicBezTo>
                <a:cubicBezTo>
                  <a:pt x="1202" y="1482"/>
                  <a:pt x="1565" y="1482"/>
                  <a:pt x="1769" y="1452"/>
                </a:cubicBezTo>
                <a:cubicBezTo>
                  <a:pt x="1973" y="1422"/>
                  <a:pt x="2034" y="1384"/>
                  <a:pt x="2132" y="1316"/>
                </a:cubicBezTo>
                <a:cubicBezTo>
                  <a:pt x="2230" y="1248"/>
                  <a:pt x="2283" y="1210"/>
                  <a:pt x="2358" y="1044"/>
                </a:cubicBezTo>
                <a:cubicBezTo>
                  <a:pt x="2433" y="878"/>
                  <a:pt x="2532" y="492"/>
                  <a:pt x="2585" y="318"/>
                </a:cubicBezTo>
                <a:cubicBezTo>
                  <a:pt x="2638" y="144"/>
                  <a:pt x="2657" y="72"/>
                  <a:pt x="26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335772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2924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/>
          <p:nvPr/>
        </p:nvCxnSpPr>
        <p:spPr>
          <a:xfrm>
            <a:off x="684000" y="5949720"/>
            <a:ext cx="4393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2050920" y="59500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/>
          <p:nvPr/>
        </p:nvCxnSpPr>
        <p:spPr>
          <a:xfrm>
            <a:off x="5292360" y="5949720"/>
            <a:ext cx="25927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156360" y="602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40720" y="30686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3213000"/>
            <a:ext cx="4248360" cy="2665440"/>
          </a:xfrm>
          <a:custGeom>
            <a:avLst/>
            <a:gdLst/>
            <a:ahLst/>
            <a:rect l="l" t="t" r="r" b="b"/>
            <a:pathLst>
              <a:path w="2676" h="1679">
                <a:moveTo>
                  <a:pt x="0" y="1634"/>
                </a:moveTo>
                <a:cubicBezTo>
                  <a:pt x="367" y="1611"/>
                  <a:pt x="734" y="1588"/>
                  <a:pt x="998" y="1543"/>
                </a:cubicBezTo>
                <a:cubicBezTo>
                  <a:pt x="1262" y="1498"/>
                  <a:pt x="1436" y="1460"/>
                  <a:pt x="1587" y="1362"/>
                </a:cubicBezTo>
                <a:cubicBezTo>
                  <a:pt x="1738" y="1264"/>
                  <a:pt x="1829" y="1104"/>
                  <a:pt x="1905" y="953"/>
                </a:cubicBezTo>
                <a:cubicBezTo>
                  <a:pt x="1981" y="802"/>
                  <a:pt x="2003" y="598"/>
                  <a:pt x="2041" y="454"/>
                </a:cubicBezTo>
                <a:cubicBezTo>
                  <a:pt x="2079" y="310"/>
                  <a:pt x="2087" y="151"/>
                  <a:pt x="2132" y="91"/>
                </a:cubicBezTo>
                <a:cubicBezTo>
                  <a:pt x="2177" y="31"/>
                  <a:pt x="2253" y="0"/>
                  <a:pt x="2313" y="91"/>
                </a:cubicBezTo>
                <a:cubicBezTo>
                  <a:pt x="2373" y="182"/>
                  <a:pt x="2434" y="371"/>
                  <a:pt x="2494" y="636"/>
                </a:cubicBezTo>
                <a:cubicBezTo>
                  <a:pt x="2554" y="901"/>
                  <a:pt x="2646" y="1513"/>
                  <a:pt x="2676" y="1679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8360" y="5516640"/>
            <a:ext cx="280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028000" y="5300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2200" y="2997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zone non saturé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6021360"/>
            <a:ext cx="799920" cy="571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258920" y="5950080"/>
            <a:ext cx="4879800" cy="625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400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cts numériqu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e la procédure DARCYS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éléments finis mixtes hybrid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tion plus locale que pour des éléments finis class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nœuds sont placés aux centres des faces et aux centres des élém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e de Pic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e itératif de résolution des équations non linéa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t d’eau en zone non saturé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852640"/>
            <a:ext cx="712944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971640" y="263664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8728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40328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61928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835280" y="263664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05092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26692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48436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698920" y="263664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91456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13056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46560" y="263664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56220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7820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99420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07672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861080" y="263664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64328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427640" y="263664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1164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29272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508720" y="263664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72436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94036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15636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372360" y="263664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58800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80400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02000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236000" y="2636640"/>
            <a:ext cx="215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45164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66764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0108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885080" y="2636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04292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25892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474920" y="472428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9056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0656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12256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338560" y="472428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5420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770200" y="4725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6200" y="472428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22764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0184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7840" y="4725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63384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849840" y="472428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06548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28148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97480" y="472428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1312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92912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14512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361120" y="472428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57676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79276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00876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4364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65964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875640" y="472428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091280" y="4725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30728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523280" y="472428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738920" y="472428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41300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LONNE 1D VERTICALE OU VERTICALE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360" y="328464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0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386064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99280" y="32846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96360" y="3860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3332160"/>
            <a:ext cx="270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n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idification 1D horizon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5877000"/>
            <a:ext cx="144000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792000"/>
            <a:ext cx="8820000" cy="6066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940360" y="1700280"/>
            <a:ext cx="2808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16720" y="1989000"/>
            <a:ext cx="2627280" cy="38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700360" y="2852280"/>
            <a:ext cx="2879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2492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8028000" cy="4813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idification 1D verticale par le h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2360" y="2492280"/>
            <a:ext cx="2771640" cy="31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56360" y="5877000"/>
            <a:ext cx="1655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585144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585144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131640" y="3573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33796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3:35:19Z</dcterms:created>
  <dc:creator>weill</dc:creator>
  <dc:description/>
  <dc:language>en-US</dc:language>
  <cp:lastModifiedBy>weill</cp:lastModifiedBy>
  <dcterms:modified xsi:type="dcterms:W3CDTF">2004-11-23T14:16:05Z</dcterms:modified>
  <cp:revision>109</cp:revision>
  <dc:subject/>
  <dc:title>Diapositive 1</dc:title>
</cp:coreProperties>
</file>