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920-154F-4A9C-91E8-F638216C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E58-DCF9-469E-9FF3-1EE92542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98A-5ED8-4BA5-9F73-5F6D345E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0D6-7399-4860-A062-CE843517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B7B-A91B-4510-B759-1F35AEB4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36A-BAA6-4669-BACF-12021363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0AF4-C573-4E05-87F6-B34B6AA4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13D-BDBE-409F-B71B-1491B570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E02-4462-426D-9E20-02DDB26B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45D-98CD-4F6D-90D6-C9CCD2AF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347-3DCA-45AB-BC8E-C20D2DE4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3DD-282E-44FB-8A96-19F10F0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FD90-2E4F-4D19-9C80-01DA9D2D8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ptimisation-Identification et Cast3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érateurs et 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 des identifications (3): LEV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opérateur LEVM (Levenberg-Marquar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e la linéarisation de la fonction par rapport aux variables et construit une stratégie pour assurer une converg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mande à l’utilisateur d’écrire en gibiane le calcul de la fonction et des dérivées parti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urnit la solution du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 des identifications (4)- AJU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procédure AJUSTE demande de séparer les variables linéaires des au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mande à l’utilisateur d’écrire en gibiane le calcul de la fonction et des dérivées partiel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urnit en sortie la so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ilisation des essais précédents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t n jeux de variables et les valeurs du critère associ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042920" y="3860280"/>
            <a:ext cx="108108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042920" y="4724280"/>
            <a:ext cx="1728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42920" y="3645000"/>
            <a:ext cx="2737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9640" y="524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4492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0856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34000" y="3448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52920" y="46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84520" y="301608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e avec 4 jeux d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7080" y="55166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3800" y="39337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2720" y="3716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3080" y="48690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6320" y="3357720"/>
            <a:ext cx="408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cherche dans l’hyperplan BCD 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int qui minimise le critè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suppose  que si le point est déf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 BA + q CA + ( 1 – p – q)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ors le critère au carré vaudr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 p(Cb-Ca)+q(Cc-Ca)+(1-p-q)(Cd-C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7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2000" y="479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513640" y="5443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ilisation des essais précédent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minimum est atteint si les dérivées partielles par rapport à p q sont nu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ci conduit à un système de (n-2) équations linéaires à (n-2) incon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’est la méthode utilisée pour accélérer la convergence dans les itérations de PAS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est peut être intéressant de chercher un minimum le long de la « direction de descente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sieurs méthodes pour iden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calcul gradients cher par rapport au calcul de la fonction  MOCA + recherche min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on LEVM ou AJUS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 est plus pour la minimisation sous contraintes, il faut faire une recherche du minimum le long de la desc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dentifier les paramètres a, b, c et d de la fonction : y = a + bx +cx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</a:rPr>
              <a:t>d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qu’elle passe au mieux parmi certains points conn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CELL seul tombe dans des minima loc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VM et AJUSTE fonctionnent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CELL + MOCA converge plus v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 - 2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r un modèle de maxwell généralisé à 4 branches sur la courbe du fluage du béton donnée par le BPEL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èle de Max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branche avec ressort se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ranches avec ressorts et amort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elations sur les raideurs des ress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7 inconnues très non liné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 - 2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 des dérivées partielles par différences finies d’un calcul Cast3M comp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M et MOCA trouve une solution correcte en 18 itérations pour MO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 pose problème,  le calcul des dérivées partielles n’est pas assez précis. Donne malgré tout une solution correc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 -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de matière d’une poutre encastrée aux deux extrémités pour qu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lèche sous une charge donnée soit &lt; ?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ntrainte soit &lt; ?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épaisseur minimum soit &gt; à ?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ation de EX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 des gradients par différences fi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ère  (coû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inte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recherche le jeu de variables q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ponds le « mieux » au critère et q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ait les contrain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62240" y="692280"/>
            <a:ext cx="641808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16200000">
            <a:off x="2188440" y="-596520"/>
            <a:ext cx="491004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16200000">
            <a:off x="2209680" y="-186120"/>
            <a:ext cx="46530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16200000">
            <a:off x="2195280" y="-171360"/>
            <a:ext cx="504216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16200000">
            <a:off x="2038320" y="-14040"/>
            <a:ext cx="47066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 du problè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sation d’une fonction des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c ou sans contrai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: alléger au maximum une structure coque, la première fréquence propre doit être supérieure à une fréquence donnée, l’épaisseur minimum autorisée est spécifié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e du problè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uvent être nombre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forcément indépen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è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forcément linéaire en fonction des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ut être long à éval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i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ponses globales de l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ent directement sur les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h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ages aléa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ation du Gradient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ation d’essais précé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sation du Grad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ut se programmer en gibiane avec une recherche du minimum le long de la direction de descente donnée par le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isque fort de tomber dans des minima loc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ntative pour en sortir par des pertubations aléa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opérateur EX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opérateur EXCE se propose de trouver le minimum d’une fonction convexe sous contraintes(méthode des move limits- Svanber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fonction et les contraintes sont définies par la valeur en un point de départ et par les dérivées parti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y= y0   +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+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f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-x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+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x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/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-x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cessité d’itérer en gibiane en reprenant la solution proposée comme nouveau point de dé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assurer la convergence il faut utiliser la solution proposée pour définir une direction de recherche et chercher le minimum le long de cette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 des identifica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onnaît l’objectif en un certain nombre de points de me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herche à minimiser la somme des distances entre valeurs obtenues et valeurs de me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onnaît les dérivées partielles des valeurs obtenues par rapport à chacune des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 des identifica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supposant que la fonction est une fonction linéaires des variables on  trouve le minimum en résolvant un système d’équations liné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opérateu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C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réalise la recherche du jeu de variables donnant le minimum de la fo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a fonction n’est pas linéaire la solution proposée n’est pas la b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itérations peuvent se faire en gibiane, il est prudent de ne pas prendre la solution proposée mais de chercher le long du parcours (ancien jeu de variables – nouveau jeu de variables) un minimum de la fo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9:55:08Z</dcterms:created>
  <dc:creator>CEA</dc:creator>
  <dc:description/>
  <dc:language>en-US</dc:language>
  <cp:lastModifiedBy>CEA</cp:lastModifiedBy>
  <dcterms:modified xsi:type="dcterms:W3CDTF">2004-11-25T19:40:30Z</dcterms:modified>
  <cp:revision>10</cp:revision>
  <dc:subject/>
  <dc:title>L’optimisation et Cast3M</dc:title>
</cp:coreProperties>
</file>